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6.png" ContentType="image/png"/>
  <Override PartName="/ppt/media/image25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2.png" ContentType="image/png"/>
  <Override PartName="/ppt/media/image23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3062-38B9-479A-AA56-C4DBA4E88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asize that for now no patching is done at all, we’re only looking to find the end of the bb from the start of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only patch after we optimize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56CE-97EE-4A15-AB9E-C2AE5DE01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image show the start of the bb the bb doesn’.t end here , it continues somewhere el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a j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image show how we follow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08FD-C398-49FC-89BE-B122509DB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picture shows the opaque predicates, notice the mov esi and then immidiately a not 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for eax being zero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not the last stage of deobfuscation, another stage of SSA has to be added and other instructions must be inserted in order to add the non-optimized one (whitebox-relat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brief idea of interactive deobfuscation, and what will the cryptanal will conta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1AE2-1363-4AB9-9824-F0FFF9D87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ush out the AddRoundKey for r = 9 out and insert AddRoundKey for r= 0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witch the location of SubBytes and ShiftRow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en switch the location of ShiftRows and AddRoundke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resent the T-box, which is a set of operation composed from SubBytes and XOR and make them a lookup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resent the Ty-box which is the MixColumns operation transformed into a series of lookup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resent the XORtables which is another way to transform the MixColumns 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 see is boxes :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represent an output byte by using Q , MixColumns (T 1..n ) and T be the operation of T composed from 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aeeque pre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C083-7AE1-48BD-9D26-0811E71B3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photo is the before, lower photo is the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 no blue is defined since IDA can’t identify any function , switchtables api wasn’t helpful also so I added xrefs manually w/ add_cr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B82B-3CEC-4EE5-9A10-E02FF21C9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stage, jmptables aren’t mapped and code coverage is wea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CEA4-6D96-4259-AD66-9AB59F8E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after image, notice that bb aren’ t complete and stack analysis failed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obfscuation stage isn’t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also that the flow goes 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 a b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 a mani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mp to an outter bb which jmps to the next b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there will be multiple jmps to add more obfus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86C4-5ADB-424A-BCBA-BF7302FA8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299-BFE3-4D3D-BE0C-B8442BF8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4CF-DEAB-4238-8A3B-281316FC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2C5-5BD1-49B3-9DD5-A75ED5C0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699-E0D4-444F-98E2-37BF9B94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529-BD66-4F38-839E-B092FEB7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DB5-E055-48AB-AAD8-0DBA289E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118-22D0-427D-95A9-C1C90E9A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E55-27F4-4254-9AC0-1E725C7B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4A6-FF8D-4F23-A39B-D265AD66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BD5-F28B-4B5E-8115-B121BCEB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A2D-EC7E-436A-ABD3-20761898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E6D-FDA2-4DA2-A09A-765F69D2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9B51-0887-4B48-BED2-1F434EEC9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shiftreduce@gmail.com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active deobfus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thrift shop for static deobfus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Click for more random wrongness"/>
          <p:cNvPicPr/>
          <p:nvPr/>
        </p:nvPicPr>
        <p:blipFill>
          <a:blip r:embed="rId1"/>
          <a:stretch/>
        </p:blipFill>
        <p:spPr>
          <a:xfrm>
            <a:off x="1905120" y="2971800"/>
            <a:ext cx="50860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obfuscation Layer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al of jmps and basic block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he obfuscation was done in a matter to effect the bb itself, after a jmp to another table occurred everything was resto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_jmps_by_addr(addr) to find bb bound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jcc until a jmp / push + ret sequence is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 it, remove jccs and make one B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ase xrefs, patch them tog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886200" y="5029200"/>
            <a:ext cx="4695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Users\Sapiens\AppData\Local\Temp\_TSC418.tmp\_TSE.tmp\follow_jmptables_output.PNG"/>
          <p:cNvPicPr/>
          <p:nvPr/>
        </p:nvPicPr>
        <p:blipFill>
          <a:blip r:embed="rId1"/>
          <a:stretch/>
        </p:blipFill>
        <p:spPr>
          <a:xfrm>
            <a:off x="228600" y="380880"/>
            <a:ext cx="5076720" cy="526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Sapiens\AppData\Local\Temp\_TSC418.tmp\_TSD.tmp\follow_jmptables.PNG"/>
          <p:cNvPicPr/>
          <p:nvPr/>
        </p:nvPicPr>
        <p:blipFill>
          <a:blip r:embed="rId2"/>
          <a:stretch/>
        </p:blipFill>
        <p:spPr>
          <a:xfrm>
            <a:off x="3200400" y="1143000"/>
            <a:ext cx="50767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obfuscation – Layer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aque predic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s which used to make the bb bi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rule – operations are per bb and do not exceed 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ote a simple emulator to emulate bb and optimize them to simple instr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exception – do not touch lookup tables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on this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4960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685800"/>
            <a:ext cx="4952880" cy="1019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2924280" cy="2381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14400" y="3124080"/>
            <a:ext cx="7027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obfuscation – Lay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les, and lots of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rt from the jmptables which lead the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les are used as part of the cipher itsel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is dismantled inside them (more on this la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table has a different role and some are doubled for obfus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Tables to the resc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638680" y="5181480"/>
            <a:ext cx="2962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obfuscation – Layer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Tables basically taints memory and looks for read of 16b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it finds one it defines an array of 0xFF to that add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value tables are mapped using this way, their usage however v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obfuscation – Layer 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we have all the code cleaned we 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consecutive lookup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ps are unrolled and become normal repetitive ops (per round and sta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deobfuscated code was written into a new section called “deobf” to make code reading easi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ow time to move on to the cryptanalysis s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ypta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2955_00031278"/>
          <p:cNvPicPr/>
          <p:nvPr/>
        </p:nvPicPr>
        <p:blipFill>
          <a:blip r:embed="rId1"/>
          <a:stretch/>
        </p:blipFill>
        <p:spPr>
          <a:xfrm>
            <a:off x="1600200" y="1828800"/>
            <a:ext cx="62485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ypta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dea to automate every process is infeasible and too much time consu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ecided to split the work into two main s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ext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are used interactive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 the name interactive deobfus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20070527-113427"/>
          <p:cNvPicPr/>
          <p:nvPr/>
        </p:nvPicPr>
        <p:blipFill>
          <a:blip r:embed="rId1"/>
          <a:stretch/>
        </p:blipFill>
        <p:spPr>
          <a:xfrm>
            <a:off x="6248520" y="33526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yptanal arche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80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vered BGE attacks from the acad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w , Xia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k’s phrack art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 said FUCK YOU ALL gonna do it myself w/o cryptic 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algebra lessons and foc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267080" y="4754520"/>
            <a:ext cx="449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researc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 stuff, reverse, make them better and break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nullsec non profit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Click for more random wrongness"/>
          <p:cNvPicPr/>
          <p:nvPr/>
        </p:nvPicPr>
        <p:blipFill>
          <a:blip r:embed="rId1"/>
          <a:stretch/>
        </p:blipFill>
        <p:spPr>
          <a:xfrm>
            <a:off x="5410080" y="3886200"/>
            <a:ext cx="32576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yptanal – Layer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l wb code to encrypt a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ps 9 times which made me quite frustr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fore discovering it was wb’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unting the loops by hand I thought it might be A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ere’s the key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LWTF ? md5(user) == wbaes.dec(serial,user_as_ke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 key must be *embedded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LWUT? md5(user) == wbaes.d/enc(serial,key) 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isn’t ascii so it could be both enc/d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yptanal – Rijndael on a to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simple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oundKey, SubBytes , ShiftRows,MixColum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perations are linear and could be replaced with their previous 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ey to understand the attack is to sniff the first round and extract the k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future I found Eloi made my life ha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320px-AES-MixColumns.svg.png (320×170)"/>
          <p:cNvPicPr/>
          <p:nvPr/>
        </p:nvPicPr>
        <p:blipFill>
          <a:blip r:embed="rId1"/>
          <a:stretch/>
        </p:blipFill>
        <p:spPr>
          <a:xfrm>
            <a:off x="2057400" y="4495680"/>
            <a:ext cx="3048120" cy="16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320px-AES-AddRoundKey.svg.png (320×249)"/>
          <p:cNvPicPr/>
          <p:nvPr/>
        </p:nvPicPr>
        <p:blipFill>
          <a:blip r:embed="rId2"/>
          <a:stretch/>
        </p:blipFill>
        <p:spPr>
          <a:xfrm>
            <a:off x="5943600" y="4343400"/>
            <a:ext cx="3048120" cy="2371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320px-AES-SubBytes.svg.png (320×166)"/>
          <p:cNvPicPr/>
          <p:nvPr/>
        </p:nvPicPr>
        <p:blipFill>
          <a:blip r:embed="rId3"/>
          <a:stretch/>
        </p:blipFill>
        <p:spPr>
          <a:xfrm>
            <a:off x="5181480" y="1828800"/>
            <a:ext cx="3048120" cy="1581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320px-AES-ShiftRows.svg.png (320×119)"/>
          <p:cNvPicPr/>
          <p:nvPr/>
        </p:nvPicPr>
        <p:blipFill>
          <a:blip r:embed="rId4"/>
          <a:stretch/>
        </p:blipFill>
        <p:spPr>
          <a:xfrm>
            <a:off x="762120" y="1676520"/>
            <a:ext cx="3047760" cy="1133280"/>
          </a:xfrm>
          <a:prstGeom prst="rect">
            <a:avLst/>
          </a:prstGeom>
          <a:ln w="0">
            <a:noFill/>
          </a:ln>
        </p:spPr>
      </p:pic>
      <p:sp>
        <p:nvSpPr>
          <p:cNvPr id="11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jnd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tebox(rijndae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2924280" cy="281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070080" cy="2666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2666880" y="4572000"/>
            <a:ext cx="2446560" cy="1828800"/>
          </a:xfrm>
          <a:prstGeom prst="rect">
            <a:avLst/>
          </a:prstGeom>
          <a:ln w="0">
            <a:noFill/>
          </a:ln>
        </p:spPr>
      </p:pic>
      <p:sp>
        <p:nvSpPr>
          <p:cNvPr id="118" name="Title 1"/>
          <p:cNvSpPr/>
          <p:nvPr/>
        </p:nvSpPr>
        <p:spPr>
          <a:xfrm>
            <a:off x="3276720" y="2666880"/>
            <a:ext cx="12952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1219320" y="5181480"/>
            <a:ext cx="12952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volves into =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tebox(rijndae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nsform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iftRows is linear, and thus could be replaced in op position with AddRound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Bytes and ShiftRows could be replaced in op position, as SubBytes does the same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“Linear” aka lin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(x) ^ lin(y) == lin(x ^ 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088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transforma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 is possible to tranform and “compress” several ops into on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y using XORtables and T/ybox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/yibox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 AddRoundKey and SubBytes into one operation (lookup table) to emit 1 byt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ubBytes(x ^ k[i]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XORtabl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ransform MixColumns into a series of lookuptables, particulary these tables are created by XORing one input byte at a time through the MixColumns vector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2362320" y="5181480"/>
            <a:ext cx="6238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24440" y="4308480"/>
            <a:ext cx="3319560" cy="2549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ans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end external encoding into the keys and lookuptab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table values with random ones upon st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1 =&gt; 32, 21 =&gt; 56, 12 =&gt;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 G &amp; F be encoding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() o AES() o F(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that G &amp; F cancel each other out event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ternal encoding is w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s the whitebox vari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attack resistan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aq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8tKJlIj"/>
          <p:cNvPicPr/>
          <p:nvPr/>
        </p:nvPicPr>
        <p:blipFill>
          <a:blip r:embed="rId1"/>
          <a:stretch/>
        </p:blipFill>
        <p:spPr>
          <a:xfrm>
            <a:off x="1066680" y="1752480"/>
            <a:ext cx="67820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aq 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w stated that his implementation doesn’t leak any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reality the XORtables and T/ytables still leaks one nibble each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very helpful but still someth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external encoding cancel each out it might be worth to understand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nt h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aq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look at input encoding and output encoding we know that they both cancel each other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 if we manage to find the values of the encoding we’d only have a “naked” implementation of wba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then just sniff the first round key and extract the k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all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9810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umably a simple crack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discovered as wb a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ed to solve it st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running things is che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 was to solve in lt a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ace I didn’t manage to fulfill when working stat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657600" y="1523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ame this person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14436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BTUlT5fCQAEqN4c"/>
          <p:cNvPicPr/>
          <p:nvPr/>
        </p:nvPicPr>
        <p:blipFill>
          <a:blip r:embed="rId1"/>
          <a:stretch/>
        </p:blipFill>
        <p:spPr>
          <a:xfrm>
            <a:off x="6324480" y="1219320"/>
            <a:ext cx="2540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yptbo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try to look at MixColumns in the Ty/itables transform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general idea it transfor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2b to 32b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P be input encod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Q output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324480" y="2286000"/>
            <a:ext cx="2847960" cy="426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5286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8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let’s try to give an approximation about the encoding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llet suggests to zero out two bits out of the 4 and build up a new lookup table and perform the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we have that w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a new lookup 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ir reversed 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2743200" cy="600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77120" y="4114800"/>
            <a:ext cx="21812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tebox^whitebo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get 256 possible bije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can be used to build u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encoding approxim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me operation is done to the input encoding us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quired approximation we had for Q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have the external encoding values we c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sniff the first round key and extract the k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@shiftredu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hiftreduce@gmai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s to Eloi for making this challe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tz @ #ecl,#nullsec,inbarr,nirizr,skier_,emdel,over, Mikae, l_inc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is md5’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al is transformed / permutated using unknow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42958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 arche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verall the crackme was deployed into 2 main par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obfusc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aque predicates, lookup tables, value tables and “spaghetti” co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yptanaly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original cipher was whitebox’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935_boat"/>
          <p:cNvPicPr/>
          <p:nvPr/>
        </p:nvPicPr>
        <p:blipFill>
          <a:blip r:embed="rId1"/>
          <a:stretch/>
        </p:blipFill>
        <p:spPr>
          <a:xfrm>
            <a:off x="5029200" y="3581280"/>
            <a:ext cx="38178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obfus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lick for more random wrongness"/>
          <p:cNvPicPr/>
          <p:nvPr/>
        </p:nvPicPr>
        <p:blipFill>
          <a:blip r:embed="rId1"/>
          <a:stretch/>
        </p:blipFill>
        <p:spPr>
          <a:xfrm>
            <a:off x="1447920" y="1600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obfuscation - Layer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nd some jmps, decided to map them 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d_lookuptables(“Mov &lt;register&gt;, dword ptr [addr*4]”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d xrefs, define loc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A can’t map them all into graph views (due to size, more RAM == bigger grap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looking a bit there seem to be some logic and different operations inside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 they all lead to the same path eventual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C:\Users\Sapiens\Desktop\Copy of clean\clean-find_lookup-tables_after.PNG"/>
          <p:cNvPicPr/>
          <p:nvPr/>
        </p:nvPicPr>
        <p:blipFill>
          <a:blip r:embed="rId1"/>
          <a:stretch/>
        </p:blipFill>
        <p:spPr>
          <a:xfrm>
            <a:off x="533520" y="6324480"/>
            <a:ext cx="5715000" cy="53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Users\Sapiens\Desktop\Copy of clean\clean-find_lookup-tables_befire.PNG"/>
          <p:cNvPicPr/>
          <p:nvPr/>
        </p:nvPicPr>
        <p:blipFill>
          <a:blip r:embed="rId2"/>
          <a:stretch/>
        </p:blipFill>
        <p:spPr>
          <a:xfrm>
            <a:off x="-228600" y="228600"/>
            <a:ext cx="94708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Sapiens\AppData\Local\Temp\_TSC418.tmp\_TS7.tmp\jmp_0.PNG"/>
          <p:cNvPicPr/>
          <p:nvPr/>
        </p:nvPicPr>
        <p:blipFill>
          <a:blip r:embed="rId1"/>
          <a:stretch/>
        </p:blipFill>
        <p:spPr>
          <a:xfrm>
            <a:off x="4495680" y="762120"/>
            <a:ext cx="4496040" cy="2560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Sapiens\AppData\Local\Temp\_TSC418.tmp\_TS7.tmp\jmp__to_garbage.PNG"/>
          <p:cNvPicPr/>
          <p:nvPr/>
        </p:nvPicPr>
        <p:blipFill>
          <a:blip r:embed="rId2"/>
          <a:stretch/>
        </p:blipFill>
        <p:spPr>
          <a:xfrm>
            <a:off x="228600" y="457200"/>
            <a:ext cx="433548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Sapiens\AppData\Local\Temp\_TSC418.tmp\_TS8.tmp\jmp_1.PNG"/>
          <p:cNvPicPr/>
          <p:nvPr/>
        </p:nvPicPr>
        <p:blipFill>
          <a:blip r:embed="rId3"/>
          <a:stretch/>
        </p:blipFill>
        <p:spPr>
          <a:xfrm>
            <a:off x="457200" y="3809880"/>
            <a:ext cx="6991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Sapiens\AppData\Local\Temp\_TSC418.tmp\_TS9.tmp\jmp_0_fixed.PNG"/>
          <p:cNvPicPr/>
          <p:nvPr/>
        </p:nvPicPr>
        <p:blipFill>
          <a:blip r:embed="rId1"/>
          <a:stretch/>
        </p:blipFill>
        <p:spPr>
          <a:xfrm>
            <a:off x="0" y="228600"/>
            <a:ext cx="5410080" cy="2362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Sapiens\AppData\Local\Temp\_TSC418.tmp\_TSA.tmp\jmpo_to_garbage_fixed.PNG"/>
          <p:cNvPicPr/>
          <p:nvPr/>
        </p:nvPicPr>
        <p:blipFill>
          <a:blip r:embed="rId2"/>
          <a:stretch/>
        </p:blipFill>
        <p:spPr>
          <a:xfrm>
            <a:off x="2286000" y="2666880"/>
            <a:ext cx="3900600" cy="371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Sapiens\AppData\Local\Temp\_TSC418.tmp\_TSB.tmp\jmp_1_fixed.PNG"/>
          <p:cNvPicPr/>
          <p:nvPr/>
        </p:nvPicPr>
        <p:blipFill>
          <a:blip r:embed="rId3"/>
          <a:stretch/>
        </p:blipFill>
        <p:spPr>
          <a:xfrm>
            <a:off x="3733920" y="1371600"/>
            <a:ext cx="5076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20:37:22Z</dcterms:created>
  <dc:creator>Sapiens</dc:creator>
  <dc:description/>
  <dc:language>en-US</dc:language>
  <cp:lastModifiedBy>Woot</cp:lastModifiedBy>
  <dcterms:modified xsi:type="dcterms:W3CDTF">2013-10-24T12:13:11Z</dcterms:modified>
  <cp:revision>249</cp:revision>
  <dc:subject/>
  <dc:title>Interactive deobfuscation</dc:title>
</cp:coreProperties>
</file>