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28.png" ContentType="image/png"/>
  <Override PartName="/ppt/media/image14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3.png" ContentType="image/png"/>
  <Override PartName="/ppt/media/image35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1.jpeg" ContentType="image/jpeg"/>
  <Override PartName="/ppt/media/image4.wmf" ContentType="image/x-wmf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5592-6601-453B-B882-341CBB4CCA92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-7319880"/>
            <a:ext cx="1440" cy="160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39B9-AF71-4FC2-92B1-9F88D2B4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C709-AF25-4E31-9792-4BDC6756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89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1326-EA13-4F5D-B281-8507C94A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73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37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73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937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FE93-8BBF-4D85-9F56-1CA371BE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1AB1-D883-444D-B0B5-7168D54D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E9BA-4508-41F4-AD7C-5E76C778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2094-1D8C-41EF-B64F-2A623E21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EB85-390C-4B5D-A887-F00CA318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C11D-895C-450E-8426-7BDB4685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705720" cy="81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F1CE-38A7-4B76-8D31-AD0C9D67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618D-1CAA-4EA5-B992-5A137663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932B5-5C65-4338-9531-D003FEDE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89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C74F-0BB5-4451-AD27-7CBBFAED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26FB-2AF6-4458-85F5-7677B178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9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A3C6-0D6C-4984-B3C4-BB759A27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89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67FB-678B-4E4B-8CB7-CAE8BBA6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773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37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9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773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937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5AB5-6F90-4432-86DD-0B5382D7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E1E3-143F-4EC9-9A33-5A733DFF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EF21-E04B-486B-9CD2-ED5F1E2F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D2EF-4E14-486E-AEFC-891BA239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705720" cy="81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FE08-71EF-4875-A872-C3811E73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4B53-A0F9-42FD-A0ED-F0A722E0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89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2A08-5106-4B2A-AC82-A2CA46E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C7EA-B55A-476F-9005-9FC84864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62C-9C92-45A7-A16B-B37DF32AD4B6}" type="datetime2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B0F9-24ED-466F-9139-BF71482752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he Shadowserver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9F5F-108E-481A-8AC6-C47D46B1F0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10280" y="1828800"/>
            <a:ext cx="175572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oleObject" Target="../embeddings/oleObject1.bin"/><Relationship Id="rId29" Type="http://schemas.openxmlformats.org/officeDocument/2006/relationships/image" Target="../media/image5.wmf"/><Relationship Id="rId30" Type="http://schemas.openxmlformats.org/officeDocument/2006/relationships/image" Target="../media/image3.jpeg"/><Relationship Id="rId31" Type="http://schemas.openxmlformats.org/officeDocument/2006/relationships/image" Target="../media/image4.wmf"/><Relationship Id="rId3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shadowserver.org/" TargetMode="Externa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3.jpeg"/><Relationship Id="rId11" Type="http://schemas.openxmlformats.org/officeDocument/2006/relationships/image" Target="../media/image4.wmf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965240"/>
            <a:ext cx="670572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otnets and Botherders</a:t>
            </a:r>
            <a:br>
              <a:rPr sz="44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The Shadowserver Foundation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llar Leos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Botnets – Retest Infections</a:t>
            </a:r>
            <a:br>
              <a:rPr sz="1200"/>
            </a:br>
            <a:r>
              <a:rPr b="1" lang="en-US" sz="1200" spc="-1" strike="noStrike">
                <a:solidFill>
                  <a:srgbClr val="e5e5ff"/>
                </a:solidFill>
                <a:latin typeface="Arial"/>
              </a:rPr>
              <a:t>Monthy stats</a:t>
            </a:r>
            <a:endParaRPr b="1" lang="en-US" sz="1200" spc="-1" strike="noStrike">
              <a:solidFill>
                <a:srgbClr val="e5e5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1219320"/>
          <a:ext cx="8534160" cy="5187960"/>
        </p:xfrm>
        <a:graphic>
          <a:graphicData uri="http://schemas.openxmlformats.org/drawingml/2006/table">
            <a:tbl>
              <a:tblPr/>
              <a:tblGrid>
                <a:gridCol w="2557440"/>
                <a:gridCol w="2089440"/>
                <a:gridCol w="1999800"/>
                <a:gridCol w="18874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spersk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605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.1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Sec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515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942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96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Vi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152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88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208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2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3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810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0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Prot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639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732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.1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Defend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301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39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Web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7907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028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1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886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1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Pro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176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.73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Afe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88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89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101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011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98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xir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763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6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usBust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6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6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BA3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706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.03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67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16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H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80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73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2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 - Detai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go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phisticated – Complete – Mod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otkit-like cap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2P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D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ch simpler – sm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sy to ext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undreds of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go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ndard and custom IRC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_maxth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m_aol_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t_topicc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DB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ghtweight I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ecutes channel topic as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erprets other messages as comm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 - Detai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pa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go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signs network ranges to dr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can.addnetrange &lt;IP_rang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can.start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DB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ase version has no scanning cap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riants now include scanning and propag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ery advan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ttack Mech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go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aborate set of self contained mod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y types of DDoS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D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exploits in base 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sily and rapidly expa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Control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ent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y to Depl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ntral weak 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one calls home via port 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seem like normal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is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2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centra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difficult to detect and take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C/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2P/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Usag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DDoS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CP or UDP fl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 spid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p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s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rvest email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Traffic Sniff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eresting clear-tex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help 'steal' other bot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Keylogging &amp; E-Fra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ypasses encrypted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of fil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Malware Propag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anning and infec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pid deployment of explo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Clickthrough Fra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y-per-cli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ipulate polls, survey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Warez and Pirated G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164360" y="1412640"/>
            <a:ext cx="792360" cy="648000"/>
            <a:chOff x="7164360" y="1412640"/>
            <a:chExt cx="792360" cy="648000"/>
          </a:xfrm>
        </p:grpSpPr>
        <p:sp>
          <p:nvSpPr>
            <p:cNvPr id="198" name=""/>
            <p:cNvSpPr/>
            <p:nvPr/>
          </p:nvSpPr>
          <p:spPr>
            <a:xfrm flipV="1">
              <a:off x="7164360" y="1412640"/>
              <a:ext cx="57636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380360" y="1628640"/>
              <a:ext cx="57636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25560" cy="1295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14080" y="10944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ahoma"/>
              </a:rPr>
              <a:t>Webserver / 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Cloud"/>
          <p:cNvSpPr/>
          <p:nvPr/>
        </p:nvSpPr>
        <p:spPr>
          <a:xfrm>
            <a:off x="5218200" y="1773360"/>
            <a:ext cx="2449440" cy="1328760"/>
          </a:xfrm>
          <a:prstGeom prst="pie">
            <a:avLst/>
          </a:prstGeom>
          <a:solidFill>
            <a:srgbClr val="d3584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49600" y="2637000"/>
            <a:ext cx="3182760" cy="3238200"/>
            <a:chOff x="1749600" y="2637000"/>
            <a:chExt cx="3182760" cy="323820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1749600" y="2637000"/>
              <a:ext cx="5918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1965240" y="285264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4"/>
            <a:stretch/>
          </p:blipFill>
          <p:spPr>
            <a:xfrm>
              <a:off x="2181240" y="306864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2397240" y="328464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2612880" y="3500280"/>
              <a:ext cx="5922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7"/>
            <a:stretch/>
          </p:blipFill>
          <p:spPr>
            <a:xfrm>
              <a:off x="2828880" y="371628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8"/>
            <a:stretch/>
          </p:blipFill>
          <p:spPr>
            <a:xfrm>
              <a:off x="3044880" y="393228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9"/>
            <a:stretch/>
          </p:blipFill>
          <p:spPr>
            <a:xfrm>
              <a:off x="3260880" y="4148280"/>
              <a:ext cx="5918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0"/>
            <a:stretch/>
          </p:blipFill>
          <p:spPr>
            <a:xfrm>
              <a:off x="3476520" y="436392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1"/>
            <a:stretch/>
          </p:blipFill>
          <p:spPr>
            <a:xfrm>
              <a:off x="3692520" y="457992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2"/>
            <a:stretch/>
          </p:blipFill>
          <p:spPr>
            <a:xfrm>
              <a:off x="3908520" y="479592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3"/>
            <a:stretch/>
          </p:blipFill>
          <p:spPr>
            <a:xfrm>
              <a:off x="4124160" y="5011560"/>
              <a:ext cx="5922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4"/>
            <a:stretch/>
          </p:blipFill>
          <p:spPr>
            <a:xfrm>
              <a:off x="4340160" y="5227560"/>
              <a:ext cx="59220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1835280" y="2708280"/>
            <a:ext cx="2881080" cy="2786040"/>
            <a:chOff x="1835280" y="2708280"/>
            <a:chExt cx="2881080" cy="2786040"/>
          </a:xfrm>
        </p:grpSpPr>
        <p:pic>
          <p:nvPicPr>
            <p:cNvPr id="218" name="" descr=""/>
            <p:cNvPicPr/>
            <p:nvPr/>
          </p:nvPicPr>
          <p:blipFill>
            <a:blip r:embed="rId15"/>
            <a:stretch/>
          </p:blipFill>
          <p:spPr>
            <a:xfrm>
              <a:off x="2050920" y="2924280"/>
              <a:ext cx="289080" cy="193680"/>
            </a:xfrm>
            <a:prstGeom prst="rect">
              <a:avLst/>
            </a:prstGeom>
            <a:ln w="34920">
              <a:solidFill>
                <a:srgbClr val="ff0000"/>
              </a:solidFill>
              <a:miter/>
            </a:ln>
          </p:spPr>
        </p:pic>
        <p:grpSp>
          <p:nvGrpSpPr>
            <p:cNvPr id="219" name=""/>
            <p:cNvGrpSpPr/>
            <p:nvPr/>
          </p:nvGrpSpPr>
          <p:grpSpPr>
            <a:xfrm>
              <a:off x="1835280" y="2708280"/>
              <a:ext cx="2881080" cy="2786040"/>
              <a:chOff x="1835280" y="2708280"/>
              <a:chExt cx="2881080" cy="2786040"/>
            </a:xfrm>
          </p:grpSpPr>
          <p:pic>
            <p:nvPicPr>
              <p:cNvPr id="2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35280" y="270828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66920" y="314028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482920" y="335592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698560" y="357192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2914560" y="378792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130560" y="400392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3346560" y="421956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562200" y="443556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3778200" y="465156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994200" y="486756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3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209840" y="508320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427640" y="530064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</p:grpSp>
      </p:grpSp>
      <p:grpSp>
        <p:nvGrpSpPr>
          <p:cNvPr id="232" name=""/>
          <p:cNvGrpSpPr/>
          <p:nvPr/>
        </p:nvGrpSpPr>
        <p:grpSpPr>
          <a:xfrm>
            <a:off x="345240" y="4797360"/>
            <a:ext cx="1509480" cy="1822320"/>
            <a:chOff x="345240" y="4797360"/>
            <a:chExt cx="1509480" cy="1822320"/>
          </a:xfrm>
        </p:grpSpPr>
        <p:graphicFrame>
          <p:nvGraphicFramePr>
            <p:cNvPr id="233" name=""/>
            <p:cNvGraphicFramePr/>
            <p:nvPr/>
          </p:nvGraphicFramePr>
          <p:xfrm>
            <a:off x="539640" y="4797360"/>
            <a:ext cx="927360" cy="12970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539640" y="4797360"/>
                      <a:ext cx="9273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"/>
            <p:cNvSpPr/>
            <p:nvPr/>
          </p:nvSpPr>
          <p:spPr>
            <a:xfrm>
              <a:off x="345240" y="6251400"/>
              <a:ext cx="15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ffffff"/>
                  </a:solidFill>
                  <a:latin typeface="Tahoma"/>
                </a:rPr>
                <a:t>Chat Ser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24000" y="404640"/>
            <a:ext cx="1871640" cy="2187720"/>
            <a:chOff x="324000" y="404640"/>
            <a:chExt cx="1871640" cy="2187720"/>
          </a:xfrm>
        </p:grpSpPr>
        <p:pic>
          <p:nvPicPr>
            <p:cNvPr id="237" name="" descr=""/>
            <p:cNvPicPr/>
            <p:nvPr/>
          </p:nvPicPr>
          <p:blipFill>
            <a:blip r:embed="rId30"/>
            <a:stretch/>
          </p:blipFill>
          <p:spPr>
            <a:xfrm>
              <a:off x="324000" y="404640"/>
              <a:ext cx="1871640" cy="12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1"/>
            <a:stretch/>
          </p:blipFill>
          <p:spPr>
            <a:xfrm>
              <a:off x="324000" y="1484280"/>
              <a:ext cx="10126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93680" y="171612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ffffff"/>
                  </a:solidFill>
                  <a:latin typeface="Tahoma"/>
                </a:rPr>
                <a:t>Hack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258920" y="3357360"/>
            <a:ext cx="2951280" cy="2375280"/>
            <a:chOff x="1258920" y="3357360"/>
            <a:chExt cx="2951280" cy="2375280"/>
          </a:xfrm>
        </p:grpSpPr>
        <p:sp>
          <p:nvSpPr>
            <p:cNvPr id="241" name=""/>
            <p:cNvSpPr/>
            <p:nvPr/>
          </p:nvSpPr>
          <p:spPr>
            <a:xfrm flipV="1">
              <a:off x="1258920" y="3357360"/>
              <a:ext cx="576360" cy="14382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332000" y="3573360"/>
              <a:ext cx="718920" cy="12240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403280" y="3789000"/>
              <a:ext cx="863640" cy="1079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476360" y="4005000"/>
              <a:ext cx="1006560" cy="936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476360" y="4220640"/>
              <a:ext cx="1222560" cy="792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476360" y="4436640"/>
              <a:ext cx="1438200" cy="647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1547640" y="4653000"/>
              <a:ext cx="1582920" cy="5047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547640" y="4868640"/>
              <a:ext cx="179892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619280" y="5084640"/>
              <a:ext cx="1942920" cy="2160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1619280" y="5300280"/>
              <a:ext cx="2158920" cy="7308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19280" y="5516640"/>
              <a:ext cx="237492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19280" y="5661000"/>
              <a:ext cx="2590920" cy="71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340000" y="1511280"/>
            <a:ext cx="5545080" cy="3716280"/>
            <a:chOff x="2340000" y="1511280"/>
            <a:chExt cx="5545080" cy="3716280"/>
          </a:xfrm>
        </p:grpSpPr>
        <p:sp>
          <p:nvSpPr>
            <p:cNvPr id="254" name=""/>
            <p:cNvSpPr/>
            <p:nvPr/>
          </p:nvSpPr>
          <p:spPr>
            <a:xfrm>
              <a:off x="2340000" y="1576440"/>
              <a:ext cx="5359320" cy="1058760"/>
            </a:xfrm>
            <a:custGeom>
              <a:avLst/>
              <a:gdLst/>
              <a:ahLst/>
              <a:rect l="l" t="t" r="r" b="b"/>
              <a:pathLst>
                <a:path w="3376" h="667">
                  <a:moveTo>
                    <a:pt x="0" y="667"/>
                  </a:moveTo>
                  <a:cubicBezTo>
                    <a:pt x="369" y="607"/>
                    <a:pt x="1653" y="420"/>
                    <a:pt x="2216" y="309"/>
                  </a:cubicBezTo>
                  <a:cubicBezTo>
                    <a:pt x="2779" y="198"/>
                    <a:pt x="3134" y="65"/>
                    <a:pt x="337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6000" y="1550880"/>
              <a:ext cx="5222880" cy="1301760"/>
            </a:xfrm>
            <a:custGeom>
              <a:avLst/>
              <a:gdLst/>
              <a:ahLst/>
              <a:rect l="l" t="t" r="r" b="b"/>
              <a:pathLst>
                <a:path w="3290" h="820">
                  <a:moveTo>
                    <a:pt x="0" y="820"/>
                  </a:moveTo>
                  <a:cubicBezTo>
                    <a:pt x="298" y="763"/>
                    <a:pt x="1240" y="613"/>
                    <a:pt x="1788" y="476"/>
                  </a:cubicBezTo>
                  <a:cubicBezTo>
                    <a:pt x="2336" y="339"/>
                    <a:pt x="2977" y="99"/>
                    <a:pt x="329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71640" y="1523880"/>
              <a:ext cx="5073840" cy="1543320"/>
            </a:xfrm>
            <a:custGeom>
              <a:avLst/>
              <a:gdLst/>
              <a:ahLst/>
              <a:rect l="l" t="t" r="r" b="b"/>
              <a:pathLst>
                <a:path w="3196" h="972">
                  <a:moveTo>
                    <a:pt x="0" y="972"/>
                  </a:moveTo>
                  <a:cubicBezTo>
                    <a:pt x="331" y="886"/>
                    <a:pt x="1452" y="621"/>
                    <a:pt x="1985" y="459"/>
                  </a:cubicBezTo>
                  <a:cubicBezTo>
                    <a:pt x="2518" y="297"/>
                    <a:pt x="2944" y="96"/>
                    <a:pt x="319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87640" y="1511280"/>
              <a:ext cx="4857840" cy="1771560"/>
            </a:xfrm>
            <a:custGeom>
              <a:avLst/>
              <a:gdLst/>
              <a:ahLst/>
              <a:rect l="l" t="t" r="r" b="b"/>
              <a:pathLst>
                <a:path w="3060" h="1116">
                  <a:moveTo>
                    <a:pt x="0" y="1116"/>
                  </a:moveTo>
                  <a:cubicBezTo>
                    <a:pt x="276" y="1032"/>
                    <a:pt x="1147" y="795"/>
                    <a:pt x="1657" y="609"/>
                  </a:cubicBezTo>
                  <a:cubicBezTo>
                    <a:pt x="2167" y="423"/>
                    <a:pt x="2768" y="127"/>
                    <a:pt x="306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03640" y="1523880"/>
              <a:ext cx="4589280" cy="1974960"/>
            </a:xfrm>
            <a:custGeom>
              <a:avLst/>
              <a:gdLst/>
              <a:ahLst/>
              <a:rect l="l" t="t" r="r" b="b"/>
              <a:pathLst>
                <a:path w="2891" h="1244">
                  <a:moveTo>
                    <a:pt x="0" y="1244"/>
                  </a:moveTo>
                  <a:cubicBezTo>
                    <a:pt x="242" y="1158"/>
                    <a:pt x="973" y="933"/>
                    <a:pt x="1455" y="726"/>
                  </a:cubicBezTo>
                  <a:cubicBezTo>
                    <a:pt x="1937" y="519"/>
                    <a:pt x="2592" y="151"/>
                    <a:pt x="2891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19640" y="1511280"/>
              <a:ext cx="4413240" cy="2203560"/>
            </a:xfrm>
            <a:custGeom>
              <a:avLst/>
              <a:gdLst/>
              <a:ahLst/>
              <a:rect l="l" t="t" r="r" b="b"/>
              <a:pathLst>
                <a:path w="2780" h="1388">
                  <a:moveTo>
                    <a:pt x="0" y="1388"/>
                  </a:moveTo>
                  <a:cubicBezTo>
                    <a:pt x="221" y="1293"/>
                    <a:pt x="864" y="1049"/>
                    <a:pt x="1327" y="818"/>
                  </a:cubicBezTo>
                  <a:cubicBezTo>
                    <a:pt x="1790" y="587"/>
                    <a:pt x="2477" y="170"/>
                    <a:pt x="278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35280" y="1628640"/>
              <a:ext cx="4176720" cy="2301840"/>
            </a:xfrm>
            <a:custGeom>
              <a:avLst/>
              <a:gdLst/>
              <a:ahLst/>
              <a:rect l="l" t="t" r="r" b="b"/>
              <a:pathLst>
                <a:path w="2631" h="1450">
                  <a:moveTo>
                    <a:pt x="0" y="1450"/>
                  </a:moveTo>
                  <a:cubicBezTo>
                    <a:pt x="215" y="1338"/>
                    <a:pt x="853" y="1019"/>
                    <a:pt x="1291" y="777"/>
                  </a:cubicBezTo>
                  <a:cubicBezTo>
                    <a:pt x="1729" y="535"/>
                    <a:pt x="2352" y="162"/>
                    <a:pt x="2631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51280" y="1628640"/>
              <a:ext cx="3960720" cy="25178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7280" y="1550880"/>
              <a:ext cx="3684600" cy="2813040"/>
            </a:xfrm>
            <a:custGeom>
              <a:avLst/>
              <a:gdLst/>
              <a:ahLst/>
              <a:rect l="l" t="t" r="r" b="b"/>
              <a:pathLst>
                <a:path w="2321" h="1772">
                  <a:moveTo>
                    <a:pt x="0" y="1772"/>
                  </a:moveTo>
                  <a:cubicBezTo>
                    <a:pt x="178" y="1634"/>
                    <a:pt x="682" y="1238"/>
                    <a:pt x="1069" y="943"/>
                  </a:cubicBezTo>
                  <a:cubicBezTo>
                    <a:pt x="1456" y="648"/>
                    <a:pt x="2060" y="197"/>
                    <a:pt x="2321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82920" y="1628640"/>
              <a:ext cx="3529080" cy="2949840"/>
            </a:xfrm>
            <a:custGeom>
              <a:avLst/>
              <a:gdLst/>
              <a:ahLst/>
              <a:rect l="l" t="t" r="r" b="b"/>
              <a:pathLst>
                <a:path w="2223" h="1858">
                  <a:moveTo>
                    <a:pt x="0" y="1858"/>
                  </a:moveTo>
                  <a:cubicBezTo>
                    <a:pt x="170" y="1699"/>
                    <a:pt x="647" y="1212"/>
                    <a:pt x="1017" y="902"/>
                  </a:cubicBezTo>
                  <a:cubicBezTo>
                    <a:pt x="1387" y="592"/>
                    <a:pt x="1972" y="188"/>
                    <a:pt x="2223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8920" y="1628640"/>
              <a:ext cx="3241800" cy="3165480"/>
            </a:xfrm>
            <a:custGeom>
              <a:avLst/>
              <a:gdLst/>
              <a:ahLst/>
              <a:rect l="l" t="t" r="r" b="b"/>
              <a:pathLst>
                <a:path w="2042" h="1994">
                  <a:moveTo>
                    <a:pt x="0" y="1994"/>
                  </a:moveTo>
                  <a:cubicBezTo>
                    <a:pt x="154" y="1826"/>
                    <a:pt x="583" y="1318"/>
                    <a:pt x="923" y="986"/>
                  </a:cubicBezTo>
                  <a:cubicBezTo>
                    <a:pt x="1263" y="654"/>
                    <a:pt x="1809" y="205"/>
                    <a:pt x="2042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4920" y="1701720"/>
              <a:ext cx="3025800" cy="3309840"/>
            </a:xfrm>
            <a:custGeom>
              <a:avLst/>
              <a:gdLst/>
              <a:ahLst/>
              <a:rect l="l" t="t" r="r" b="b"/>
              <a:pathLst>
                <a:path w="1906" h="2085">
                  <a:moveTo>
                    <a:pt x="0" y="2085"/>
                  </a:moveTo>
                  <a:cubicBezTo>
                    <a:pt x="131" y="1911"/>
                    <a:pt x="470" y="1387"/>
                    <a:pt x="787" y="1040"/>
                  </a:cubicBezTo>
                  <a:cubicBezTo>
                    <a:pt x="1104" y="693"/>
                    <a:pt x="1673" y="217"/>
                    <a:pt x="190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30920" y="1558800"/>
              <a:ext cx="2954160" cy="3668760"/>
            </a:xfrm>
            <a:custGeom>
              <a:avLst/>
              <a:gdLst/>
              <a:ahLst/>
              <a:rect l="l" t="t" r="r" b="b"/>
              <a:pathLst>
                <a:path w="1861" h="2311">
                  <a:moveTo>
                    <a:pt x="0" y="2311"/>
                  </a:moveTo>
                  <a:cubicBezTo>
                    <a:pt x="108" y="2139"/>
                    <a:pt x="341" y="1665"/>
                    <a:pt x="651" y="1280"/>
                  </a:cubicBezTo>
                  <a:cubicBezTo>
                    <a:pt x="961" y="895"/>
                    <a:pt x="1609" y="267"/>
                    <a:pt x="1861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724360" y="3141720"/>
            <a:ext cx="31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Tahoma"/>
              </a:rPr>
              <a:t>Access line block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73760" y="5205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Tahoma"/>
              </a:rPr>
              <a:t>Computer</a:t>
            </a:r>
            <a:br>
              <a:rPr sz="3600"/>
            </a:br>
            <a:r>
              <a:rPr b="1" lang="nl-BE" sz="3600" spc="-1" strike="noStrike">
                <a:solidFill>
                  <a:srgbClr val="ffff00"/>
                </a:solidFill>
                <a:latin typeface="Tahoma"/>
              </a:rPr>
              <a:t>   Cr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95640" y="601992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00"/>
                </a:solidFill>
                <a:latin typeface="Tahoma"/>
              </a:rPr>
              <a:t>Botnet attack on a webserver / no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58920" y="3351240"/>
            <a:ext cx="2951280" cy="2757240"/>
            <a:chOff x="1258920" y="3351240"/>
            <a:chExt cx="2951280" cy="2757240"/>
          </a:xfrm>
        </p:grpSpPr>
        <p:grpSp>
          <p:nvGrpSpPr>
            <p:cNvPr id="271" name=""/>
            <p:cNvGrpSpPr/>
            <p:nvPr/>
          </p:nvGrpSpPr>
          <p:grpSpPr>
            <a:xfrm>
              <a:off x="1258920" y="3351240"/>
              <a:ext cx="2951280" cy="2374200"/>
              <a:chOff x="1258920" y="3351240"/>
              <a:chExt cx="2951280" cy="237420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1258920" y="3351240"/>
                <a:ext cx="576360" cy="1437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332000" y="3566160"/>
                <a:ext cx="718920" cy="1223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403280" y="3782520"/>
                <a:ext cx="863640" cy="107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476360" y="3998520"/>
                <a:ext cx="1006560" cy="93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476360" y="4214160"/>
                <a:ext cx="1222560" cy="792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476360" y="4430160"/>
                <a:ext cx="1438200" cy="647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47640" y="4645800"/>
                <a:ext cx="1582920" cy="504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47640" y="4862160"/>
                <a:ext cx="1798920" cy="360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1619280" y="5077440"/>
                <a:ext cx="1942920" cy="215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1619280" y="5293800"/>
                <a:ext cx="2158920" cy="72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619280" y="5509800"/>
                <a:ext cx="2374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19280" y="5654160"/>
                <a:ext cx="2590920" cy="7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097360" y="574020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ffff"/>
                  </a:solidFill>
                  <a:latin typeface="Tahoma"/>
                </a:rPr>
                <a:t>My IP is x.y.z.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900000" y="2622600"/>
            <a:ext cx="699840" cy="2085840"/>
            <a:chOff x="900000" y="2622600"/>
            <a:chExt cx="699840" cy="2085840"/>
          </a:xfrm>
        </p:grpSpPr>
        <p:sp>
          <p:nvSpPr>
            <p:cNvPr id="286" name=""/>
            <p:cNvSpPr/>
            <p:nvPr/>
          </p:nvSpPr>
          <p:spPr>
            <a:xfrm>
              <a:off x="900000" y="2622600"/>
              <a:ext cx="216000" cy="2085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81720" y="3430440"/>
              <a:ext cx="6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ffff"/>
                  </a:solidFill>
                  <a:latin typeface="Tahoma"/>
                </a:rPr>
                <a:t>Inf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59840" y="2638440"/>
            <a:ext cx="811800" cy="2085840"/>
            <a:chOff x="159840" y="2638440"/>
            <a:chExt cx="811800" cy="2085840"/>
          </a:xfrm>
        </p:grpSpPr>
        <p:sp>
          <p:nvSpPr>
            <p:cNvPr id="289" name=""/>
            <p:cNvSpPr/>
            <p:nvPr/>
          </p:nvSpPr>
          <p:spPr>
            <a:xfrm>
              <a:off x="755640" y="2638440"/>
              <a:ext cx="216000" cy="2085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840" y="3732120"/>
              <a:ext cx="6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ffff"/>
                  </a:solidFill>
                  <a:latin typeface="Tahoma"/>
                </a:rPr>
                <a:t>Cm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Usage (DDoS)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4038480" cy="3300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648320" y="2212920"/>
            <a:ext cx="40384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Herder Defens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Dynamic D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 TTL in DNS Records (Fastflu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nel and Server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ing directed to another C&amp;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a HTTP down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fuscate drone hostn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ryption of intra-channel commun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ied IRC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Sandbox mechanisms in bin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Motiva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Script Kiddies stay away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-profi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Becoming an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ground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rious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Targeted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phis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ustrial Espio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e Spons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Organizational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Dedicate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RC, P2P, Web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Various roles and hierarch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sumer Repor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ffic in a variety of goods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Public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 presumption of priv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dowserver</a:t>
            </a: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Botnets I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Relationshi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Relationshi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ction, Tracking, and Closure?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hadowserver Foundation process and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Shadowserver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4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The Shadowserver 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all volunteer watchdog group of security professionals that gather, track, and report on malware, botnet activity, and electronic fra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It is the mission of the Shadowserver Foundat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mprove the security of the Internet by raising awareness of the presence of compromised servers, malicious attackers, and the spread of mal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hadowserver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513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Arial"/>
              </a:rPr>
              <a:t>Botnets – Detection &amp; Capture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Honeyp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uto-subm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loy on wide variety of IP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&amp; Client 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Honeytok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ail – IM - I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mtr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sp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cial networ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0840" y="1599840"/>
            <a:ext cx="4040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erver 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ulate vulnerable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loy and 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pent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Client 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eats are chan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itiate connections to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ulate a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ed with known malicious U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neyC &amp; Capture-H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tnets - Nepent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tnets - Sandbox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83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Autom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The Bas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&amp;C address – Port – 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ick &amp; I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ss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3902040" cy="44956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943600" y="4038480"/>
            <a:ext cx="2859120" cy="2187720"/>
          </a:xfrm>
          <a:prstGeom prst="rect">
            <a:avLst/>
          </a:prstGeom>
          <a:ln w="9360">
            <a:solidFill>
              <a:srgbClr val="000514"/>
            </a:solidFill>
            <a:round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tnets - Track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00800" cy="50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tnets - Track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53452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otnets – The Good, Bad, and Ugly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ook into the methods, usage, control, and motivations of botnet herd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Arial"/>
              </a:rPr>
              <a:t>Shadowserver Revisited – Reports</a:t>
            </a:r>
            <a:br>
              <a:rPr sz="3600"/>
            </a:b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~500 Custom reports produced daily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Report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&amp;C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omised H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lick-Through Fra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RL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Fil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D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0840" y="1599840"/>
            <a:ext cx="4040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Recip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30 CE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100 ASN ow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eeding Edge Sn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 Public IRC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 DNS Registr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 Commercial Ven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private mailing lis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7 International LEO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 US Federal LEO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 International government critical infrastructure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77DC-68E5-4DE2-A3ED-7FC1AB8DE5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228F0-855B-4FDB-BF75-2236F40EE408}" type="datetime2">
              <a:rPr lang="en-US"/>
              <a:t>Friday, July 31, 20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e5e5ff"/>
                </a:solidFill>
                <a:latin typeface="Arial"/>
              </a:rPr>
              <a:t>Shadowserver Revisited – DDoS Report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04800" y="1771560"/>
            <a:ext cx="793440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F78F-E73A-4113-92EA-C655AA2A5E6C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75CF1-0A93-475B-B642-837FF23DE8BE}" type="datetime2">
              <a:rPr lang="en-US"/>
              <a:t>Friday, July 31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97000"/>
            <a:ext cx="82328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Two Minut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DC35-1C1C-4B24-A7D1-1C617CD1D9A2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A8EBC-7F3C-4843-8D37-FBA6E28781CE}" type="datetime2">
              <a:rPr lang="en-US"/>
              <a:t>Friday, July 31, 20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otnets – Real Life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se study of a group of bad actors on their actions and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Real Lif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1819080" cy="1695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1885680" cy="14000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2209680" cy="2095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3429000" y="3429000"/>
            <a:ext cx="2066760" cy="1943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6095880" y="3657600"/>
            <a:ext cx="2371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Real Lif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nary captured by honeypot system on 2006-08-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DBot variant using #rap@tamer.pikolata.net:61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d 32 different hosts (IPs) as C&amp;C servers in less than 60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d between servers at least 40 ti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 least six other control channels known to use this host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85341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– The Malwar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638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&amp;C spread 51 unique binaries in the two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o-thirds were SDBot variants, others are RBot, Zapchast, Parite.B, Kirsun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400800" y="1371600"/>
            <a:ext cx="1657440" cy="240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191120" y="4648320"/>
            <a:ext cx="3085920" cy="1204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5943600" y="2666880"/>
            <a:ext cx="26370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- Spead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standard spreading mechanisms (asn, dcom, lsass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8462880" cy="1228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83455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- Usag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unning DDOS (targets were usually servers being run by 'enemy' grou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ylogging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used for ID theft and efrau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8610480" cy="7858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28600" y="4495680"/>
            <a:ext cx="84582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– More Usag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-fraud (Money-making. Accounts could be used to track back the herd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one flooding (Often advertising new underground servers and carding channe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686800" cy="8064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04920" y="5181480"/>
            <a:ext cx="848340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efini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Bot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distributed network of compromised computers controlled by a malicious user via a command &amp; control mech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C&amp;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mand &amp; Contro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computer or a network of computers, controlled by a herder, that sends commands to the botn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Drone or Zomb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compromised computer that receives commands via the C&amp;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Bot He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vidual who owns or controls the botn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I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protocol designed for real time chat communication based on client-server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- Coopera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499"/>
              </a:spcBef>
              <a:spcAft>
                <a:spcPts val="726"/>
              </a:spcAft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perative scanning of network r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spcAft>
                <a:spcPts val="726"/>
              </a:spcAft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wnloading/Installing binaries for a 'friend' or in exchange for somet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spcAft>
                <a:spcPts val="726"/>
              </a:spcAft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ing out with bots to ddos targets that can handle a high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spcAft>
                <a:spcPts val="726"/>
              </a:spcAft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aring/trading private IRC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spcAft>
                <a:spcPts val="726"/>
              </a:spcAft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aring/trading bot sources and bin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80880" y="4464000"/>
            <a:ext cx="8534520" cy="657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85345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- ChanO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715080" y="1447920"/>
            <a:ext cx="1819440" cy="16952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676680" y="1649520"/>
            <a:ext cx="1886040" cy="1400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57200" y="3657600"/>
            <a:ext cx="22096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Ka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, Clone floo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: Tur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lname: Mehm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3581280"/>
            <a:ext cx="1752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mr`b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, Sniff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81680" y="3581280"/>
            <a:ext cx="1828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Mr|Y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ne flooding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x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– More ChanO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41280" y="1523880"/>
            <a:ext cx="2209680" cy="20955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505320" y="1600200"/>
            <a:ext cx="2066760" cy="1943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400800" y="1600200"/>
            <a:ext cx="2371680" cy="1924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57200" y="3886200"/>
            <a:ext cx="2133720" cy="10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Sh3ll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, Sniffing, Clone floo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59040" y="3886200"/>
            <a:ext cx="193032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B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: Koso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086600" y="3886200"/>
            <a:ext cx="167652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gu3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, Proxies, Clone floo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- Summar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veral domain names were rem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veral servers 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real affect on the operations of thi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Future Trend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all this going?  What do we have to look forward t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uture Trends - Malwar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otk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iVirus De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ing W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SS Hij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ent-side Explo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scalation of Privile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ckers and Prot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mida, private pac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uture Trends - </a:t>
            </a: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Themid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2206800"/>
            <a:ext cx="4038480" cy="3313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648320" y="2201760"/>
            <a:ext cx="40384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uture Trends - Botnet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 – P2P – VOIP – 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gache, Skype and Storm 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t channels via TCP and ICMP tunn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and Distributed Bot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DN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er Protection of the Bot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y Bankro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TTP based C&amp;C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206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simple and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206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206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known version – 1.9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asert.arbornetworks.com/2007/10/blackenergy-ddos-bot-analysis-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TTP based C&amp;C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Zu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ophisti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P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http://pandalabs.pandasecurity.com/archive/Zunker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Spread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c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loiting vulner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ght of the Living Dea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Email and IM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ll a major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Drive-by Down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b redir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cial networking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2P sh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3434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TTP based C&amp;C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P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EP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acu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ustomer Action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ything of value for my custom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ustomer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ould you be telling your custom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they be do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ll any of this help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Detection Method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Network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nections to IRC or known C&amp;C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te of outgoing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DNS Tr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usual rate of look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dden increase in lookups across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Intrusion Detection Systems (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eedingEdge Threats Sign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Listen to your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Botnets – Defensive Strategie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Pa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ntory al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Limited Privile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es to entire user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Firew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n't forget Egress fil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te-limiting of uncommon protocols and 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ti-spoof fil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Antivirus &amp; Antispy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 it on all n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TP traffic on non-standard 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et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Proxy all Internet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s will contain every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Log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he various tools and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DNS Blackh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rrent lists of known bad 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Vulnerability Awar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iling Lists, RS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User Awareness &amp;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't be overst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hadowserver and YOU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operation and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are experiences and discov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hadowserver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shadowserver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792000" cy="531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792360" cy="531720"/>
          </a:xfrm>
          <a:prstGeom prst="rect">
            <a:avLst/>
          </a:prstGeom>
          <a:ln w="0">
            <a:noFill/>
          </a:ln>
        </p:spPr>
      </p:pic>
      <p:sp>
        <p:nvSpPr>
          <p:cNvPr id="122" name="Cloud"/>
          <p:cNvSpPr/>
          <p:nvPr/>
        </p:nvSpPr>
        <p:spPr>
          <a:xfrm>
            <a:off x="1474920" y="2589120"/>
            <a:ext cx="3671640" cy="1992240"/>
          </a:xfrm>
          <a:prstGeom prst="pie">
            <a:avLst/>
          </a:prstGeom>
          <a:solidFill>
            <a:srgbClr val="d3584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28720" y="4173480"/>
            <a:ext cx="592200" cy="64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617840" y="5180040"/>
            <a:ext cx="5918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543280" y="1628640"/>
            <a:ext cx="1994400" cy="1822320"/>
            <a:chOff x="5543280" y="1628640"/>
            <a:chExt cx="1994400" cy="1822320"/>
          </a:xfrm>
        </p:grpSpPr>
        <p:graphicFrame>
          <p:nvGraphicFramePr>
            <p:cNvPr id="126" name=""/>
            <p:cNvGraphicFramePr/>
            <p:nvPr/>
          </p:nvGraphicFramePr>
          <p:xfrm>
            <a:off x="5711400" y="1628640"/>
            <a:ext cx="927000" cy="1297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1400" y="1628640"/>
                      <a:ext cx="92700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5543280" y="308268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ffffff"/>
                  </a:solidFill>
                  <a:latin typeface="Tahoma"/>
                </a:rPr>
                <a:t>CC - Chat Ser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14400" y="59436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00"/>
                </a:solidFill>
                <a:latin typeface="Tahoma"/>
              </a:rPr>
              <a:t>Bot autopropagation infection sche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87760" y="692280"/>
          <a:ext cx="927000" cy="12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87760" y="692280"/>
                    <a:ext cx="92700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756000" y="260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ahoma"/>
              </a:rPr>
              <a:t>Distribu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39640" y="3068640"/>
            <a:ext cx="592200" cy="64764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59520" y="4221000"/>
            <a:ext cx="813240" cy="955080"/>
            <a:chOff x="659520" y="4221000"/>
            <a:chExt cx="813240" cy="955080"/>
          </a:xfrm>
        </p:grpSpPr>
        <p:pic>
          <p:nvPicPr>
            <p:cNvPr id="135" name="" descr=""/>
            <p:cNvPicPr/>
            <p:nvPr/>
          </p:nvPicPr>
          <p:blipFill>
            <a:blip r:embed="rId10"/>
            <a:stretch/>
          </p:blipFill>
          <p:spPr>
            <a:xfrm>
              <a:off x="900000" y="4221000"/>
              <a:ext cx="289080" cy="193680"/>
            </a:xfrm>
            <a:prstGeom prst="rect">
              <a:avLst/>
            </a:prstGeom>
            <a:ln w="34920">
              <a:solidFill>
                <a:srgbClr val="ff0000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659520" y="486900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Tahoma"/>
                </a:rPr>
                <a:t>Zomb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431680" y="4132440"/>
            <a:ext cx="363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1. Are you vulnerable for Win X problem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15560" y="43657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2. Yes / 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4040" y="4581360"/>
            <a:ext cx="30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3. If Yes =&gt; send malware to inf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4797360"/>
            <a:ext cx="320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4. After installation =&gt; connect to C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53640" y="5013360"/>
            <a:ext cx="37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5. Master command =&gt; download / upd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47880" y="5229360"/>
            <a:ext cx="33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6. Request download from dist.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357200" y="3836880"/>
            <a:ext cx="3070440" cy="1416240"/>
            <a:chOff x="1357200" y="3836880"/>
            <a:chExt cx="3070440" cy="1416240"/>
          </a:xfrm>
        </p:grpSpPr>
        <p:sp>
          <p:nvSpPr>
            <p:cNvPr id="144" name=""/>
            <p:cNvSpPr/>
            <p:nvPr/>
          </p:nvSpPr>
          <p:spPr>
            <a:xfrm>
              <a:off x="1357200" y="3836880"/>
              <a:ext cx="3070440" cy="1416240"/>
            </a:xfrm>
            <a:custGeom>
              <a:avLst/>
              <a:gdLst/>
              <a:ahLst/>
              <a:rect l="l" t="t" r="r" b="b"/>
              <a:pathLst>
                <a:path w="1934" h="892">
                  <a:moveTo>
                    <a:pt x="1934" y="892"/>
                  </a:moveTo>
                  <a:cubicBezTo>
                    <a:pt x="1846" y="753"/>
                    <a:pt x="1729" y="114"/>
                    <a:pt x="1407" y="57"/>
                  </a:cubicBezTo>
                  <a:cubicBezTo>
                    <a:pt x="1085" y="0"/>
                    <a:pt x="293" y="446"/>
                    <a:pt x="0" y="548"/>
                  </a:cubicBezTo>
                </a:path>
              </a:pathLst>
            </a:custGeom>
            <a:noFill/>
            <a:ln w="34920">
              <a:solidFill>
                <a:srgbClr val="ffff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2920" y="3860640"/>
              <a:ext cx="267480" cy="276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40040" y="4941720"/>
            <a:ext cx="2290680" cy="459000"/>
            <a:chOff x="1940040" y="4941720"/>
            <a:chExt cx="2290680" cy="459000"/>
          </a:xfrm>
        </p:grpSpPr>
        <p:sp>
          <p:nvSpPr>
            <p:cNvPr id="147" name=""/>
            <p:cNvSpPr/>
            <p:nvPr/>
          </p:nvSpPr>
          <p:spPr>
            <a:xfrm>
              <a:off x="1940040" y="5011560"/>
              <a:ext cx="2290680" cy="389160"/>
            </a:xfrm>
            <a:custGeom>
              <a:avLst/>
              <a:gdLst/>
              <a:ahLst/>
              <a:rect l="l" t="t" r="r" b="b"/>
              <a:pathLst>
                <a:path w="1443" h="245">
                  <a:moveTo>
                    <a:pt x="1443" y="29"/>
                  </a:moveTo>
                  <a:cubicBezTo>
                    <a:pt x="1353" y="28"/>
                    <a:pt x="1110" y="0"/>
                    <a:pt x="903" y="23"/>
                  </a:cubicBezTo>
                  <a:cubicBezTo>
                    <a:pt x="696" y="46"/>
                    <a:pt x="350" y="132"/>
                    <a:pt x="200" y="169"/>
                  </a:cubicBezTo>
                  <a:cubicBezTo>
                    <a:pt x="50" y="206"/>
                    <a:pt x="42" y="229"/>
                    <a:pt x="0" y="245"/>
                  </a:cubicBezTo>
                </a:path>
              </a:pathLst>
            </a:custGeom>
            <a:noFill/>
            <a:ln w="34920">
              <a:solidFill>
                <a:srgbClr val="ffff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2480" y="4941720"/>
              <a:ext cx="267480" cy="276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016000" y="4795920"/>
            <a:ext cx="2146320" cy="434880"/>
            <a:chOff x="2016000" y="4795920"/>
            <a:chExt cx="2146320" cy="434880"/>
          </a:xfrm>
        </p:grpSpPr>
        <p:sp>
          <p:nvSpPr>
            <p:cNvPr id="150" name=""/>
            <p:cNvSpPr/>
            <p:nvPr/>
          </p:nvSpPr>
          <p:spPr>
            <a:xfrm>
              <a:off x="2016000" y="4795920"/>
              <a:ext cx="2146320" cy="434880"/>
            </a:xfrm>
            <a:custGeom>
              <a:avLst/>
              <a:gdLst/>
              <a:ahLst/>
              <a:rect l="l" t="t" r="r" b="b"/>
              <a:pathLst>
                <a:path w="1352" h="274">
                  <a:moveTo>
                    <a:pt x="1352" y="117"/>
                  </a:moveTo>
                  <a:cubicBezTo>
                    <a:pt x="1283" y="102"/>
                    <a:pt x="1171" y="0"/>
                    <a:pt x="946" y="26"/>
                  </a:cubicBezTo>
                  <a:cubicBezTo>
                    <a:pt x="721" y="52"/>
                    <a:pt x="197" y="222"/>
                    <a:pt x="0" y="274"/>
                  </a:cubicBezTo>
                </a:path>
              </a:pathLst>
            </a:custGeom>
            <a:noFill/>
            <a:ln w="34920">
              <a:solidFill>
                <a:srgbClr val="ff0000"/>
              </a:solidFill>
              <a:round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06120" y="4797360"/>
              <a:ext cx="267480" cy="276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260360" y="3606840"/>
            <a:ext cx="3191040" cy="1393920"/>
            <a:chOff x="1260360" y="3606840"/>
            <a:chExt cx="3191040" cy="1393920"/>
          </a:xfrm>
        </p:grpSpPr>
        <p:sp>
          <p:nvSpPr>
            <p:cNvPr id="153" name=""/>
            <p:cNvSpPr/>
            <p:nvPr/>
          </p:nvSpPr>
          <p:spPr>
            <a:xfrm>
              <a:off x="1260360" y="3651120"/>
              <a:ext cx="3191040" cy="1349640"/>
            </a:xfrm>
            <a:custGeom>
              <a:avLst/>
              <a:gdLst/>
              <a:ahLst/>
              <a:rect l="l" t="t" r="r" b="b"/>
              <a:pathLst>
                <a:path w="2010" h="850">
                  <a:moveTo>
                    <a:pt x="2010" y="850"/>
                  </a:moveTo>
                  <a:cubicBezTo>
                    <a:pt x="1927" y="715"/>
                    <a:pt x="1845" y="80"/>
                    <a:pt x="1510" y="40"/>
                  </a:cubicBezTo>
                  <a:cubicBezTo>
                    <a:pt x="1175" y="0"/>
                    <a:pt x="315" y="491"/>
                    <a:pt x="0" y="610"/>
                  </a:cubicBezTo>
                </a:path>
              </a:pathLst>
            </a:custGeom>
            <a:noFill/>
            <a:ln w="34920">
              <a:solidFill>
                <a:srgbClr val="00ff00"/>
              </a:solidFill>
              <a:round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69760" y="3606840"/>
              <a:ext cx="267480" cy="276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70080" y="3459240"/>
            <a:ext cx="3268440" cy="1522440"/>
            <a:chOff x="1270080" y="3459240"/>
            <a:chExt cx="3268440" cy="1522440"/>
          </a:xfrm>
        </p:grpSpPr>
        <p:sp>
          <p:nvSpPr>
            <p:cNvPr id="156" name=""/>
            <p:cNvSpPr/>
            <p:nvPr/>
          </p:nvSpPr>
          <p:spPr>
            <a:xfrm>
              <a:off x="1270080" y="3459240"/>
              <a:ext cx="3268440" cy="1522440"/>
            </a:xfrm>
            <a:custGeom>
              <a:avLst/>
              <a:gdLst/>
              <a:ahLst/>
              <a:rect l="l" t="t" r="r" b="b"/>
              <a:pathLst>
                <a:path w="2059" h="959">
                  <a:moveTo>
                    <a:pt x="2059" y="959"/>
                  </a:moveTo>
                  <a:cubicBezTo>
                    <a:pt x="1989" y="808"/>
                    <a:pt x="1980" y="104"/>
                    <a:pt x="1637" y="52"/>
                  </a:cubicBezTo>
                  <a:cubicBezTo>
                    <a:pt x="1294" y="0"/>
                    <a:pt x="341" y="522"/>
                    <a:pt x="0" y="646"/>
                  </a:cubicBezTo>
                </a:path>
              </a:pathLst>
            </a:custGeom>
            <a:noFill/>
            <a:ln w="34920">
              <a:solidFill>
                <a:srgbClr val="00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01400" y="3573360"/>
              <a:ext cx="267480" cy="2764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135080" y="2079720"/>
            <a:ext cx="2367000" cy="2039760"/>
            <a:chOff x="1135080" y="2079720"/>
            <a:chExt cx="2367000" cy="2039760"/>
          </a:xfrm>
        </p:grpSpPr>
        <p:sp>
          <p:nvSpPr>
            <p:cNvPr id="159" name=""/>
            <p:cNvSpPr/>
            <p:nvPr/>
          </p:nvSpPr>
          <p:spPr>
            <a:xfrm>
              <a:off x="1135080" y="2079720"/>
              <a:ext cx="2367000" cy="2039760"/>
            </a:xfrm>
            <a:custGeom>
              <a:avLst/>
              <a:gdLst/>
              <a:ahLst/>
              <a:rect l="l" t="t" r="r" b="b"/>
              <a:pathLst>
                <a:path w="1491" h="1285">
                  <a:moveTo>
                    <a:pt x="1304" y="0"/>
                  </a:moveTo>
                  <a:cubicBezTo>
                    <a:pt x="1299" y="110"/>
                    <a:pt x="1491" y="447"/>
                    <a:pt x="1274" y="661"/>
                  </a:cubicBezTo>
                  <a:cubicBezTo>
                    <a:pt x="1057" y="875"/>
                    <a:pt x="265" y="1155"/>
                    <a:pt x="0" y="1285"/>
                  </a:cubicBezTo>
                </a:path>
              </a:pathLst>
            </a:custGeom>
            <a:noFill/>
            <a:ln w="34920">
              <a:solidFill>
                <a:srgbClr val="00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93400" y="2852640"/>
              <a:ext cx="267480" cy="2764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464440" y="5445000"/>
            <a:ext cx="26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7. Sends requested downlo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51000" y="2771640"/>
            <a:ext cx="4533840" cy="1627200"/>
            <a:chOff x="1251000" y="2771640"/>
            <a:chExt cx="4533840" cy="1627200"/>
          </a:xfrm>
        </p:grpSpPr>
        <p:sp>
          <p:nvSpPr>
            <p:cNvPr id="163" name=""/>
            <p:cNvSpPr/>
            <p:nvPr/>
          </p:nvSpPr>
          <p:spPr>
            <a:xfrm>
              <a:off x="1251000" y="2771640"/>
              <a:ext cx="4533840" cy="1627200"/>
            </a:xfrm>
            <a:custGeom>
              <a:avLst/>
              <a:gdLst/>
              <a:ahLst/>
              <a:rect l="l" t="t" r="r" b="b"/>
              <a:pathLst>
                <a:path w="2856" h="1025">
                  <a:moveTo>
                    <a:pt x="2856" y="0"/>
                  </a:moveTo>
                  <a:cubicBezTo>
                    <a:pt x="2628" y="64"/>
                    <a:pt x="1963" y="222"/>
                    <a:pt x="1487" y="393"/>
                  </a:cubicBezTo>
                  <a:cubicBezTo>
                    <a:pt x="1011" y="564"/>
                    <a:pt x="310" y="893"/>
                    <a:pt x="0" y="1025"/>
                  </a:cubicBezTo>
                </a:path>
              </a:pathLst>
            </a:custGeom>
            <a:noFill/>
            <a:ln w="34920">
              <a:solidFill>
                <a:srgbClr val="00ff00"/>
              </a:solidFill>
              <a:round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73040" y="3141720"/>
              <a:ext cx="267480" cy="276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93760" y="2039760"/>
            <a:ext cx="2499120" cy="2146320"/>
            <a:chOff x="1193760" y="2039760"/>
            <a:chExt cx="2499120" cy="2146320"/>
          </a:xfrm>
        </p:grpSpPr>
        <p:sp>
          <p:nvSpPr>
            <p:cNvPr id="166" name=""/>
            <p:cNvSpPr/>
            <p:nvPr/>
          </p:nvSpPr>
          <p:spPr>
            <a:xfrm>
              <a:off x="1193760" y="2039760"/>
              <a:ext cx="2378160" cy="2146320"/>
            </a:xfrm>
            <a:custGeom>
              <a:avLst/>
              <a:gdLst/>
              <a:ahLst/>
              <a:rect l="l" t="t" r="r" b="b"/>
              <a:pathLst>
                <a:path w="1498" h="1352">
                  <a:moveTo>
                    <a:pt x="1382" y="0"/>
                  </a:moveTo>
                  <a:cubicBezTo>
                    <a:pt x="1391" y="105"/>
                    <a:pt x="1498" y="482"/>
                    <a:pt x="1449" y="625"/>
                  </a:cubicBezTo>
                  <a:cubicBezTo>
                    <a:pt x="1400" y="768"/>
                    <a:pt x="1332" y="734"/>
                    <a:pt x="1091" y="855"/>
                  </a:cubicBezTo>
                  <a:cubicBezTo>
                    <a:pt x="850" y="976"/>
                    <a:pt x="227" y="1249"/>
                    <a:pt x="0" y="1352"/>
                  </a:cubicBezTo>
                </a:path>
              </a:pathLst>
            </a:custGeom>
            <a:noFill/>
            <a:ln w="34920">
              <a:solidFill>
                <a:srgbClr val="00ff00"/>
              </a:solidFill>
              <a:round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5400" y="2708280"/>
              <a:ext cx="267480" cy="276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270080" y="2617920"/>
            <a:ext cx="4486320" cy="1627200"/>
            <a:chOff x="1270080" y="2617920"/>
            <a:chExt cx="4486320" cy="1627200"/>
          </a:xfrm>
        </p:grpSpPr>
        <p:sp>
          <p:nvSpPr>
            <p:cNvPr id="169" name=""/>
            <p:cNvSpPr/>
            <p:nvPr/>
          </p:nvSpPr>
          <p:spPr>
            <a:xfrm>
              <a:off x="1270080" y="2617920"/>
              <a:ext cx="4486320" cy="1627200"/>
            </a:xfrm>
            <a:custGeom>
              <a:avLst/>
              <a:gdLst/>
              <a:ahLst/>
              <a:rect l="l" t="t" r="r" b="b"/>
              <a:pathLst>
                <a:path w="2826" h="1025">
                  <a:moveTo>
                    <a:pt x="2826" y="0"/>
                  </a:moveTo>
                  <a:cubicBezTo>
                    <a:pt x="2584" y="74"/>
                    <a:pt x="1848" y="272"/>
                    <a:pt x="1377" y="443"/>
                  </a:cubicBezTo>
                  <a:cubicBezTo>
                    <a:pt x="906" y="614"/>
                    <a:pt x="287" y="904"/>
                    <a:pt x="0" y="1025"/>
                  </a:cubicBezTo>
                </a:path>
              </a:pathLst>
            </a:custGeom>
            <a:noFill/>
            <a:ln w="34920">
              <a:solidFill>
                <a:srgbClr val="ffff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2120" y="2637000"/>
              <a:ext cx="267480" cy="276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970800" y="4965840"/>
            <a:ext cx="813240" cy="1002240"/>
            <a:chOff x="3970800" y="4965840"/>
            <a:chExt cx="813240" cy="1002240"/>
          </a:xfrm>
        </p:grpSpPr>
        <p:pic>
          <p:nvPicPr>
            <p:cNvPr id="172" name="" descr=""/>
            <p:cNvPicPr/>
            <p:nvPr/>
          </p:nvPicPr>
          <p:blipFill>
            <a:blip r:embed="rId11"/>
            <a:stretch/>
          </p:blipFill>
          <p:spPr>
            <a:xfrm>
              <a:off x="4140360" y="4965840"/>
              <a:ext cx="5918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2"/>
            <a:stretch/>
          </p:blipFill>
          <p:spPr>
            <a:xfrm>
              <a:off x="4230720" y="5018040"/>
              <a:ext cx="288720" cy="193680"/>
            </a:xfrm>
            <a:prstGeom prst="rect">
              <a:avLst/>
            </a:prstGeom>
            <a:ln w="34920">
              <a:solidFill>
                <a:srgbClr val="ff0000"/>
              </a:solidFill>
              <a:miter/>
            </a:ln>
          </p:spPr>
        </p:pic>
        <p:sp>
          <p:nvSpPr>
            <p:cNvPr id="174" name=""/>
            <p:cNvSpPr/>
            <p:nvPr/>
          </p:nvSpPr>
          <p:spPr>
            <a:xfrm>
              <a:off x="3970800" y="566100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Tahoma"/>
                </a:rPr>
                <a:t>Zomb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Spread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29000" y="3733920"/>
            <a:ext cx="5715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Infe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2147760"/>
            <a:ext cx="4114800" cy="3362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0" y="2147760"/>
            <a:ext cx="4114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Botnets – 0day Infections</a:t>
            </a:r>
            <a:br>
              <a:rPr sz="1200"/>
            </a:br>
            <a:r>
              <a:rPr b="1" lang="en-US" sz="1200" spc="-1" strike="noStrike">
                <a:solidFill>
                  <a:srgbClr val="e5e5ff"/>
                </a:solidFill>
                <a:latin typeface="Arial"/>
              </a:rPr>
              <a:t>Monthly stats</a:t>
            </a:r>
            <a:endParaRPr b="1" lang="en-US" sz="1200" spc="-1" strike="noStrike">
              <a:solidFill>
                <a:srgbClr val="e5e5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1295280"/>
          <a:ext cx="8458200" cy="5187960"/>
        </p:xfrm>
        <a:graphic>
          <a:graphicData uri="http://schemas.openxmlformats.org/drawingml/2006/table">
            <a:tbl>
              <a:tblPr/>
              <a:tblGrid>
                <a:gridCol w="2530440"/>
                <a:gridCol w="2070000"/>
                <a:gridCol w="1982880"/>
                <a:gridCol w="18748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spersk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04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.10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Sec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514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942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96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Vi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050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8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107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20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3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70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.9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Prot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6289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732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.0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Defend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200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33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Web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7897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028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14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8769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0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Pro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078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.66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Afe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779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83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09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011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9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xir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666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59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usBust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593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54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BA3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606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9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667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1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H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80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73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1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8:51:44Z</dcterms:created>
  <dc:creator>Rochefort</dc:creator>
  <dc:description/>
  <dc:language>en-US</dc:language>
  <cp:lastModifiedBy>User</cp:lastModifiedBy>
  <dcterms:modified xsi:type="dcterms:W3CDTF">2007-10-22T10:08:56Z</dcterms:modified>
  <cp:revision>58</cp:revision>
  <dc:subject/>
  <dc:title>The Shadowserver Foundation</dc:title>
</cp:coreProperties>
</file>