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BCF0-4CCF-4088-B821-5A96BBFF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5434-C248-420B-A605-7083B53E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1DC5-A776-4871-8E85-2263E5F4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0254-3C54-4414-94AA-960218F8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9BF0-70BD-4B69-BAFE-70437BDA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E5C8-0FA0-4308-88C0-533D63D8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BA0D-FAA1-4CB6-A148-572FBFFC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B2C8-4F0C-4D9C-BB7D-C24676DC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6A78-2E8C-4CD9-8C93-0EC7CF9E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A335-02A9-4767-B6BF-91DB5D8D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F6EA-17B3-4620-83E8-7190062D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B623-070F-4724-806B-113017A7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D9E3-59BC-445B-A0B5-05C4B86D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919F-FC94-4311-9E0F-27B38AB0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9840-4222-47AC-80FB-DD82DB60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3D4F-2DC3-484D-9A47-B6C1BA2D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84D5-6D09-4C5B-A933-F111D46D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3455-1062-4100-9622-494A3E03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2227-B09C-47AB-8130-4F141D4D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D672-C6B3-4BFA-82EC-CF9008D9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C4D4-266A-437C-8706-D7D8545B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3950-59C9-4634-B2A2-A6CAD3D4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3F93-803D-4991-A6B3-49D02366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BC92-F152-49D9-8DC9-D456A832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BF83-373A-40A0-811D-75C6A34849F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2A1A-35C7-41D8-BF40-7F11180AF30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ntlesecurity.com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racking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ndows Access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rey Kolishcha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www.gentlesecurity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ck.lu 200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Dem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Object 2"/>
          <p:cNvGraphicFramePr/>
          <p:nvPr/>
        </p:nvGraphicFramePr>
        <p:xfrm>
          <a:off x="611280" y="1725480"/>
          <a:ext cx="7777080" cy="42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25480"/>
                    <a:ext cx="7777080" cy="42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esting Fa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Service account is nearly the same as Local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S SQL service running as a unique user account can be elevated up to Local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service’s context could be elevated to Local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Service account has permissions to sniff network traf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truder can conduct attacks without introducing additional executabl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te shell via FTP tunnel is just 20 lines VBS scri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datory Integrity Levels (IL), 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Level is an ordered label that define trustworthy of running applications and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, Medium, High and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pped to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datory Policies restrict lower I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-Write-Up, No-Read-Up and No-Exec-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5"/>
          <a:stretch/>
        </p:blipFill>
        <p:spPr>
          <a:xfrm>
            <a:off x="1785960" y="4214880"/>
            <a:ext cx="50482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datory Integrity Levels (IL), 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Interface Privilege Isolation (UIP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E Protected M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explore.exe at Low, renders 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euser.exe at Medium, broker for privileged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4"/>
          <a:stretch/>
        </p:blipFill>
        <p:spPr>
          <a:xfrm>
            <a:off x="2000160" y="3714840"/>
            <a:ext cx="50482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oiting Integrity Levels, 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um IL assigned to all objects created at MI and above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objects, such as files, are sh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strict boundary between MI and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1809720" y="3929040"/>
            <a:ext cx="50482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oiting Integrity Levels, 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400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passing UIPI via automation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IAccess=”true” in the manif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sign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ProgramFiles% or %WinDir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or +16 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de-by-side DLL injection in writable a %ProgramFiles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um-16+16 = Me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SzPct val="11108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SzPct val="11108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oiting Integrity Levels, I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ulnerable bro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Info’s handle leak bug found by Skywing (fix in SP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passing IE’s Protected M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RPC interface might be aff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s are not enforced over the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-Read-Up is not used for files in the default configu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Integrity process may read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grity Levels Limi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rict security boundary enforced for Low Integrity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sage is limi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guration is restricted, requires re-design of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acity of Low Integrity pool is limited due to shared resources, e.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-mail database accessible by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-Application Access Contr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dimension in access control matrix, a process: PROCESS x USER x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e least privile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-complic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3"/>
          <a:stretch/>
        </p:blipFill>
        <p:spPr>
          <a:xfrm>
            <a:off x="4643280" y="2857680"/>
            <a:ext cx="324828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ressing The Complex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 permissions reposi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ral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ached to applications, e.g. manif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ding part of permissions behind a mandatory model, such 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Integrity Lev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-flow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le-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 into access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s access control weakn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ta mandatory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iting mandatory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-application access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99840"/>
            <a:ext cx="8400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cretional &amp; Mandatory Access Contr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retional Access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policy that depends on a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Control Lists (ACL) and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datory Access Control (M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policy decreed by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7"/>
          <a:stretch/>
        </p:blipFill>
        <p:spPr>
          <a:xfrm>
            <a:off x="1428840" y="1814400"/>
            <a:ext cx="61243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ows Access Control (DAC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ntrollable object has a list of assigned permissions (ACL), USER x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42960" y="2928960"/>
          <a:ext cx="3929040" cy="2124000"/>
        </p:xfrm>
        <a:graphic>
          <a:graphicData uri="http://schemas.openxmlformats.org/drawingml/2006/table">
            <a:tbl>
              <a:tblPr/>
              <a:tblGrid>
                <a:gridCol w="1309680"/>
                <a:gridCol w="1309680"/>
                <a:gridCol w="13096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_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_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USER_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E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WRI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USER_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EXECU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USER_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E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WRI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E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4929120" y="2928960"/>
            <a:ext cx="35816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ows DAC Weaknesses, 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ndence on proper user authent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engineering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aling authentication information and key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words brute-forcing and sniffing over the network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-logg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5143680" y="4143240"/>
            <a:ext cx="309528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ows DAC Weaknesses, 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erso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a server application to substitute its security identity by the identity of 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ation: server receives privileges of 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S + faked servers exposing RPC, named pipes, COM and other 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ulnerable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services are aff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ows DAC Weaknesses, I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42848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ity of ACLs configu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 permissions allow full access to Everyone, Users and Authenticated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 at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ected: Microsoft, Adobe, Macromedia, AOL, Novell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chk.exe users -wsu "%programfiles%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2"/>
          <a:stretch/>
        </p:blipFill>
        <p:spPr>
          <a:xfrm>
            <a:off x="1357200" y="3519360"/>
            <a:ext cx="612468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ows DAC Weaknesses, IV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329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or (owner) of object implicitly receives full permi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er may write object’s A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ssions rev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 injection in the processes run by the same user (NetworkService, LocalServ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ed in Windows V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wner Rights 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que service SID (requires updated serv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ows DAC Weaknesses, V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missions cannot be assigned to all objects, e.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sub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tter attack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WindowsH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ylogg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de inj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17" descr=""/>
          <p:cNvPicPr/>
          <p:nvPr/>
        </p:nvPicPr>
        <p:blipFill>
          <a:blip r:embed="rId4"/>
          <a:stretch/>
        </p:blipFill>
        <p:spPr>
          <a:xfrm>
            <a:off x="4357800" y="3643200"/>
            <a:ext cx="4324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21:47:05Z</dcterms:created>
  <dc:creator>andr</dc:creator>
  <dc:description/>
  <dc:language>en-US</dc:language>
  <cp:lastModifiedBy>andr</cp:lastModifiedBy>
  <dcterms:modified xsi:type="dcterms:W3CDTF">2007-10-20T18:19:04Z</dcterms:modified>
  <cp:revision>567</cp:revision>
  <dc:subject/>
  <dc:title>Cracking  Windows Access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037581033</vt:lpwstr>
  </property>
</Properties>
</file>