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CC02-606C-4D47-85D1-7F597367F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0920" y="3645360"/>
            <a:ext cx="8642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443A-598A-48A9-82EB-A7F9FDD9E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0920" y="3645360"/>
            <a:ext cx="4217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9280" y="3645360"/>
            <a:ext cx="4217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09F1-D239-4BC1-9E51-E0DD24977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2782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3040" y="1125360"/>
            <a:ext cx="2782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800" y="1125360"/>
            <a:ext cx="2782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50920" y="3645360"/>
            <a:ext cx="2782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3040" y="3645360"/>
            <a:ext cx="2782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4800" y="3645360"/>
            <a:ext cx="2782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DCC3-5C16-401E-AEC2-299EEEFA9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6986-FF29-4D80-9B84-975B931FA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9C9A-F63B-42D5-8493-9B4A37E18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7F16-6272-42A8-914F-9426B9E20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B767-B073-4BBC-B203-1E9035401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24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8005-8C55-453A-9BDE-DD7273D8C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0920" y="3645360"/>
            <a:ext cx="4217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BD25-5C58-4640-99CE-47AFC1EA1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9280" y="3645360"/>
            <a:ext cx="4217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3154-AC1E-45A5-807F-02A5D038B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0920" y="3645360"/>
            <a:ext cx="8642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781C-8073-48E2-9B25-3A5E746C8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6640"/>
            <a:ext cx="7524720" cy="0"/>
          </a:xfrm>
          <a:prstGeom prst="line">
            <a:avLst/>
          </a:prstGeom>
          <a:ln w="28440">
            <a:solidFill>
              <a:srgbClr val="00b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72320" y="114480"/>
            <a:ext cx="129564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297080" y="6183360"/>
            <a:ext cx="1403280" cy="67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79280" y="6308640"/>
            <a:ext cx="863640" cy="403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50920" y="112536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053200" y="6337080"/>
            <a:ext cx="98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395D-25D5-42C0-9EDB-3830AB08939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12"/>
          <a:stretch/>
        </p:blipFill>
        <p:spPr>
          <a:xfrm>
            <a:off x="4067280" y="6237360"/>
            <a:ext cx="2665440" cy="5508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3"/>
          <a:stretch/>
        </p:blipFill>
        <p:spPr>
          <a:xfrm>
            <a:off x="7164360" y="6237360"/>
            <a:ext cx="5238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Raphael.Frank@uni.lu" TargetMode="External"/><Relationship Id="rId2" Type="http://schemas.openxmlformats.org/officeDocument/2006/relationships/hyperlink" Target="http://wiki.uni.lu/Secan-Lab" TargetMode="External"/><Relationship Id="rId3" Type="http://schemas.openxmlformats.org/officeDocument/2006/relationships/hyperlink" Target="http://wiki.uni.lu/Secan-Lab" TargetMode="External"/><Relationship Id="rId4" Type="http://schemas.openxmlformats.org/officeDocument/2006/relationships/hyperlink" Target="http://wiki.uni.lu/Secan-Lab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6621480" cy="457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50920" y="5013000"/>
            <a:ext cx="2665440" cy="865080"/>
          </a:xfrm>
          <a:prstGeom prst="rect">
            <a:avLst/>
          </a:prstGeom>
          <a:noFill/>
          <a:ln w="38160">
            <a:solidFill>
              <a:srgbClr val="de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hael F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Octo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-3168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hentication &amp; Intrusion Prevention for Multi-Link Wirel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 new authentication protocol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934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y a new protoc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urity protocols for W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isting protocols do not meet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should the protocol prov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/Continuous” Authentic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eptabl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every participating node of WM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pology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the network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worthy mesh nod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sh Node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 Detection/Reac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9948-E33C-4EE6-B344-AA0CAEB95B6F}" type="slidenum">
              <a:t>10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 new authentication protocol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934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digital signatures to verify integrity and authen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authentication protocol using symmetric and asymmetric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the best properties in terms of security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800" spc="-1" strike="noStrike">
                <a:solidFill>
                  <a:srgbClr val="000000"/>
                </a:solidFill>
                <a:latin typeface="Arial"/>
              </a:rPr>
              <a:t>The administrator plays the role of the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400" spc="-1" strike="noStrike">
                <a:solidFill>
                  <a:srgbClr val="000000"/>
                </a:solidFill>
                <a:latin typeface="Arial"/>
              </a:rPr>
              <a:t>Provides the needed keys to th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5125-D5CC-4E70-BE09-364494C3C87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 new authentication protocol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934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the required ke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node is in pos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Secret Key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sym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 of the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lis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ing the allowed communication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initializ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fferent public/secret keys of neighbor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dure can be subdivided in two op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)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Initialization of a new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I)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Informati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0000" y="185112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fr-LU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fr-LU" sz="2000" spc="-1" strike="noStrike">
                <a:solidFill>
                  <a:srgbClr val="333399"/>
                </a:solidFill>
                <a:latin typeface="Arial"/>
              </a:rPr>
              <a:t> asym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5E54-5659-476B-B0DC-B8BA8423C00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 new authentication protocol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93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itialization of a new node (asymmetr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nts register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2400" y="2058840"/>
            <a:ext cx="1003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5520" y="2058840"/>
            <a:ext cx="91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2748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04000" y="20588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2058840"/>
            <a:ext cx="129672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191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24192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781360"/>
            <a:ext cx="889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ceiving no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if it is included in the node list (N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the signa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the Public Key of the 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rypts its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ecret 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ends it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 successful decryption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rypts its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ecret 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ends it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0588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9A7E-0F75-4F24-8E33-D5492921A1C1}" type="slidenum">
              <a:t>13</a:t>
            </a:fld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 new authentication protocol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93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itialization of a new node (asymme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nts register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308720" y="2060640"/>
            <a:ext cx="1008360" cy="3239640"/>
            <a:chOff x="7308720" y="2060640"/>
            <a:chExt cx="1008360" cy="3239640"/>
          </a:xfrm>
        </p:grpSpPr>
        <p:sp>
          <p:nvSpPr>
            <p:cNvPr id="106" name=""/>
            <p:cNvSpPr/>
            <p:nvPr/>
          </p:nvSpPr>
          <p:spPr>
            <a:xfrm>
              <a:off x="7308720" y="2060640"/>
              <a:ext cx="100836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ode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12000" y="2449440"/>
              <a:ext cx="0" cy="28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55640" y="314172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748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Broadcast: NL, Cert(A), SIG{[NL,Cert(A)], PrivK(Admin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5280" y="386064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494160"/>
            <a:ext cx="410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ENC{[Cert(B),K(B),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, PubK(A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4653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9560" y="4286160"/>
            <a:ext cx="313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ENC{[K(A),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, PubK(A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0920" y="2060640"/>
            <a:ext cx="1008000" cy="3239640"/>
            <a:chOff x="250920" y="2060640"/>
            <a:chExt cx="1008000" cy="3239640"/>
          </a:xfrm>
        </p:grpSpPr>
        <p:sp>
          <p:nvSpPr>
            <p:cNvPr id="115" name=""/>
            <p:cNvSpPr/>
            <p:nvPr/>
          </p:nvSpPr>
          <p:spPr>
            <a:xfrm>
              <a:off x="250920" y="2060640"/>
              <a:ext cx="1008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ode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3840" y="2449440"/>
              <a:ext cx="0" cy="28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4502-E3A6-4427-8935-011F5CC0B68C}" type="slidenum">
              <a:t>14</a:t>
            </a:fld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 new authentication protocol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8893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ormation transmission (symmetr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node needs to have the secret key of its neighbor nod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Signatu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ag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hentic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 (MAC) = Fingerprint encrypted using a secret ke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nts to send a message to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a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81760" y="4294080"/>
            <a:ext cx="66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69000" y="4294080"/>
            <a:ext cx="131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451008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67640" y="4294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0920" y="4294080"/>
            <a:ext cx="136224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0560" y="47196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to be trans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4287960"/>
            <a:ext cx="5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4149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via nod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611C-B760-4480-85F8-2308C6287F6F}" type="slidenum">
              <a:t>15</a:t>
            </a:fld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 new authentication protocol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89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ormation transmission (symmetr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 verification and newly generated at every hop of the transmissio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fferent Timestamp guarantees a different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332000" y="4005360"/>
            <a:ext cx="3240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332000" y="4724280"/>
            <a:ext cx="32400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2925720"/>
            <a:ext cx="1008000" cy="2518920"/>
            <a:chOff x="826920" y="2925720"/>
            <a:chExt cx="1008000" cy="2518920"/>
          </a:xfrm>
        </p:grpSpPr>
        <p:sp>
          <p:nvSpPr>
            <p:cNvPr id="132" name=""/>
            <p:cNvSpPr/>
            <p:nvPr/>
          </p:nvSpPr>
          <p:spPr>
            <a:xfrm>
              <a:off x="826920" y="2925720"/>
              <a:ext cx="1008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ode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30200" y="3314520"/>
              <a:ext cx="1440" cy="21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068720" y="2924280"/>
            <a:ext cx="1008000" cy="2518920"/>
            <a:chOff x="4068720" y="2924280"/>
            <a:chExt cx="1008000" cy="2518920"/>
          </a:xfrm>
        </p:grpSpPr>
        <p:sp>
          <p:nvSpPr>
            <p:cNvPr id="135" name=""/>
            <p:cNvSpPr/>
            <p:nvPr/>
          </p:nvSpPr>
          <p:spPr>
            <a:xfrm>
              <a:off x="4068720" y="2924280"/>
              <a:ext cx="1008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ode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3313080"/>
              <a:ext cx="1440" cy="21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308720" y="2924280"/>
            <a:ext cx="1008000" cy="2518920"/>
            <a:chOff x="7308720" y="2924280"/>
            <a:chExt cx="1008000" cy="2518920"/>
          </a:xfrm>
        </p:grpSpPr>
        <p:sp>
          <p:nvSpPr>
            <p:cNvPr id="138" name=""/>
            <p:cNvSpPr/>
            <p:nvPr/>
          </p:nvSpPr>
          <p:spPr>
            <a:xfrm>
              <a:off x="7308720" y="2924280"/>
              <a:ext cx="1008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ode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12000" y="3313080"/>
              <a:ext cx="1440" cy="21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V="1">
            <a:off x="4572000" y="4005360"/>
            <a:ext cx="3240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572000" y="4724280"/>
            <a:ext cx="32400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3524400"/>
            <a:ext cx="3311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MSG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IG{(MSG,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K(A)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524400"/>
            <a:ext cx="338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MSG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IG{(MSG,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K(B)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4245120"/>
            <a:ext cx="3311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MSG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IG{(MSG,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K(B)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245120"/>
            <a:ext cx="3457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MSG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IG{(MSG,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K(C)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B354-5F0E-4FEB-A71D-5C8880CD8170}" type="slidenum">
              <a:t>16</a:t>
            </a:fld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 new authentication protocol 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to create trustworthy n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guarantee that a attacker cannot retrieve the sensitive data (Keys, Nodelist, …) form a mes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sh Node 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attacker gains access to a node, the keys are erased a replaced by dummy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eq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ighbor nodes will fail to verify the messages form the attacked node and drop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 attack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de is automatically excluded form the W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F6C9-293B-4DEE-9960-7135D1214748}" type="slidenum">
              <a:t>17</a:t>
            </a:fld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6000" y="2421000"/>
            <a:ext cx="8604000" cy="1692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 new authentication protocol 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8CCC-5C97-4A99-81BC-2301DAFE64B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Analysi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urity &amp; Performan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ble performance :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ymmetric signa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authentication :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node participating in a communication is authen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the traffic :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rce of every message i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worthy mesh nodes :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Node 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 Detection and Reaction :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 Nodes are detected and excluded form the W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DAF0-B349-4D72-A6F3-EABFA989A364}" type="slidenum">
              <a:t>19</a:t>
            </a:fld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6553080" cy="4527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68360" y="1557360"/>
            <a:ext cx="6551640" cy="380880"/>
            <a:chOff x="2268360" y="1557360"/>
            <a:chExt cx="6551640" cy="380880"/>
          </a:xfrm>
        </p:grpSpPr>
        <p:sp>
          <p:nvSpPr>
            <p:cNvPr id="52" name=""/>
            <p:cNvSpPr/>
            <p:nvPr/>
          </p:nvSpPr>
          <p:spPr>
            <a:xfrm>
              <a:off x="2268360" y="1557360"/>
              <a:ext cx="360720" cy="380880"/>
            </a:xfrm>
            <a:prstGeom prst="rect">
              <a:avLst/>
            </a:prstGeom>
            <a:solidFill>
              <a:srgbClr val="004068"/>
            </a:solidFill>
            <a:ln w="0">
              <a:noFill/>
            </a:ln>
            <a:effectLst>
              <a:outerShdw dist="17819" dir="2700000" blurRad="0" rotWithShape="0">
                <a:srgbClr val="00263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DKFrutiger-Bold80H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5520" y="1557360"/>
              <a:ext cx="605448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4068"/>
                  </a:solidFill>
                  <a:latin typeface="Wingdings"/>
                  <a:ea typeface="Wingdings"/>
                </a:rPr>
                <a:t>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Int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68360" y="2133720"/>
            <a:ext cx="6551640" cy="380880"/>
            <a:chOff x="2268360" y="2133720"/>
            <a:chExt cx="6551640" cy="380880"/>
          </a:xfrm>
        </p:grpSpPr>
        <p:sp>
          <p:nvSpPr>
            <p:cNvPr id="55" name=""/>
            <p:cNvSpPr/>
            <p:nvPr/>
          </p:nvSpPr>
          <p:spPr>
            <a:xfrm>
              <a:off x="2268360" y="2133720"/>
              <a:ext cx="360720" cy="380880"/>
            </a:xfrm>
            <a:prstGeom prst="rect">
              <a:avLst/>
            </a:prstGeom>
            <a:solidFill>
              <a:srgbClr val="004068"/>
            </a:solidFill>
            <a:ln w="0">
              <a:noFill/>
            </a:ln>
            <a:effectLst>
              <a:outerShdw dist="17819" dir="2700000" blurRad="0" rotWithShape="0">
                <a:srgbClr val="00263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DKFrutiger-Bold80H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65520" y="2133720"/>
              <a:ext cx="605448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4068"/>
                  </a:solidFill>
                  <a:latin typeface="Wingdings"/>
                  <a:ea typeface="Wingdings"/>
                </a:rPr>
                <a:t>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Authentication in WMN using exisitng protoc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268360" y="2708280"/>
            <a:ext cx="6551640" cy="380880"/>
            <a:chOff x="2268360" y="2708280"/>
            <a:chExt cx="6551640" cy="380880"/>
          </a:xfrm>
        </p:grpSpPr>
        <p:sp>
          <p:nvSpPr>
            <p:cNvPr id="58" name=""/>
            <p:cNvSpPr/>
            <p:nvPr/>
          </p:nvSpPr>
          <p:spPr>
            <a:xfrm>
              <a:off x="2268360" y="2708280"/>
              <a:ext cx="360720" cy="380880"/>
            </a:xfrm>
            <a:prstGeom prst="rect">
              <a:avLst/>
            </a:prstGeom>
            <a:solidFill>
              <a:srgbClr val="004068"/>
            </a:solidFill>
            <a:ln w="0">
              <a:noFill/>
            </a:ln>
            <a:effectLst>
              <a:outerShdw dist="17819" dir="2700000" blurRad="0" rotWithShape="0">
                <a:srgbClr val="00263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DKFrutiger-Bold80H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65520" y="2708280"/>
              <a:ext cx="605448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4068"/>
                  </a:solidFill>
                  <a:latin typeface="Wingdings"/>
                  <a:ea typeface="Wingdings"/>
                </a:rPr>
                <a:t>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Emerging Security Issu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68360" y="3335400"/>
            <a:ext cx="6551640" cy="380880"/>
            <a:chOff x="2268360" y="3335400"/>
            <a:chExt cx="6551640" cy="380880"/>
          </a:xfrm>
        </p:grpSpPr>
        <p:sp>
          <p:nvSpPr>
            <p:cNvPr id="61" name=""/>
            <p:cNvSpPr/>
            <p:nvPr/>
          </p:nvSpPr>
          <p:spPr>
            <a:xfrm>
              <a:off x="2268360" y="3335400"/>
              <a:ext cx="360720" cy="380880"/>
            </a:xfrm>
            <a:prstGeom prst="rect">
              <a:avLst/>
            </a:prstGeom>
            <a:solidFill>
              <a:srgbClr val="004068"/>
            </a:solidFill>
            <a:ln w="0">
              <a:noFill/>
            </a:ln>
            <a:effectLst>
              <a:outerShdw dist="17819" dir="2700000" blurRad="0" rotWithShape="0">
                <a:srgbClr val="00263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DKFrutiger-Bold80H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5520" y="3335400"/>
              <a:ext cx="605448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4068"/>
                  </a:solidFill>
                  <a:latin typeface="Wingdings"/>
                  <a:ea typeface="Wingdings"/>
                </a:rPr>
                <a:t>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Authentication protocol based on WMN propert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268360" y="3984480"/>
            <a:ext cx="6551640" cy="380880"/>
            <a:chOff x="2268360" y="3984480"/>
            <a:chExt cx="6551640" cy="380880"/>
          </a:xfrm>
        </p:grpSpPr>
        <p:sp>
          <p:nvSpPr>
            <p:cNvPr id="64" name=""/>
            <p:cNvSpPr/>
            <p:nvPr/>
          </p:nvSpPr>
          <p:spPr>
            <a:xfrm>
              <a:off x="2268360" y="3984480"/>
              <a:ext cx="360720" cy="380880"/>
            </a:xfrm>
            <a:prstGeom prst="rect">
              <a:avLst/>
            </a:prstGeom>
            <a:solidFill>
              <a:srgbClr val="004068"/>
            </a:solidFill>
            <a:ln w="0">
              <a:noFill/>
            </a:ln>
            <a:effectLst>
              <a:outerShdw dist="17819" dir="2700000" blurRad="0" rotWithShape="0">
                <a:srgbClr val="00263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DKFrutiger-Bold80H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65520" y="3984480"/>
              <a:ext cx="605448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4068"/>
                  </a:solidFill>
                  <a:latin typeface="Wingdings"/>
                  <a:ea typeface="Wingdings"/>
                </a:rPr>
                <a:t>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Security Analys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268360" y="4581360"/>
            <a:ext cx="6551640" cy="380880"/>
            <a:chOff x="2268360" y="4581360"/>
            <a:chExt cx="6551640" cy="380880"/>
          </a:xfrm>
        </p:grpSpPr>
        <p:sp>
          <p:nvSpPr>
            <p:cNvPr id="67" name=""/>
            <p:cNvSpPr/>
            <p:nvPr/>
          </p:nvSpPr>
          <p:spPr>
            <a:xfrm>
              <a:off x="2268360" y="4581360"/>
              <a:ext cx="360720" cy="380880"/>
            </a:xfrm>
            <a:prstGeom prst="rect">
              <a:avLst/>
            </a:prstGeom>
            <a:solidFill>
              <a:srgbClr val="004068"/>
            </a:solidFill>
            <a:ln w="0">
              <a:noFill/>
            </a:ln>
            <a:effectLst>
              <a:outerShdw dist="17819" dir="2700000" blurRad="0" rotWithShape="0">
                <a:srgbClr val="00263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DKFrutiger-Bold80H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65520" y="4581360"/>
              <a:ext cx="605448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4068"/>
                  </a:solidFill>
                  <a:latin typeface="Wingdings"/>
                  <a:ea typeface="Wingdings"/>
                </a:rPr>
                <a:t>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4068"/>
                  </a:solidFill>
                  <a:latin typeface="Arial"/>
                </a:rPr>
                <a:t>Conclu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EB73-3A68-4B04-A906-926A35813BD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Analysi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ther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play attacks using time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ngle point of fail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entralized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Spoofing/Injection no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L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acker does not know the needed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n in the Middle Attack can be used to perform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attacker modifies a transient message, it will be disc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44B0-3FE8-4922-B3DA-8F14AD36C1BE}" type="slidenum">
              <a:t>20</a:t>
            </a:fld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’s 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authentic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a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/User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administratio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ly reintroduce attacked node into the W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k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and Performance on WMN need to be considered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a security standard for W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9E14-C60C-4CDF-8E64-5E6971B9CD3C}" type="slidenum">
              <a:t>21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42160" cy="187164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phael.Frank@uni.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.uni.lu</a:t>
            </a:r>
            <a:r>
              <a:rPr b="0" lang="fr-L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fr-L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can-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57FC-29BF-45E5-97E4-EBAE93FD658B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" y="1125360"/>
            <a:ext cx="532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Wireless Mesh Network (WM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h No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vices with at least two radio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nodes form together a wireless network (Ad-H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interface (AP) is used by mobile clients to connect to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t Spots (H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esh Nodes equipped with a wired internet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ent Access Points (TA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esh Nodes without wired internet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nternet Access to Mobile Clients by using the WMN as a backh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4572000" y="2205000"/>
            <a:ext cx="4392720" cy="297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A5D4-D5E6-41FF-8477-154B869DD039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6036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on in WMN using existing protocol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13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on protocols for the State of the Art of Wirel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EEE 802.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WiFi standard released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Data encryption and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EEE 802.11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cent security standard released i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robust data encryption and includes an external authentica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EC49-E209-48AB-81A4-BCC377D8AC39}" type="slidenum">
              <a:t>4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6036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on in WMN using existing protocol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896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oco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val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acy (WEP), based on shared-key (Key length 64 or 128 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the knowledge of the shared-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urity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Eavesdropp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Message Modific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 Contro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aknesses – None of the security goals are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stream reu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C attack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Spoof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4E51-2518-4A24-A012-5525417C3E81}" type="slidenum">
              <a:t>5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6036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on in WMN using existing protocol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896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EEE 802.11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cry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toco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ec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ess 1 &amp; 2 (WPA1 &amp; WPA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obust securit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hent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formed using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tensi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hentic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ocol (E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a centralize authentication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authentication possibilities (EAP meth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1FF4-AEFD-4C3E-98DE-081F2AD883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6036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on in WMN using existing protocols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6000" y="1557360"/>
            <a:ext cx="8604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nsible Authentication Protocol (E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wireless and fix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Based Network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about 40 different EAP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d methods : EAP-TLS, EAP-TT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2050920" y="3933720"/>
            <a:ext cx="4608720" cy="21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5409-EF50-4BFA-AD75-CA68FF31C9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erging Security iss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360" y="1197000"/>
            <a:ext cx="9361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blems with the standard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developed for the State of the Art of Wirel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only for the first wireless lin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End-To-En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 data encryption after the first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 Layer 2 authentication after the first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int of failure: Centralized Authentication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h nodes cannot be considered as 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pology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7015-D634-4442-AB09-11638C3964F3}" type="slidenum">
              <a:t>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2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erging Security iss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the problems related to the architecture of a WM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h nodes cannot be considered as 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often deployed in a hostil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ttacker can spoof and/or take over a mesh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pology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ttacker can easily inject a malicious node into the W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 access to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i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vice (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SzPct val="11428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dle Attacks (Mit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2B87-E36E-4839-9305-D2B4976199C5}" type="slidenum">
              <a:t>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15:01:58Z</dcterms:created>
  <dc:creator>Isabell Himbert</dc:creator>
  <dc:description/>
  <dc:language>en-US</dc:language>
  <cp:lastModifiedBy>Raph!</cp:lastModifiedBy>
  <dcterms:modified xsi:type="dcterms:W3CDTF">2007-10-20T09:19:44Z</dcterms:modified>
  <cp:revision>263</cp:revision>
  <dc:subject/>
  <dc:title>Folie 1</dc:title>
</cp:coreProperties>
</file>