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1DE-2E9A-4A59-B355-83099E1E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E6D-496A-4EBD-A713-00A31D2A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F05-66E0-4D5C-99A9-E89E135F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997-1B1B-4EFF-97DE-6D46CAC6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AB1-52AF-4304-A727-FF138D35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C6E-C794-414C-A64B-AAD5DAA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43E2-0372-4128-9494-0AAA9A55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655F-1503-4B16-82B8-7225CF39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9B5-5B3B-401D-973A-ED51263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F31B-0FDE-42F0-8024-894FB1D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A09-BE98-4246-902C-B86F65A3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171-4FA2-4CE7-A678-FE0EFF0F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E53-F9DC-4B62-A798-A6C1AEC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E28-BF4D-4678-A3D4-D5EA858C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D10-8155-4500-98E5-3F87FA7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9FAC-DB26-475D-92EB-0030A731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4805-1089-4DF8-9D6E-8C764329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61E-0596-45F3-B9D6-47F55BE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91D-63BC-4E2B-8BA8-1E7C91BF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722-9DCD-4C30-8294-AE6532C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7B3-A6A6-4EA8-B98F-529F20F2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0CF-A8C8-4373-8D01-71F6AF5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4B0-D6BD-46F9-9B21-D707951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2F6-C61A-4ACA-8C91-07684C4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B7A3-29CC-49C7-8393-59B1F1B8A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F30-5A35-415A-BD4D-0F9A67FA58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ritical Danger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Cross Site Scripting Attacks for People Who Do not Know what Cross Site Scripting Attack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gnaling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ssion Initiation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CII text protocol designed by Internet crun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tard child of HTTP and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a decade 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began in 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considered “emerg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ly used for new deploy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used VoIP protocol on the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P Mess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est or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bout th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media stream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ssion Description Protoc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rt 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est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based reques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ITE, BYE, REGISTER, etc.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e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code + reason (smells like HT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04 Not Found, 403 Forbid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H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P H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: 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: 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cts: 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-Forw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d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ert-Inf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Agents / Termi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 phones, Hard phones, Voice Mail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x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y/Exit points to a VoIP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uthenticatio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rs, Gatekee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URIs to I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Gateways, Signaling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reaking 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of Phr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038480" y="3352680"/>
            <a:ext cx="4191120" cy="321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ed in the 196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ited in-band sign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d heavily on hardware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ous Phrea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 Jo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 Wozni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’n Cru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3526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3220920" cy="3309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957240" y="141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band signaling @ 2600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ally used for toll-fra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colour boxing er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 box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box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ath of Phrea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 of band sign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gressive prosecution of phrea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fraud analysis complements improving technical 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m not dead yet… I’m feeling better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rth of VoIPhre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IPhreaking 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s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to Brow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onesian spice tra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tch East India Comp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ys, Movie and other…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wser Attacks Visu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 only 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ckers enjoy exploring new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ing to the PSTN after being expelled in the 9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vesdr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ing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j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vesdr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TN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G intr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IPhis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of VoIPhreaking attacks for phi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vesting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 numbers and access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 identification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e range of possible exploitation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 to see these in the news next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not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ersonating a ba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er ID spoo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ja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UM pois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 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 in the 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stream mani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j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UM Pois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UM database used to route VoIP calls more chea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a false entry for a financial i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unt the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ier level SIP Registrar mapping mani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irect inbound calls to an evil call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jacking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 in the middle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ipulate media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d call streams to multiple 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ling mani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reate false conference ca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happen anywhere between the customer and the 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stream mani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content to existing call str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and Improved, Internet Teleph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hone calls as secure as emai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ling a number doesn’t mean you’ll get that p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you hear on a phone call might be more than was s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stions &amp; Answ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oIPhreak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Phallis Unve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ug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P Abstr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r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Phr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Phi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ce/Video over Internet Protocol (VoIP) is h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gq is ho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years of security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ing on VoIP security since for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zzy hairc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P is a serious security thr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practices are still emer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loyment isn’t waiting for security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IP Abstract 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ality Real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Su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IP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mechanism for people to communicate ove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time multimedia ex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velopment since early 199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ndwidth and services finally make it economically fea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is the major driver for VoIP deploy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ity Real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tup, location, tear down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str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TN inte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phone to Internet traver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ation, media conversion, signaling propag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ocol Sui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Initiation Protocol (S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Time Protocol (R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ported over UD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TN Inte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Gateway Control Protocol (MGC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16:12Z</dcterms:created>
  <dc:creator>the grugq</dc:creator>
  <dc:description/>
  <dc:language>en-US</dc:language>
  <cp:lastModifiedBy>the grugq</cp:lastModifiedBy>
  <dcterms:modified xsi:type="dcterms:W3CDTF">2006-09-21T10:22:58Z</dcterms:modified>
  <cp:revision>26</cp:revision>
  <dc:subject/>
  <dc:title>VoIPhreaking</dc:title>
</cp:coreProperties>
</file>