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E05-34F5-42AD-A27D-22CED84E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0B7-497D-465E-A975-96131695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7D9-0E5A-4A20-AD54-58230C21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9FE-252E-4C86-B1B3-33B2A0FF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2C1-B5E2-4719-ACEA-87394759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9AD-0504-4BEB-B262-C5C067ED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584-365A-460C-BF05-214474E1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841-A7F8-49AD-AEA8-66D1C25A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870-9EC7-4148-9B3F-2459D6D2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3DE-8D88-4901-AB53-CF404AF6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B14-A533-46F7-B2BB-7C0ABEB3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9FD-8F1B-4B5C-8A0E-2FABAC88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C5B6-FAA8-4A46-B052-B83C1182A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ff"/>
                </a:solidFill>
                <a:latin typeface="Arial"/>
              </a:rPr>
              <a:t>Secure Programming Traps and Pitfalls – The Broken File Shredd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tse Ven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T.J.Watson Research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thorne,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hat can go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gram fails to overwrite the target file content multiple tim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gram fails to overwrite the target at 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gram overwrites something other than the target file cont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ess what :-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orensic tools to access (deleted) fil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71720" y="205596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70280" y="373212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0280" y="55609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057400"/>
            <a:ext cx="2209680" cy="9144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82840" y="3581280"/>
            <a:ext cx="219708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82840" y="4038480"/>
            <a:ext cx="219708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s, ext3f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82840" y="4495680"/>
            <a:ext cx="219708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562720"/>
            <a:ext cx="219708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057400"/>
            <a:ext cx="213336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29718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86040" y="47242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2767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181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roner’s Toolkit discovery</a:t>
            </a:r>
            <a:br>
              <a:rPr sz="44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(Note: details are specific to RedHat 6 Ext2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oot test]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 -il shred.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 the file with its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98547 -rw-rw-r--   1 jharlan  jharlan        17 Oct 10 08:25 shred.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oot test]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at /dev/hda5 129854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the file by fil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ed this pup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oot test]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red shred.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write and delete th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sure you want to delete shred.me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bytes have been overwrit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le shred.me has been destroy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oot test]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at /dev/hda5 12985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deleted file by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ed this pu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ata is still ther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oot test]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: http://www.securityfocus.com/archive/1/138706 and follow-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982880"/>
            <a:ext cx="776916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elayed file system wr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3320" y="2362320"/>
            <a:ext cx="2481840" cy="459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e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0800" y="3505320"/>
            <a:ext cx="2501640" cy="8254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/fil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6240" y="5029200"/>
            <a:ext cx="1467000" cy="459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90720" y="285120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3360" y="4378320"/>
            <a:ext cx="3457440" cy="485640"/>
          </a:xfrm>
          <a:prstGeom prst="leftArrowCallout">
            <a:avLst>
              <a:gd name="adj1" fmla="val 24836"/>
              <a:gd name="adj2" fmla="val 37907"/>
              <a:gd name="adj3" fmla="val 66744"/>
              <a:gd name="adj4" fmla="val 8505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..but no file I/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90720" y="437832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2895480"/>
            <a:ext cx="3456000" cy="486000"/>
          </a:xfrm>
          <a:prstGeom prst="leftArrowCallout">
            <a:avLst>
              <a:gd name="adj1" fmla="val 24836"/>
              <a:gd name="adj2" fmla="val 37907"/>
              <a:gd name="adj3" fmla="val 66667"/>
              <a:gd name="adj4" fmla="val 8505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ts of file I/O 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ile shredder problem #1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ailure to overwrite repeated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delayed writes, the shred program repeatedly overwrite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-memor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 of the file, instead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n-dis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p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patter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write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657600"/>
            <a:ext cx="335268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ile shredder problem #2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ailure to overwrite even o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delayed writes, the file system discard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-memo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pdates when the file is de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n-dis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py is never even updated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patter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write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ve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343400"/>
            <a:ext cx="33526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ile shredder problem #3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Overwriting the wro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 may overwrite the wrong data block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pen(path,”w”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ncates the file to zero length, and the file system may allocate different blocks for the new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(fp = fopen(filename, “w”))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error..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count = 0; count &lt; file_size; count += BUFFER_SI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write(buffer, BUFFER_SIZE, 1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lose(fp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XXX no error check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038480"/>
            <a:ext cx="609588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Fixing” the file shredder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fp = fopen(filename, “r+”)) == NUL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n for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error..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count = 0; count &lt; file_size; count += BUFFER_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write(buffer, BUFFER_SIZE, 1, f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fflush(fp) != 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lication buffer =&gt;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error..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fsync(fileno(fp)) != 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rnel buffer =&gt;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error..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fclose(fp) != 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 only then close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error..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Limitations of file shred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caches in disk drives and/or disk controllers may ignore all but the last overwrite ope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magnetic disks (flash, NVRAM) try to avoid overwriting the same bits repeatedly and instead create multiple copies of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shredded: temporary copies from text editors, printer spoolers, mail clients; swap fi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wait, there is more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Limitations of file shred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le system may relocate a file block when it is updated, to reduce file fragm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urnaling file systems may create additional temporary copies of data (Ext3f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ournal=da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-on-write file systems (like Solaris ZFS) never overwrite a disk block that is “in use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e of these problems exist with file systems that encrypt each file with its own encryption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happens when a (UNIX) file is de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ic disks remember overwritten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he file shredding program wor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he file shredding program failed to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ing” the file shredding 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tions of file shredding soft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untold number of problems can hide in code that appears to be perfectly reason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assume, verif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zations in operating systems and in hardware invalidate the program comple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raw disk blocks (network packets, etc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we solving the right problem? Zero filling free disk space (and all swap!) may be more effec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UNIX file 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597040"/>
            <a:ext cx="1752480" cy="5335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         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9120"/>
            <a:ext cx="1752480" cy="5331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657600"/>
            <a:ext cx="1752480" cy="5335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so on.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1590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3640" y="19051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 /home/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6400" y="236232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7242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#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2670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file/dir/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3526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erm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51814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8954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/group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2666880"/>
            <a:ext cx="9907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508640"/>
            <a:ext cx="17524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5715000"/>
            <a:ext cx="17524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5118120"/>
            <a:ext cx="17524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0132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952880"/>
            <a:ext cx="9907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1055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8098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tamp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6386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ize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480" y="228600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ename         i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eleting a (UNIX) file destroys structure not 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595600"/>
            <a:ext cx="1752480" cy="5335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         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129120"/>
            <a:ext cx="1752480" cy="5331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657600"/>
            <a:ext cx="1752480" cy="5335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so on.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1560" y="1590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3640" y="19051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 /home/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6400" y="236232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72428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#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426708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=file/dir/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33526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erm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518148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coun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8954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/group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666880"/>
            <a:ext cx="990720" cy="533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08640"/>
            <a:ext cx="17524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5715000"/>
            <a:ext cx="17524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5118120"/>
            <a:ext cx="17524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40132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8006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952880"/>
            <a:ext cx="99072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1055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809880"/>
            <a:ext cx="22860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160" y="606096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change time = time of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563868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ize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0480" y="556272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595600"/>
            <a:ext cx="1066680" cy="5335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228456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ename         i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Unicode MS"/>
              </a:rPr>
              <a:t>Persistence of delet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eted file attributes and content persist in unallocated disk bloc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written data persists as tiny modulations on newer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is digital, but storage is analo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Gutmann’s papers: http://www.cryptoapps.com/~peter/usenix01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ttp://www.cs.auckland.ac.nz/~pgut001/pubs/secure_del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 magnetic surface scan pix at http://www.veeco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6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voiding data recovery from magnetic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ase sensitive data before deleting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rase, repeatedly reverse the direction of magnetization. Simplistically, wri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on magnetic disks is encoded to get higher capacity and reliability (MFM, RLL, PRML, ...). Optimal overwrite patterns depend on encod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m = modified frequency modulation; rll = run length limit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l = partial response maximum 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ile shredder pseudo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525780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* Generic overwriting patterns. *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terns = (10101010, 01010101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001100, 00110011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110000, 00001111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0000000, 11111111, rando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patter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write file with patter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ve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ile shredder code, paraphra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63244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overwrite(char *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ount, file_size = filesize(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(fp = fopen(filename, “w”))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error..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count = 0; count &lt; file_size; count += BUFFER_SI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write(buffer, BUFFER_SIZE, 1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lose(fp); /* XXX no error check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cou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14:16:28Z</dcterms:created>
  <dc:creator>wietse</dc:creator>
  <dc:description/>
  <dc:language>en-US</dc:language>
  <cp:lastModifiedBy>Wietse Venema</cp:lastModifiedBy>
  <cp:lastPrinted>2003-09-04T21:28:22Z</cp:lastPrinted>
  <dcterms:modified xsi:type="dcterms:W3CDTF">2006-10-04T00:59:02Z</dcterms:modified>
  <cp:revision>132</cp:revision>
  <dc:subject/>
  <dc:title>The broken file shredder</dc:title>
</cp:coreProperties>
</file>