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A6F7E-A947-4716-9CEA-7DDCE4290E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587-B190-42AB-A5A3-846FA0A5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16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811400"/>
            <a:ext cx="82216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ED6-91DF-41DA-A85E-518DF6AB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92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81140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920" y="481140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58A-A91B-4A79-BCFD-FD4C653C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120" y="160452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6680" y="160452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81140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120" y="481140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6680" y="481140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FBD-A7BC-49F3-BD56-A6F2FF3B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E9DB-B2E4-43AB-9D8A-DEDE4B74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16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521F-28FD-4E8F-83E4-22957AB4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16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957C-4050-48E2-A49E-E3137137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184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4520"/>
            <a:ext cx="401184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4F9B-8EEF-4EC1-A267-1BCE87A4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ED39-9FA2-44A0-BE44-295F401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0720" y="1563840"/>
            <a:ext cx="7077240" cy="116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9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689E-391B-4F8F-8C31-E13A6835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4520"/>
            <a:ext cx="401184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81140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C373-A828-4660-A803-20200F9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16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1FC-C821-443D-83B3-D02D92C5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184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9920" y="481140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C8D5-4093-4B94-8D12-B1B8BE5B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811400"/>
            <a:ext cx="82216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288A-0F2E-4B4D-935B-94C9C5A1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16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811400"/>
            <a:ext cx="82216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865B-DE05-46E7-965F-816AC175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81140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9920" y="481140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FEC7-C17E-485B-8CF5-D3CC6882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120" y="160452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6680" y="160452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81140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120" y="481140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6680" y="4811400"/>
            <a:ext cx="26470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ABE6-ECAC-4AF7-8B2A-60A1A03B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16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68F-CFEE-4A02-88EC-28046B35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184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604520"/>
            <a:ext cx="401184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4FC-58C0-4396-958C-7F30F619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94E-D02D-48C5-9E93-0CD9AAF7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0720" y="1563840"/>
            <a:ext cx="7077240" cy="116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9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95A-3779-453E-8C27-2137DA95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520"/>
            <a:ext cx="401184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81140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31E-0F33-4690-B97D-F5E81520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184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920" y="481140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865-1574-4AF3-B737-D38BD9A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604520"/>
            <a:ext cx="401184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811400"/>
            <a:ext cx="82216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0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8EE-930E-43E8-9076-69FACEFF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76448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64480" cy="62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64240" indent="-264240">
              <a:lnSpc>
                <a:spcPct val="209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580680" indent="-219240">
              <a:lnSpc>
                <a:spcPct val="209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02880" indent="-180360">
              <a:lnSpc>
                <a:spcPct val="209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263960" indent="-180360">
              <a:lnSpc>
                <a:spcPct val="209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625040" indent="-180360">
              <a:lnSpc>
                <a:spcPct val="209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625040" indent="-180360">
              <a:lnSpc>
                <a:spcPct val="2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625040" indent="-180360">
              <a:lnSpc>
                <a:spcPct val="2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E8743-D722-4940-9493-793458E0570C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1563840"/>
            <a:ext cx="707724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30671-D44F-4ED8-9342-8814F8CA0E7D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64240" indent="-264240">
              <a:lnSpc>
                <a:spcPct val="209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580680" indent="-219240">
              <a:lnSpc>
                <a:spcPct val="209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02880" indent="-180360">
              <a:lnSpc>
                <a:spcPct val="209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263960" indent="-180360">
              <a:lnSpc>
                <a:spcPct val="209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625040" indent="-180360">
              <a:lnSpc>
                <a:spcPct val="209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625040" indent="-180360">
              <a:lnSpc>
                <a:spcPct val="2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625040" indent="-180360">
              <a:lnSpc>
                <a:spcPct val="20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1828440"/>
            <a:ext cx="7085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Sensible defe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81080" y="4260960"/>
            <a:ext cx="6400800" cy="17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Benefits vs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Economic press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Sensible defence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Economic incentiv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Laws push standa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Liability creates awaren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Regulatory bodies motiv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Sensible defence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Liability, regulation, complianc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Due care is using reasonable care to protect the interests of an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Due diligence is practicing the activities to maintain the due care effor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Common sense security frame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Sensible defence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Due care and due diligenc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Functionality vs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User friendly does not mean insec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Ease-of-Use + Common Sense =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Privacy vs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Sacrifice privacy for secur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Should security protect privacy or ignore it to enhance secur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Sensible defence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Technolog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5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Human intelligence most importa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Reduce risk without techn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Limit damage in case of an incid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Give users insight in values of company assets and the usage of information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Sensible defence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Awarenes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Sensible defence is balanced securit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Balance cost vs economic ga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Balance liberty vs privacy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Balance functionality vs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Liability, legislation and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Sensible defence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security is a trade-off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37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Q &amp;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  <a:ea typeface="Luxi Sans"/>
              </a:rPr>
              <a:t>Thanks to: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  <a:ea typeface="Luxi Sans"/>
              </a:rPr>
              <a:t>My colleagues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  <a:ea typeface="Luxi Sans"/>
              </a:rPr>
              <a:t>Donn Parke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  <a:ea typeface="Luxi Sans"/>
              </a:rPr>
              <a:t>Bruce Schneie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  <a:ea typeface="Luxi Sans"/>
              </a:rPr>
              <a:t>Rebecca Herolds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Sensible defence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Questions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27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IA and prevention/dectection/respon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isk management and its pitfal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Economic incent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Liability/regulation/compli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Due care and due dillig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waren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27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o ensure the CIA triad we us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Det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Pre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Respon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ow security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6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dentification 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dentify the actual thre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mpact factor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he possible consequences of an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requency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he probable frequency of the occurrence of a thre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robability 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he extent of how confident we are a threat will happ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Today’s risk management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Identification of a threa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6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dentification of the current ris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he cost/benefit justification of the countermeas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nfluences the decision making process on hardware, et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ocus on security resources where they are needed m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Today’s risk management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Risk analysis goal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6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hre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ss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Vulnerabi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afegu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sset value (AV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Exposure factor (EF), value in percent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ingle loss expectancy (SLE), dollar figure (EFxAV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nnualized rate of occurrenc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nnualized loss expectancy (ALE= SLExAR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Today’s risk management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Risk analysis – key term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6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ims to assign tangible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elies on qualitative dat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Estimate potential losses to the asset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Analyze potential threats to the ass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Define impact and frequency leve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Define the A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Today’s risk management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Risk analysis – Quantitative</a:t>
            </a:r>
            <a:r>
              <a:rPr b="1" lang="en-GB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6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cenario oriented approach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ank threats on a scale to evaluate their risks, costs and outc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n contrast to quantitative analysis a purely qualitative analysis is always possib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High guess ra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Today’s risk management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Risk analysis – Qualitative</a:t>
            </a:r>
            <a:r>
              <a:rPr b="1" lang="en-GB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908000" y="1676160"/>
            <a:ext cx="705672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Misunderstanding between risk and certaint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Luxi Sans"/>
              </a:rPr>
              <a:t>A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risk is the anticipated frequency of lo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Certainties are occurring with high frequen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0000"/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Reliance on probability, impact and frequ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  <a:ea typeface="Luxi Sans"/>
              </a:rPr>
              <a:t>The unknown,  controls the probability, frequency and the impact of a future inciden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980720" y="188640"/>
            <a:ext cx="7085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Today’s risk management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Pitfalls</a:t>
            </a:r>
            <a:r>
              <a:rPr b="1" lang="en-GB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ostix S.A. koen@conostix.co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ne</dc:creator>
  <dc:description/>
  <dc:language>en-US</dc:language>
  <cp:lastModifiedBy>none</cp:lastModifiedBy>
  <cp:revision>0</cp:revision>
  <dc:subject/>
  <dc:title>Sensible defence</dc:title>
</cp:coreProperties>
</file>