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Koen Maris – The Human Factor in Information technology – Copyright 2005 – kmar@skynet.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68360" y="2205000"/>
            <a:ext cx="8351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de8e"/>
                </a:solidFill>
                <a:latin typeface="Arial"/>
              </a:rPr>
              <a:t>The Human Factor</a:t>
            </a:r>
            <a:br>
              <a:rPr sz="4400"/>
            </a:br>
            <a:r>
              <a:rPr b="1" lang="en-US" sz="4400" spc="-1" strike="noStrike">
                <a:solidFill>
                  <a:srgbClr val="d8de8e"/>
                </a:solidFill>
                <a:latin typeface="Arial"/>
              </a:rPr>
              <a:t>in</a:t>
            </a:r>
            <a:br>
              <a:rPr sz="4400"/>
            </a:br>
            <a:r>
              <a:rPr b="1" lang="en-US" sz="4400" spc="-1" strike="noStrike">
                <a:solidFill>
                  <a:srgbClr val="d8de8e"/>
                </a:solidFill>
                <a:latin typeface="Arial"/>
              </a:rPr>
              <a:t>Information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Countermeasures</a:t>
            </a:r>
            <a:br>
              <a:rPr sz="4000"/>
            </a:b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Building a human fire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Convince top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Top dow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Prove security is business enabler not a cost enabler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According to Gartner the executive board has 3 mayor questions when confronted with security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de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e8e"/>
                </a:solidFill>
                <a:latin typeface="Arial"/>
              </a:rPr>
              <a:t>Is our security policy enforced fairly and consistent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de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e8e"/>
                </a:solidFill>
                <a:latin typeface="Arial"/>
              </a:rPr>
              <a:t>Would employees, contractors and partners know if a security violation occur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8de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e8e"/>
                </a:solidFill>
                <a:latin typeface="Arial"/>
              </a:rPr>
              <a:t>Would the company know how to handle and react if they recognize a security vio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Countermeasures</a:t>
            </a:r>
            <a:br>
              <a:rPr sz="4000"/>
            </a:b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Building a human fire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Assign and clarify roles/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Separation of duties, do people have the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Careful with overlapping du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Clear statements fr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Countermeasures</a:t>
            </a:r>
            <a:br>
              <a:rPr sz="4000"/>
            </a:b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Building a human fire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Define an action plan linked to a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Assessment of relative value of informati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Use a risk assessment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Prioritize asset values to simplify budg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Involve all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Countermeasures</a:t>
            </a:r>
            <a:br>
              <a:rPr sz="4000"/>
            </a:b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Building a human fire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Develop/update the policy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Policies evolve just as the law in re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Written in language everyone can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Align with business goals, constraining or contradictory policies end up in the forgotte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Countermeasures</a:t>
            </a:r>
            <a:br>
              <a:rPr sz="4000"/>
            </a:b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Building a human fire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Develop incident respons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Reduce da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Recover quick and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Keep a trace of the security event, learn from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Countermeasures</a:t>
            </a:r>
            <a:br>
              <a:rPr sz="4000"/>
            </a:b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Building a human fire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Develop a security awareness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Conduct a survey to find the weak and strong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Repetition is the key to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Events happening in the world could be the 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It should not be limited to a one shot. Use any means possible such as quiz, posters, intranet, mails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Countermeasures</a:t>
            </a:r>
            <a:br>
              <a:rPr sz="4000"/>
            </a:b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Building a human firewal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Develop a security awareness</a:t>
            </a:r>
            <a:r>
              <a:rPr b="1" lang="en-US" sz="3600" spc="-1" strike="noStrike">
                <a:solidFill>
                  <a:srgbClr val="d8de8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program</a:t>
            </a:r>
            <a:br>
              <a:rPr sz="3200"/>
            </a:b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Senio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Mi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Countermeasures</a:t>
            </a:r>
            <a:br>
              <a:rPr sz="4000"/>
            </a:b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Target aud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Develop a security awareness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de8e"/>
                </a:solidFill>
                <a:latin typeface="Arial"/>
              </a:rPr>
              <a:t>Senio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d8de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e8e"/>
                </a:solidFill>
                <a:latin typeface="Arial"/>
              </a:rPr>
              <a:t>Focus on key elements, risk level,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d8de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e8e"/>
                </a:solidFill>
                <a:latin typeface="Arial"/>
              </a:rPr>
              <a:t>Numerical or statistic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d8de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e8e"/>
                </a:solidFill>
                <a:latin typeface="Arial"/>
              </a:rPr>
              <a:t>Examples of real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Countermeasures</a:t>
            </a:r>
            <a:br>
              <a:rPr sz="4000"/>
            </a:b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Target aud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Develop a security awareness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de8e"/>
                </a:solidFill>
                <a:latin typeface="Arial"/>
              </a:rPr>
              <a:t>Mi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d8de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e8e"/>
                </a:solidFill>
                <a:latin typeface="Arial"/>
              </a:rPr>
              <a:t>Granular approach on policies, procedures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d8de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e8e"/>
                </a:solidFill>
                <a:latin typeface="Arial"/>
              </a:rPr>
              <a:t>In charge of mapping it to different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d8de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e8e"/>
                </a:solidFill>
                <a:latin typeface="Arial"/>
              </a:rPr>
              <a:t>Use business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Countermeasures</a:t>
            </a:r>
            <a:br>
              <a:rPr sz="4000"/>
            </a:b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Target aud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Develop a security awareness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de8e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d8de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e8e"/>
                </a:solidFill>
                <a:latin typeface="Arial"/>
              </a:rPr>
              <a:t>Repetition = key to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d8de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e8e"/>
                </a:solidFill>
                <a:latin typeface="Arial"/>
              </a:rPr>
              <a:t>Split into job related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d8de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e8e"/>
                </a:solidFill>
                <a:latin typeface="Arial"/>
              </a:rPr>
              <a:t>Stress on the importance of his/her job and the security related issues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de8e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75% of security incidents caused by human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Technology oriented civ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General ignorance in all layers of the civ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Countermeasures</a:t>
            </a:r>
            <a:br>
              <a:rPr sz="4000"/>
            </a:b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Target aud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Develop a security awareness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de8e"/>
                </a:solidFill>
                <a:latin typeface="Arial"/>
              </a:rPr>
              <a:t>Technical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d8de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e8e"/>
                </a:solidFill>
                <a:latin typeface="Arial"/>
              </a:rPr>
              <a:t>Audit trails often see as work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d8de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e8e"/>
                </a:solidFill>
                <a:latin typeface="Arial"/>
              </a:rPr>
              <a:t>Often integrate security after everything is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d8de8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de8e"/>
                </a:solidFill>
                <a:latin typeface="Arial"/>
              </a:rPr>
              <a:t>Convince them security protects also their work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Countermeasures</a:t>
            </a:r>
            <a:br>
              <a:rPr sz="4000"/>
            </a:b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Building a human fire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Measure your security awareness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A quiz is an excellent tool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Security event statistics can indicate weak 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Evaluation forms to gain knowledge current issues and where to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The Human F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8de8e"/>
                </a:solidFill>
                <a:latin typeface="Arial"/>
              </a:rPr>
              <a:t>Q &amp; 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de8e"/>
                </a:solidFill>
                <a:latin typeface="Arial"/>
              </a:rPr>
              <a:t>Work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Employees often clueless about security improv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Incidents often caused by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Configura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Mis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Intentionally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de8e"/>
                </a:solidFill>
                <a:latin typeface="Arial"/>
              </a:rPr>
              <a:t>Design 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Techies needs vs business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Business function v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User-friendly v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The strength of the design is often the downfall to it. Regular users do not think as those who designe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Design should identify human and societal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de8e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Technology rapidly changes resulting in inability to ma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Technology often ties us to our work and instead making it easier it gets w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Top notch technology is expensive and does not guarantee secu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Implementers often external, could leave insecure traces, purposely or by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de8e"/>
                </a:solidFill>
                <a:latin typeface="Arial"/>
              </a:rPr>
              <a:t>Social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Art of deception or persua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The explo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Human based soci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8de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de8e"/>
                </a:solidFill>
                <a:latin typeface="Arial"/>
              </a:rPr>
              <a:t>Technology based soci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Social engineering</a:t>
            </a:r>
            <a:br>
              <a:rPr sz="4000"/>
            </a:b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The Explo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Diffusion of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Trust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Moral d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G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Desire to be help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Human based</a:t>
            </a:r>
            <a:br>
              <a:rPr sz="4000"/>
            </a:b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Social 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Impers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The VIP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Shoulder sur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Dumpster d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Piggy b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Third party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Technology</a:t>
            </a:r>
            <a:br>
              <a:rPr sz="4000"/>
            </a:br>
            <a:r>
              <a:rPr b="1" lang="en-US" sz="4000" spc="-1" strike="noStrike">
                <a:solidFill>
                  <a:srgbClr val="d8de8e"/>
                </a:solidFill>
                <a:latin typeface="Arial"/>
              </a:rPr>
              <a:t>Social 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Popup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Mail attac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Spam, Spim, chain emails, ho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8d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8de8e"/>
                </a:solidFill>
                <a:latin typeface="Arial"/>
              </a:rPr>
              <a:t>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8:20:33Z</dcterms:created>
  <dc:creator>koen maris</dc:creator>
  <dc:description/>
  <dc:language>en-US</dc:language>
  <cp:lastModifiedBy>koen maris</cp:lastModifiedBy>
  <dcterms:modified xsi:type="dcterms:W3CDTF">2005-10-18T13:36:20Z</dcterms:modified>
  <cp:revision>20</cp:revision>
  <dc:subject/>
  <dc:title>Slide 1</dc:title>
</cp:coreProperties>
</file>