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wmf" ContentType="image/x-wmf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1748-CF19-4DF4-8E53-A46BACC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9840" y="576180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B644-34B7-4903-A261-26642F73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06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ECB2-243B-41CB-9817-FF888E3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84472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8924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9984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84472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98924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E76C-9E0F-42BD-B1F1-4125D634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9840" y="556272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99840" y="4495680"/>
            <a:ext cx="6343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99840" y="556272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1671-C503-43F0-8CB3-D8B36D8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506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9840" y="576180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506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4472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89240" y="556272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984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4472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989240" y="5761800"/>
            <a:ext cx="2042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2A5F-6DD8-4FF1-ACAA-00414D4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7237-38B3-4223-97C7-E89D073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6BF9-46A0-44F1-B965-A997323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99840" y="4495680"/>
            <a:ext cx="6343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5B42-EF19-4A5F-8ABC-0D3D649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F096-8D36-4BE1-96F8-8E1A40C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0640" y="576180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CC21-5B9E-4B8C-9D4D-651E12D9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8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0640" y="5562720"/>
            <a:ext cx="3095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9840" y="5761800"/>
            <a:ext cx="6343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C813-F900-42A8-96EB-B2F4A9B9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717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667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5380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3720" indent="-2793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33720" indent="-279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33720" indent="-279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71360" cy="15264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52480"/>
            <a:ext cx="17136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944280" y="5715000"/>
            <a:ext cx="342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44280" y="1295280"/>
            <a:ext cx="342720" cy="441972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44280" y="5715000"/>
            <a:ext cx="342720" cy="1143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944280" y="990720"/>
            <a:ext cx="3427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9944280" y="990720"/>
            <a:ext cx="342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AE0C-A9F2-4930-BD42-FEEA082988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16200000">
            <a:off x="8668440" y="3944160"/>
            <a:ext cx="28958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e of the Art  Wireless H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 rot="16200000">
            <a:off x="9505440" y="1886760"/>
            <a:ext cx="121896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ffffff"/>
                </a:solidFill>
                <a:latin typeface="Arial"/>
              </a:rPr>
              <a:t>14/15.10.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1360" y="1447920"/>
            <a:ext cx="17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2057400"/>
            <a:ext cx="17136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9052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102870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410080"/>
            <a:ext cx="10287000" cy="144792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5410080"/>
            <a:ext cx="291456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495680"/>
            <a:ext cx="73724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4440" y="1295280"/>
            <a:ext cx="171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1447920"/>
            <a:ext cx="1713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1360" y="1295280"/>
            <a:ext cx="1717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160" y="1295280"/>
            <a:ext cx="1717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95280"/>
            <a:ext cx="171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17136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44280" y="990720"/>
            <a:ext cx="3427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44280" y="990720"/>
            <a:ext cx="34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B1C-C036-45CC-9FD0-C56D8DFAA6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72240" y="5638680"/>
            <a:ext cx="2543400" cy="978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5445000"/>
            <a:ext cx="1471680" cy="138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8160" algn="ctr">
              <a:lnSpc>
                <a:spcPct val="12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5560" algn="ctr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5560">
              <a:spcBef>
                <a:spcPts val="3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5560">
              <a:spcBef>
                <a:spcPts val="3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tstumbler.com/" TargetMode="External"/><Relationship Id="rId2" Type="http://schemas.openxmlformats.org/officeDocument/2006/relationships/hyperlink" Target="http://www.kismetwireless.net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7331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Wireless Hac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90960" y="5562720"/>
            <a:ext cx="305280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offrey Czarny, SRC TELiND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czarny@src.telindu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10039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17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17171"/>
                </a:solidFill>
                <a:latin typeface="Arial"/>
              </a:rPr>
              <a:t>State of the Art Wireless Hacking Work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27320" y="2491920"/>
            <a:ext cx="7410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717171"/>
                </a:solidFill>
                <a:latin typeface="Arial"/>
              </a:rPr>
              <a:t>Traffic analyzer</a:t>
            </a:r>
            <a:endParaRPr b="0" lang="en-US" sz="4400" spc="-1" strike="noStrike">
              <a:solidFill>
                <a:srgbClr val="717171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43000"/>
            <a:ext cx="343080" cy="457200"/>
            <a:chOff x="0" y="1143000"/>
            <a:chExt cx="343080" cy="457200"/>
          </a:xfrm>
        </p:grpSpPr>
        <p:sp>
          <p:nvSpPr>
            <p:cNvPr id="143" name=""/>
            <p:cNvSpPr/>
            <p:nvPr/>
          </p:nvSpPr>
          <p:spPr>
            <a:xfrm>
              <a:off x="0" y="1447920"/>
              <a:ext cx="1713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143000"/>
              <a:ext cx="17136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1360" y="1295280"/>
              <a:ext cx="171720" cy="15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440" y="5105520"/>
            <a:ext cx="9945720" cy="17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7DF4-4854-42D1-9732-E6269A23436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7FEC3-BB96-4FA7-A556-8366DA014B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0240" y="5493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Traffic analyzer 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rtraf is a Wireless traffic analy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possi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ct Wire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entify Access Points an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ze TCP conn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nerate  statistics from protocol and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ndwidth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1514-6E8B-4CCE-AF96-0660233800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FFC146-E213-4A2B-9C13-44C27D81D9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Airtraf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9320" y="1268280"/>
            <a:ext cx="88473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C857-CCB2-44A2-85E1-D319B5E8F1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598535-28B8-44E7-9F51-5A922305D9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98240" y="2565360"/>
            <a:ext cx="74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717171"/>
                </a:solidFill>
                <a:latin typeface="Arial"/>
              </a:rPr>
              <a:t>WEP keys cracker</a:t>
            </a:r>
            <a:endParaRPr b="0" lang="en-US" sz="44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945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0" y="1143000"/>
            <a:ext cx="514440" cy="457200"/>
            <a:chOff x="0" y="1143000"/>
            <a:chExt cx="514440" cy="457200"/>
          </a:xfrm>
        </p:grpSpPr>
        <p:sp>
          <p:nvSpPr>
            <p:cNvPr id="154" name=""/>
            <p:cNvSpPr/>
            <p:nvPr/>
          </p:nvSpPr>
          <p:spPr>
            <a:xfrm>
              <a:off x="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3080" y="1295280"/>
              <a:ext cx="171360" cy="1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36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447920"/>
              <a:ext cx="17136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17D5-55D8-465A-AA21-7A7D05E7C59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4E5EF9-13F4-491D-914A-B3C0154A8A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WEP keys cracker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4600" y="1196640"/>
            <a:ext cx="86266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 attacks on weak initialization vector value (I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rsn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rc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pcrack ( perl scrip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wepdump &amp; Dwepcrack  bsd_air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18960" y="4292640"/>
            <a:ext cx="9288720" cy="22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27C1-A60D-4455-BDD1-98F76CD5A5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DB9046-9B0B-450F-840B-D27E17A28D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320" y="3333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WEP keys cracker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8960" y="1196640"/>
            <a:ext cx="86266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3320" indent="-2833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force or dictionary att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480" indent="-24804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p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480" indent="-24804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pdecr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4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4600" y="3141720"/>
            <a:ext cx="9582120" cy="3484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4797360"/>
            <a:ext cx="65833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C108-291C-4C23-8452-D5F622D84A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9A4183-EBA7-4385-8F91-E4B8C001A6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0600" y="256536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717171"/>
                </a:solidFill>
                <a:latin typeface="Arial"/>
              </a:rPr>
              <a:t>WPA Pre-shared keys cracker</a:t>
            </a:r>
            <a:endParaRPr b="0" lang="en-US" sz="44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945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0" y="1143000"/>
            <a:ext cx="514440" cy="457200"/>
            <a:chOff x="0" y="1143000"/>
            <a:chExt cx="514440" cy="457200"/>
          </a:xfrm>
        </p:grpSpPr>
        <p:sp>
          <p:nvSpPr>
            <p:cNvPr id="168" name=""/>
            <p:cNvSpPr/>
            <p:nvPr/>
          </p:nvSpPr>
          <p:spPr>
            <a:xfrm>
              <a:off x="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3080" y="1295280"/>
              <a:ext cx="171360" cy="1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36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1447920"/>
              <a:ext cx="17136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C07B-7BB2-4998-AF6C-16312203816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B704D3-934B-4915-8650-994CA47312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7320" y="404280"/>
            <a:ext cx="7588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17171"/>
                </a:solidFill>
                <a:latin typeface="Arial"/>
              </a:rPr>
              <a:t>WPA Pre-shared keys cracker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ctionary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rcrack (release 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wpa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9320" y="3141720"/>
            <a:ext cx="8425080" cy="336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79320" y="4292640"/>
            <a:ext cx="3168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26EF-6161-4E0D-8CFD-DE77688D58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2DF66-390F-4F86-96D8-DDEB5C27E9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945720" cy="4419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7320" y="609120"/>
            <a:ext cx="6876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717171"/>
                </a:solidFill>
                <a:latin typeface="Arial"/>
              </a:rPr>
              <a:t>LIVE Demo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1143000"/>
            <a:ext cx="857160" cy="457200"/>
            <a:chOff x="0" y="1143000"/>
            <a:chExt cx="857160" cy="457200"/>
          </a:xfrm>
        </p:grpSpPr>
        <p:sp>
          <p:nvSpPr>
            <p:cNvPr id="179" name=""/>
            <p:cNvSpPr/>
            <p:nvPr/>
          </p:nvSpPr>
          <p:spPr>
            <a:xfrm>
              <a:off x="34308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440" y="1447920"/>
              <a:ext cx="1713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36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447920"/>
              <a:ext cx="17136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" y="1295280"/>
              <a:ext cx="171360" cy="15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50960" y="3933720"/>
            <a:ext cx="4608360" cy="2462400"/>
          </a:xfrm>
          <a:prstGeom prst="roundRect">
            <a:avLst>
              <a:gd name="adj" fmla="val 36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3933720"/>
            <a:ext cx="446580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cccccc"/>
              </a:buClr>
              <a:buFont typeface="Wingdings" charset="2"/>
              <a:buChar char="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rd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cccc"/>
              </a:buClr>
              <a:buFont typeface="Wingdings" charset="2"/>
              <a:buChar char="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P keys cra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cccc"/>
              </a:buClr>
              <a:buFont typeface="Wingdings" charset="2"/>
              <a:buChar char="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PA Pre-shared keys cra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cccc"/>
              </a:buClr>
              <a:buFont typeface="Wingdings" charset="2"/>
              <a:buChar char="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keAP &amp; Bluetooth attack (if enough ti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715000"/>
            <a:ext cx="9944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601200" y="5715000"/>
            <a:ext cx="343080" cy="304920"/>
          </a:xfrm>
          <a:custGeom>
            <a:avLst/>
            <a:gdLst>
              <a:gd name="textAreaLeft" fmla="*/ 0 w 343080"/>
              <a:gd name="textAreaRight" fmla="*/ 343440 w 343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4300" y="0"/>
                </a:lnTo>
                <a:lnTo>
                  <a:pt x="0" y="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4300" y="21600"/>
                </a:lnTo>
                <a:lnTo>
                  <a:pt x="24300" y="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300" y="216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cc"/>
                </a:solidFill>
                <a:latin typeface="Arial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41040" y="5105520"/>
            <a:ext cx="342720" cy="304560"/>
          </a:xfrm>
          <a:custGeom>
            <a:avLst/>
            <a:gdLst>
              <a:gd name="textAreaLeft" fmla="*/ 0 w 342720"/>
              <a:gd name="textAreaRight" fmla="*/ 343080 w 342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4303" y="0"/>
                </a:lnTo>
                <a:lnTo>
                  <a:pt x="0" y="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4303" y="21600"/>
                </a:lnTo>
                <a:lnTo>
                  <a:pt x="24303" y="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303" y="216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lt;&l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41040" y="5410080"/>
            <a:ext cx="342720" cy="304920"/>
          </a:xfrm>
          <a:custGeom>
            <a:avLst/>
            <a:gdLst>
              <a:gd name="textAreaLeft" fmla="*/ 0 w 342720"/>
              <a:gd name="textAreaRight" fmla="*/ 343080 w 342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275" h="21600">
                <a:moveTo>
                  <a:pt x="0" y="0"/>
                </a:moveTo>
                <a:lnTo>
                  <a:pt x="24275" y="0"/>
                </a:lnTo>
                <a:lnTo>
                  <a:pt x="24275" y="21600"/>
                </a:lnTo>
                <a:lnTo>
                  <a:pt x="0" y="21600"/>
                </a:lnTo>
                <a:close/>
              </a:path>
              <a:path fill="lightenLess" w="24275" h="21600">
                <a:moveTo>
                  <a:pt x="0" y="0"/>
                </a:moveTo>
                <a:lnTo>
                  <a:pt x="24275" y="0"/>
                </a:lnTo>
                <a:lnTo>
                  <a:pt x="24275" y="0"/>
                </a:lnTo>
                <a:lnTo>
                  <a:pt x="0" y="0"/>
                </a:lnTo>
                <a:close/>
              </a:path>
              <a:path fill="darken" w="24275" h="21600">
                <a:moveTo>
                  <a:pt x="24275" y="0"/>
                </a:moveTo>
                <a:lnTo>
                  <a:pt x="24275" y="21600"/>
                </a:lnTo>
                <a:lnTo>
                  <a:pt x="24275" y="21600"/>
                </a:lnTo>
                <a:lnTo>
                  <a:pt x="24275" y="0"/>
                </a:lnTo>
                <a:close/>
              </a:path>
              <a:path fill="darkenLess" w="24275" h="21600">
                <a:moveTo>
                  <a:pt x="2427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275" y="21600"/>
                </a:lnTo>
                <a:close/>
              </a:path>
              <a:path fill="lighten" w="2427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gt;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8332-4640-46DF-9415-BE8320D6862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8D102-6FC3-41E8-AC4B-F674FE3F7B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6960" y="2421000"/>
            <a:ext cx="74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717171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945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1143000"/>
            <a:ext cx="514440" cy="304920"/>
            <a:chOff x="0" y="1143000"/>
            <a:chExt cx="514440" cy="304920"/>
          </a:xfrm>
        </p:grpSpPr>
        <p:sp>
          <p:nvSpPr>
            <p:cNvPr id="194" name=""/>
            <p:cNvSpPr/>
            <p:nvPr/>
          </p:nvSpPr>
          <p:spPr>
            <a:xfrm>
              <a:off x="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36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3080" y="1295280"/>
              <a:ext cx="171360" cy="15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D23-5B48-43BE-9E36-011C10C50B9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5F796E-74DC-4A02-9491-CE26BA079F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95280"/>
            <a:ext cx="994572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7320" y="609120"/>
            <a:ext cx="6876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717171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143000"/>
            <a:ext cx="513720" cy="457200"/>
            <a:chOff x="0" y="1143000"/>
            <a:chExt cx="513720" cy="457200"/>
          </a:xfrm>
        </p:grpSpPr>
        <p:sp>
          <p:nvSpPr>
            <p:cNvPr id="108" name=""/>
            <p:cNvSpPr/>
            <p:nvPr/>
          </p:nvSpPr>
          <p:spPr>
            <a:xfrm>
              <a:off x="0" y="1447920"/>
              <a:ext cx="1710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720" y="1295280"/>
              <a:ext cx="1710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00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295280"/>
              <a:ext cx="171000" cy="15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3429000"/>
            <a:ext cx="4114800" cy="289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28880" y="3429000"/>
            <a:ext cx="3771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 Wireless tool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 LIVE Dem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 Questions &amp;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0B64-1027-4006-AF01-3CAF4B76FB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95BADD-DD46-4A66-AF9E-2C0F4CEA9E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17171"/>
                </a:solidFill>
                <a:latin typeface="Arial"/>
              </a:rPr>
              <a:t>Additional</a:t>
            </a:r>
            <a:r>
              <a:rPr b="0" lang="fr-FR" sz="4000" spc="-1" strike="noStrike">
                <a:solidFill>
                  <a:srgbClr val="7171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17171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154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tumbler 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dc0806"/>
                </a:solidFill>
                <a:uFillTx/>
                <a:latin typeface="Arial"/>
                <a:hlinkClick r:id="rId1"/>
              </a:rPr>
              <a:t>www.netstumb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smet &gt; </a:t>
            </a:r>
            <a:r>
              <a:rPr b="1" lang="fr-FR" sz="1800" spc="-1" strike="noStrike" u="sng">
                <a:solidFill>
                  <a:srgbClr val="dc0806"/>
                </a:solidFill>
                <a:uFillTx/>
                <a:latin typeface="Arial"/>
                <a:hlinkClick r:id="rId2"/>
              </a:rPr>
              <a:t>www.kismetwireless.net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d_airtools &gt;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ww.dachb0den.com/projects/bsd-airtools.htm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traf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traf.sourceforg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nort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snort.shm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cr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ww.cr0.net:8040/code/network/aircrack/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eplab &gt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eplab.sourceforge.n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epdecrypt &gt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epdecrypt.sourceforge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wpatty &gt;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new.remote-exploit.org/index.php/Codes_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11 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wlsec.net/void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2175-A5F3-4242-9B6F-B600A99A63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64B98-3190-4CF1-BABE-848408E319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99840" y="4495680"/>
            <a:ext cx="634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83880" y="584820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offrey Czar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czarny@src.telindu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945720" cy="5562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7320" y="609120"/>
            <a:ext cx="6876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717171"/>
                </a:solidFill>
                <a:latin typeface="Arial"/>
              </a:rPr>
              <a:t>Wireless tool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1143000"/>
            <a:ext cx="343080" cy="609480"/>
            <a:chOff x="0" y="1143000"/>
            <a:chExt cx="343080" cy="609480"/>
          </a:xfrm>
        </p:grpSpPr>
        <p:sp>
          <p:nvSpPr>
            <p:cNvPr id="117" name=""/>
            <p:cNvSpPr/>
            <p:nvPr/>
          </p:nvSpPr>
          <p:spPr>
            <a:xfrm>
              <a:off x="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360" y="1143000"/>
              <a:ext cx="17172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1600200"/>
              <a:ext cx="17136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2600" y="1341360"/>
            <a:ext cx="4824720" cy="320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rmAutofit/>
          </a:bodyPr>
          <a:p>
            <a:pPr marL="266760" indent="-266760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driv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analy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P keys crack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A Pre-shared keys c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6765-FFB3-475B-9D3D-367DF8EB48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73C97-61CF-48A3-AE39-8C9F6B3E26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Wireless tool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915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driving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Detection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stu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6676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Detection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ismet; Dstumbler; Airsno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analyz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irt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P keys crack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irsnort; Aircrack; wepcrack Dwepcrac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A Pre-shared keys cracker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wpatty, Airc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8F0D-7EBC-4512-8C81-49CCA0C484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2CCA3-D5E7-4091-AA45-D7CD4E7B62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7320" y="2205000"/>
            <a:ext cx="74102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717171"/>
                </a:solidFill>
                <a:latin typeface="Arial"/>
              </a:rPr>
              <a:t>Wardriving tools</a:t>
            </a:r>
            <a:endParaRPr b="0" lang="en-US" sz="4400" spc="-1" strike="noStrike">
              <a:solidFill>
                <a:srgbClr val="717171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143000"/>
            <a:ext cx="514440" cy="304920"/>
            <a:chOff x="0" y="1143000"/>
            <a:chExt cx="514440" cy="304920"/>
          </a:xfrm>
        </p:grpSpPr>
        <p:sp>
          <p:nvSpPr>
            <p:cNvPr id="125" name=""/>
            <p:cNvSpPr/>
            <p:nvPr/>
          </p:nvSpPr>
          <p:spPr>
            <a:xfrm>
              <a:off x="343080" y="1295280"/>
              <a:ext cx="171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143000"/>
              <a:ext cx="17136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360" y="1295280"/>
              <a:ext cx="171720" cy="1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945720" cy="17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E087-8206-413C-A1DE-8F902B15C0F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852019-F751-42A8-A62E-89A133C2DB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71"/>
                </a:solidFill>
                <a:latin typeface="Arial"/>
              </a:rPr>
              <a:t>Wardriving tool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ive dete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Listening to all wireless traffic and extract information from packet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dete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ding wireless probe requests and analyze the network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1243-86EB-43B2-A5EE-D062C34A9B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D11B3-EE6F-47FF-BC02-2BFC45B423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Network Stumbler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2240" y="1268280"/>
          <a:ext cx="8926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68280"/>
                    <a:ext cx="89265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495680" y="3789360"/>
            <a:ext cx="2303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V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88DC-FC21-4A9C-AB48-1CF892DA691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99D081-5119-4825-ADAC-C8A22E2CD1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Kismet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0960" y="1484280"/>
            <a:ext cx="8843760" cy="4686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95680" y="3789360"/>
            <a:ext cx="2303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SIV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428A-40AF-4ADA-8D35-2FE670A5C6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828379-00FD-4B6A-9ECF-DD3826075F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6960" y="609120"/>
            <a:ext cx="82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17171"/>
                </a:solidFill>
                <a:latin typeface="Arial"/>
              </a:rPr>
              <a:t>Dstumbler BSD_airtools</a:t>
            </a:r>
            <a:endParaRPr b="0" lang="en-US" sz="4000" spc="-1" strike="noStrike">
              <a:solidFill>
                <a:srgbClr val="71717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1459080"/>
            <a:ext cx="8926560" cy="4778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3789360"/>
            <a:ext cx="2303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SIV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C0AA-A385-4663-A803-5EE615B6087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562C4E-F2EB-48B3-9EC7-4420052929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4:40:46Z</dcterms:created>
  <dc:creator>Joffrey Czarny</dc:creator>
  <dc:description/>
  <cp:keywords/>
  <dc:language>en-US</dc:language>
  <cp:lastModifiedBy>Sn0rkY</cp:lastModifiedBy>
  <dcterms:modified xsi:type="dcterms:W3CDTF">2005-10-25T11:30:14Z</dcterms:modified>
  <cp:revision>35</cp:revision>
  <dc:subject>Wifi</dc:subject>
  <dc:title>State of the Art Wireless Hacking Workshop</dc:title>
</cp:coreProperties>
</file>