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E4FC1-7DBB-4284-BB44-3F564528E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996C-44D1-4244-86C0-40A774C6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F669D-CA66-434B-B953-154EE9FFD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CFED3-6378-4AE5-A61F-0F24EA1A2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0116D-6D42-4426-ACA0-C20FB7421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E8707-6860-4D18-A8CC-E39ADAEEF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A4844-0284-40B3-8201-D8E0FFD43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DB623-4D5D-4C19-90A4-20720286F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0149A-E745-4E6D-8082-590135680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16E89-FE5F-42EA-934F-9F7936D44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15C9-90EA-4A0F-BF33-71792D113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C4D33-589D-4CE2-A012-D0699CF87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2CE87-B8AB-4929-89E0-F31065DDE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D0340-9722-489C-8759-AE2A6BE99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8254B-5A27-4DD5-ABBA-3DC1FF091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6B026-223C-4D7A-A5A2-0E7F7389E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0DE98-8C5D-4A30-9774-B63B5A798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5F43-F003-4FE6-906C-A72F14F7B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BDC3F-668F-4CF8-84F8-97AF6EB7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99C6F-B903-40D9-BDEF-6EC52D76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4F56-817A-434C-984E-763DC829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741D-D587-4574-ADCF-CE8F3944F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25097-2277-405F-AB32-0DD6ADD2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C996-9847-4411-B9DE-C256E885E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47CE-7773-4C1E-A0A7-456E2C7956A9}"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9423-4A2E-45C6-9405-0D4C81DFF84B}"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droids-corp.or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r0d: The Rasta Ring0 </a:t>
            </a:r>
            <a:br>
              <a:rPr sz="5400"/>
            </a:br>
            <a:r>
              <a:rPr b="0" lang="en-US" sz="5400" spc="-1" strike="noStrike">
                <a:solidFill>
                  <a:srgbClr val="ccecff"/>
                </a:solidFill>
                <a:latin typeface="Arial"/>
              </a:rPr>
              <a:t>Debugger</a:t>
            </a:r>
            <a:endParaRPr b="0" lang="en-US" sz="5400" spc="-1" strike="noStrike">
              <a:solidFill>
                <a:srgbClr val="ccecff"/>
              </a:solidFill>
              <a:latin typeface="Arial"/>
            </a:endParaRPr>
          </a:p>
        </p:txBody>
      </p:sp>
      <p:pic>
        <p:nvPicPr>
          <p:cNvPr id="212" name="" descr=""/>
          <p:cNvPicPr/>
          <p:nvPr/>
        </p:nvPicPr>
        <p:blipFill>
          <a:blip r:embed="rId1"/>
          <a:stretch/>
        </p:blipFill>
        <p:spPr>
          <a:xfrm>
            <a:off x="1763640" y="3716280"/>
            <a:ext cx="5256360" cy="2417760"/>
          </a:xfrm>
          <a:prstGeom prst="rect">
            <a:avLst/>
          </a:prstGeom>
          <a:ln w="0">
            <a:noFill/>
          </a:ln>
        </p:spPr>
      </p:pic>
      <p:sp>
        <p:nvSpPr>
          <p:cNvPr id="213" name=""/>
          <p:cNvSpPr/>
          <p:nvPr/>
        </p:nvSpPr>
        <p:spPr>
          <a:xfrm>
            <a:off x="2411280" y="623736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r0d.droids-corp.org</a:t>
            </a:r>
            <a:endParaRPr b="0" lang="en-US" sz="1800" spc="-1" strike="noStrike">
              <a:solidFill>
                <a:srgbClr val="ffffff"/>
              </a:solidFill>
              <a:latin typeface="Arial"/>
            </a:endParaRPr>
          </a:p>
        </p:txBody>
      </p:sp>
      <p:pic>
        <p:nvPicPr>
          <p:cNvPr id="214" name="" descr=""/>
          <p:cNvPicPr/>
          <p:nvPr/>
        </p:nvPicPr>
        <p:blipFill>
          <a:blip r:embed="rId2"/>
          <a:stretch/>
        </p:blipFill>
        <p:spPr>
          <a:xfrm>
            <a:off x="7238880" y="5495760"/>
            <a:ext cx="1905120" cy="13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sic stuffs we need to hook </a:t>
            </a:r>
            <a:endParaRPr b="0" lang="en-US" sz="44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ug interruptions: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 3 for software breakpoint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 1 for step by step and hardware debugger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uld be enough to do a light debugger. But what if the application does div/0 or general protection faul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more hoo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7534440" y="5084640"/>
            <a:ext cx="1463400" cy="1668600"/>
          </a:xfrm>
          <a:prstGeom prst="rect">
            <a:avLst/>
          </a:prstGeom>
          <a:ln w="0">
            <a:noFill/>
          </a:ln>
        </p:spPr>
      </p:pic>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urt me plenty</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ions we monitor (at least): </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 0: If the app does null division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 6: invalid opcode . The app execute non existing mnemonics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 13: General protection faul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 14 (semi) page faul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me others should be monitored; for example: </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 8: Double faul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 12: Stack exception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rr0d is not finished yet! </a:t>
            </a:r>
            <a:r>
              <a:rPr b="0" lang="en-US" sz="2400" spc="-1" strike="noStrike">
                <a:solidFill>
                  <a:srgbClr val="ffffff"/>
                </a:solidFill>
                <a:latin typeface="Wingdings"/>
                <a:ea typeface="Wingding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chanism of software breakpoint</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ftware breakpoint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only 4 HW breakpoints are not enough. Did you already try to play piano with only 3 fingers? Did you ever try to edit a text with vi?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ing a software breakpoint is just replacing an instruction we want a break on, by another instruction that will trigger the debugger if it is executed (and replace back the instru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chanism of software breakpoint</a:t>
            </a:r>
            <a:endParaRPr b="0" lang="en-US" sz="4000" spc="-1" strike="noStrike">
              <a:solidFill>
                <a:srgbClr val="ccecff"/>
              </a:solidFill>
              <a:latin typeface="Arial"/>
            </a:endParaRPr>
          </a:p>
        </p:txBody>
      </p:sp>
      <p:sp>
        <p:nvSpPr>
          <p:cNvPr id="244" name="PlaceHolder 2"/>
          <p:cNvSpPr>
            <a:spLocks noGrp="1"/>
          </p:cNvSpPr>
          <p:nvPr>
            <p:ph/>
          </p:nvPr>
        </p:nvSpPr>
        <p:spPr>
          <a:xfrm>
            <a:off x="611280" y="5661000"/>
            <a:ext cx="7416720" cy="99864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we hook int 3, debugger will be triggered by executing the mnemonic</a:t>
            </a:r>
            <a:endParaRPr b="0" lang="en-US" sz="2400" spc="-1" strike="noStrike">
              <a:solidFill>
                <a:srgbClr val="ffffff"/>
              </a:solidFill>
              <a:latin typeface="Arial"/>
            </a:endParaRPr>
          </a:p>
        </p:txBody>
      </p:sp>
      <p:pic>
        <p:nvPicPr>
          <p:cNvPr id="245" name="" descr=""/>
          <p:cNvPicPr/>
          <p:nvPr/>
        </p:nvPicPr>
        <p:blipFill>
          <a:blip r:embed="rId1"/>
          <a:stretch/>
        </p:blipFill>
        <p:spPr>
          <a:xfrm>
            <a:off x="395280" y="2349360"/>
            <a:ext cx="8388360" cy="299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riting Software breakpoints</a:t>
            </a:r>
            <a:endParaRPr b="0" lang="en-US" sz="4400" spc="-1" strike="noStrike">
              <a:solidFill>
                <a:srgbClr val="ccecff"/>
              </a:solidFill>
              <a:latin typeface="Arial"/>
            </a:endParaRPr>
          </a:p>
        </p:txBody>
      </p:sp>
      <p:sp>
        <p:nvSpPr>
          <p:cNvPr id="247" name="PlaceHolder 2"/>
          <p:cNvSpPr>
            <a:spLocks noGrp="1"/>
          </p:cNvSpPr>
          <p:nvPr>
            <p:ph/>
          </p:nvPr>
        </p:nvSpPr>
        <p:spPr>
          <a:xfrm>
            <a:off x="0" y="2133360"/>
            <a:ext cx="2664000" cy="42764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to support pagination in order to edit memory. On X86, 2 indirections are used</a:t>
            </a:r>
            <a:endParaRPr b="0" lang="en-US" sz="2800" spc="-1" strike="noStrike">
              <a:solidFill>
                <a:srgbClr val="ffffff"/>
              </a:solidFill>
              <a:latin typeface="Arial"/>
            </a:endParaRPr>
          </a:p>
        </p:txBody>
      </p:sp>
      <p:pic>
        <p:nvPicPr>
          <p:cNvPr id="248" name="" descr=""/>
          <p:cNvPicPr/>
          <p:nvPr/>
        </p:nvPicPr>
        <p:blipFill>
          <a:blip r:embed="rId1"/>
          <a:stretch/>
        </p:blipFill>
        <p:spPr>
          <a:xfrm>
            <a:off x="2556000" y="2233440"/>
            <a:ext cx="6443640" cy="447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riting Software breakpoints</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X86 the physical address of the page table directory is stored in the register CR3. But we can only access to LINEAR addresse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read OS sources!</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nux: 16 first Mo of physical memory are mapped to 0xC0000000-0xC1000000 and we are *lucky*: CR3 is in this range! (0xC2690000  on win98).</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bsd: problem, CR3 is not in these range so we cannot use this trick. But sources says kernel manages to map PGD at a fixed linear addres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 XP: well, read sources too: PGD is at 0xC0300000 So we are a bit dependant of the OS because of those addresses (shame on rr0d).</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riting Software breakpoints</a:t>
            </a:r>
            <a:endParaRPr b="0" lang="en-US" sz="4400" spc="-1" strike="noStrike">
              <a:solidFill>
                <a:srgbClr val="ccecff"/>
              </a:solidFill>
              <a:latin typeface="Arial"/>
            </a:endParaRPr>
          </a:p>
        </p:txBody>
      </p:sp>
      <p:pic>
        <p:nvPicPr>
          <p:cNvPr id="252" name="" descr=""/>
          <p:cNvPicPr/>
          <p:nvPr/>
        </p:nvPicPr>
        <p:blipFill>
          <a:blip r:embed="rId1"/>
          <a:stretch/>
        </p:blipFill>
        <p:spPr>
          <a:xfrm>
            <a:off x="1116000" y="1916280"/>
            <a:ext cx="6840720" cy="482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7020000" y="5106960"/>
            <a:ext cx="1989000" cy="1647720"/>
          </a:xfrm>
          <a:prstGeom prst="rect">
            <a:avLst/>
          </a:prstGeom>
          <a:ln w="0">
            <a:noFill/>
          </a:ln>
        </p:spPr>
      </p:pic>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de effect</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r0d has to write breakpoints even in read only pages. Solution: turn off write protection.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e breakpoint is written to dis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a binary is mapped into memory. So as we directly write in the binary image (no copy on write) when the binary is unmapped, modifications are writte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 little side effect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de effect</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 solut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oking of the functions responsible of this. But its heavily OS dependen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e the physical page we want to write in by another one. But reverse mapping of recent kernels doesn’t seem to enjoy the trick</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when writing a page for first time, x86 marks the page as dirty. If we clear back this bit, the OS doesn’t know the page has been written and won’t update it to the dis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r0d input/output</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eep rr0d kernel independent we need:</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S2 driver: rr0d directly control the keyboard/mouse controller 8042 (port 0x60, 0x64). As we read keys directly in the controller, the OS is not aware of that.</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reen driver.</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ole mode: VGA console is at 0xb8000 in physical addresses. This is mapped in the first 16Mo by the kernel.</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X mode”: we use frame buffer to directly write to the video memory. (*nux, win*).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ummary</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debugger?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Why os independent - ring0 ?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Which x86 feature should be handled?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re debug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o Do</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cript languag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ypass encryption lay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arbage cod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ymbol load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Binary lod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lugi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Heap Visualizator (win, nux,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Conclusion</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 kernel independent has advantag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trace detec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sDebuggerPresent detec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dification of the heap structure while debugging (wi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ugging ring0 backdoors can be simp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till many things to 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r0d is ras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0d.droids-corp.org</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99ff99"/>
                </a:solidFill>
                <a:uFillTx/>
                <a:latin typeface="Arial"/>
                <a:hlinkClick r:id="rId1"/>
              </a:rPr>
              <a:t>www.droids-corp.org</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pilliere at droids-corp dot org</a:t>
            </a:r>
            <a:endParaRPr b="0" lang="en-US" sz="2000" spc="-1" strike="noStrike">
              <a:solidFill>
                <a:srgbClr val="ffffff"/>
              </a:solidFill>
              <a:latin typeface="Arial"/>
            </a:endParaRPr>
          </a:p>
        </p:txBody>
      </p:sp>
      <p:pic>
        <p:nvPicPr>
          <p:cNvPr id="266" name="" descr=""/>
          <p:cNvPicPr/>
          <p:nvPr/>
        </p:nvPicPr>
        <p:blipFill>
          <a:blip r:embed="rId2"/>
          <a:stretch/>
        </p:blipFill>
        <p:spPr>
          <a:xfrm>
            <a:off x="7238880" y="5495760"/>
            <a:ext cx="1905120" cy="13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a:rPr>
              <a:t>What is a debugger?</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he best sentence that fits to programming: « errare humanum es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 debugger is there to correct those errors (note: a debugger can be bugg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here are 2 debugger families: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rce code debugg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bugger *without* source code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r0d is a debugger without source co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a:rPr>
              <a:t>What is a debugger?</a:t>
            </a:r>
            <a:br>
              <a:rPr sz="4000"/>
            </a:b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8507520" cy="420516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be done with this kind of debugge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of viruses, exploits, backdoo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e engineering of application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ing of low level driver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ose debugge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ice, Ollydbg, twr2000, …</a:t>
            </a:r>
            <a:endParaRPr b="0" lang="en-US" sz="2400" spc="-1" strike="noStrike">
              <a:solidFill>
                <a:srgbClr val="ffffff"/>
              </a:solidFill>
              <a:latin typeface="Arial"/>
            </a:endParaRPr>
          </a:p>
        </p:txBody>
      </p:sp>
      <p:pic>
        <p:nvPicPr>
          <p:cNvPr id="221" name="" descr=""/>
          <p:cNvPicPr/>
          <p:nvPr/>
        </p:nvPicPr>
        <p:blipFill>
          <a:blip r:embed="rId1"/>
          <a:stretch/>
        </p:blipFill>
        <p:spPr>
          <a:xfrm>
            <a:off x="7321680" y="4653000"/>
            <a:ext cx="167616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bugger versus Disassembler </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ssembl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llows the static study of the whole assembly code of the target (W32dasm, IDA).</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ugg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an show the behavior of a program during its run time. This allows dynamic stud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 The full study of code needs both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al of Rr0d</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a Debugger for x86 architectur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able to debug low level cod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it not aggressive for the target machine (no kernel modification,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Kernel-independ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Ras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6" name="" descr=""/>
          <p:cNvPicPr/>
          <p:nvPr/>
        </p:nvPicPr>
        <p:blipFill>
          <a:blip r:embed="rId1"/>
          <a:stretch/>
        </p:blipFill>
        <p:spPr>
          <a:xfrm>
            <a:off x="2771640" y="4869000"/>
            <a:ext cx="381024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overview of the x86 </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major mod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mode: only one processus controls the whole processor and the whole memory.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mode: nowadays’ OS mod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level of segregation: ring 0 to 3</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 a ring can only interfere with a ring less or equal to itself.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cessus can only interfere in its memory mapping (in a perfect world by the way)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ring 0 can execute privileged instruc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7740720" y="3933720"/>
            <a:ext cx="1182600" cy="2664000"/>
          </a:xfrm>
          <a:prstGeom prst="rect">
            <a:avLst/>
          </a:prstGeom>
          <a:ln w="0">
            <a:noFill/>
          </a:ln>
        </p:spPr>
      </p:pic>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ring0?</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507520" cy="22604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ing 0 debugger can in theory, debug everything.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ing 3 debugger needs the help of the OS in order to receive debug messages of the targe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we are on x86, we know how those messages are triggered: interruptions &amp; exceptions. This is OS  independent </a:t>
            </a:r>
            <a:r>
              <a:rPr b="0" lang="en-US" sz="2400" spc="-1" strike="noStrike">
                <a:solidFill>
                  <a:srgbClr val="ffffff"/>
                </a:solidFill>
                <a:latin typeface="Wingdings"/>
                <a:ea typeface="Wingdings"/>
              </a:rPr>
              <a:t></a:t>
            </a:r>
            <a:endParaRPr b="0" lang="en-US" sz="2400" spc="-1" strike="noStrike">
              <a:solidFill>
                <a:srgbClr val="ffffff"/>
              </a:solidFill>
              <a:latin typeface="Arial"/>
            </a:endParaRPr>
          </a:p>
        </p:txBody>
      </p:sp>
      <p:pic>
        <p:nvPicPr>
          <p:cNvPr id="232" name="" descr=""/>
          <p:cNvPicPr/>
          <p:nvPr/>
        </p:nvPicPr>
        <p:blipFill>
          <a:blip r:embed="rId2"/>
          <a:stretch/>
        </p:blipFill>
        <p:spPr>
          <a:xfrm>
            <a:off x="108000" y="5013360"/>
            <a:ext cx="1428840" cy="1562040"/>
          </a:xfrm>
          <a:prstGeom prst="rect">
            <a:avLst/>
          </a:prstGeom>
          <a:ln w="0">
            <a:noFill/>
          </a:ln>
        </p:spPr>
      </p:pic>
      <p:pic>
        <p:nvPicPr>
          <p:cNvPr id="233" name="" descr=""/>
          <p:cNvPicPr/>
          <p:nvPr/>
        </p:nvPicPr>
        <p:blipFill>
          <a:blip r:embed="rId3"/>
          <a:stretch/>
        </p:blipFill>
        <p:spPr>
          <a:xfrm>
            <a:off x="1619280" y="3751200"/>
            <a:ext cx="6048360" cy="310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ets ride x86</a:t>
            </a:r>
            <a:endParaRPr b="0" lang="en-US" sz="5400" spc="-1" strike="noStrike">
              <a:solidFill>
                <a:srgbClr val="ccecff"/>
              </a:solidFill>
              <a:latin typeface="Arial"/>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18:24:11Z</dcterms:created>
  <dc:creator>SHAMPOO</dc:creator>
  <dc:description/>
  <dc:language>en-US</dc:language>
  <cp:lastModifiedBy>bouiboui</cp:lastModifiedBy>
  <dcterms:modified xsi:type="dcterms:W3CDTF">2005-10-14T14:28:02Z</dcterms:modified>
  <cp:revision>50</cp:revision>
  <dc:subject/>
  <dc:title>Rr0d: The Rasta Ring0 Debugger</dc:title>
</cp:coreProperties>
</file>