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520" y="6602760"/>
            <a:ext cx="6883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6C775E1-620B-4EC2-A284-245D24F24FE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69560" cy="268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417520" y="6602760"/>
            <a:ext cx="6883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D76BF39-A9B0-4B7D-8190-C36021C092C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17520" y="6602760"/>
            <a:ext cx="6883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A139AE6-0FC7-4B46-B5D4-F00E38BE7C7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55560" y="6626880"/>
            <a:ext cx="4637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5, Cisco Systems, Inc. All rights reserv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95560" y="6596280"/>
            <a:ext cx="7491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ipt_secur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7800" y="358128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17520" y="6602760"/>
            <a:ext cx="6883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BFF660F-148A-4F10-86FA-3EE2FD8AF4C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3225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55560" y="6626880"/>
            <a:ext cx="4637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, Cisco Systems, Inc. All rights reserv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516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1760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7800" y="358128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P Telephony Secur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6360" y="4800600"/>
            <a:ext cx="8340840" cy="17985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722920" y="3798720"/>
            <a:ext cx="0" cy="1067040"/>
          </a:xfrm>
          <a:prstGeom prst="line">
            <a:avLst/>
          </a:prstGeom>
          <a:ln w="2556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ng IPT Protocol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Step: Use TLS for Signa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48240" y="2593800"/>
            <a:ext cx="0" cy="1211400"/>
          </a:xfrm>
          <a:prstGeom prst="line">
            <a:avLst/>
          </a:prstGeom>
          <a:ln w="2556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347640" y="3805200"/>
            <a:ext cx="2382840" cy="4680"/>
          </a:xfrm>
          <a:prstGeom prst="line">
            <a:avLst/>
          </a:prstGeom>
          <a:ln w="2556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5400" y="3833640"/>
            <a:ext cx="0" cy="1067040"/>
          </a:xfrm>
          <a:prstGeom prst="line">
            <a:avLst/>
          </a:prstGeom>
          <a:ln w="2556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92480" y="2279520"/>
            <a:ext cx="15969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95520" y="2612520"/>
            <a:ext cx="1060560" cy="21337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592520" y="2606760"/>
            <a:ext cx="1014480" cy="213336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240" y="3933720"/>
            <a:ext cx="23922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TLS is the transport for signed (RSA), authenticated (HMAC-SHA1) and encrypted (AES-128) signaling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184280"/>
            <a:ext cx="1049400" cy="168120"/>
          </a:xfrm>
          <a:prstGeom prst="line">
            <a:avLst/>
          </a:prstGeom>
          <a:ln w="25560">
            <a:solidFill>
              <a:srgbClr val="3366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4560" y="4587840"/>
            <a:ext cx="862200" cy="692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91120" y="2268360"/>
            <a:ext cx="720720" cy="45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854440" y="4594320"/>
            <a:ext cx="849240" cy="70308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3487680" y="4983120"/>
            <a:ext cx="370080" cy="569880"/>
            <a:chOff x="3487680" y="4983120"/>
            <a:chExt cx="370080" cy="569880"/>
          </a:xfrm>
        </p:grpSpPr>
        <p:grpSp>
          <p:nvGrpSpPr>
            <p:cNvPr id="132" name=""/>
            <p:cNvGrpSpPr/>
            <p:nvPr/>
          </p:nvGrpSpPr>
          <p:grpSpPr>
            <a:xfrm>
              <a:off x="3487680" y="4983120"/>
              <a:ext cx="370080" cy="569880"/>
              <a:chOff x="3487680" y="4983120"/>
              <a:chExt cx="370080" cy="569880"/>
            </a:xfrm>
          </p:grpSpPr>
          <p:sp>
            <p:nvSpPr>
              <p:cNvPr id="133" name=""/>
              <p:cNvSpPr/>
              <p:nvPr/>
            </p:nvSpPr>
            <p:spPr>
              <a:xfrm>
                <a:off x="3591000" y="5072040"/>
                <a:ext cx="164880" cy="480960"/>
              </a:xfrm>
              <a:custGeom>
                <a:avLst/>
                <a:gdLst/>
                <a:ahLst/>
                <a:rect l="l" t="t" r="r" b="b"/>
                <a:pathLst>
                  <a:path w="104" h="303">
                    <a:moveTo>
                      <a:pt x="0" y="301"/>
                    </a:moveTo>
                    <a:lnTo>
                      <a:pt x="52" y="239"/>
                    </a:lnTo>
                    <a:lnTo>
                      <a:pt x="103" y="302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301"/>
                    </a:lnTo>
                  </a:path>
                </a:pathLst>
              </a:custGeom>
              <a:gradFill rotWithShape="0">
                <a:gsLst>
                  <a:gs pos="0">
                    <a:srgbClr val="7e4b00"/>
                  </a:gs>
                  <a:gs pos="50000">
                    <a:srgbClr val="ff9900"/>
                  </a:gs>
                  <a:gs pos="100000">
                    <a:srgbClr val="7e4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91000" y="5180040"/>
                <a:ext cx="164880" cy="293760"/>
              </a:xfrm>
              <a:custGeom>
                <a:avLst/>
                <a:gdLst/>
                <a:ahLst/>
                <a:rect l="l" t="t" r="r" b="b"/>
                <a:pathLst>
                  <a:path w="104" h="185">
                    <a:moveTo>
                      <a:pt x="0" y="183"/>
                    </a:moveTo>
                    <a:lnTo>
                      <a:pt x="52" y="146"/>
                    </a:lnTo>
                    <a:lnTo>
                      <a:pt x="103" y="184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gradFill rotWithShape="0">
                <a:gsLst>
                  <a:gs pos="0">
                    <a:srgbClr val="7e4b00"/>
                  </a:gs>
                  <a:gs pos="50000">
                    <a:srgbClr val="ff9900"/>
                  </a:gs>
                  <a:gs pos="100000">
                    <a:srgbClr val="7e4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487680" y="4983120"/>
                <a:ext cx="370080" cy="407880"/>
              </a:xfrm>
              <a:custGeom>
                <a:avLst/>
                <a:gdLst>
                  <a:gd name="textAreaLeft" fmla="*/ 84240 w 370080"/>
                  <a:gd name="textAreaRight" fmla="*/ 285840 w 370080"/>
                  <a:gd name="textAreaTop" fmla="*/ 92880 h 407880"/>
                  <a:gd name="textAreaBottom" fmla="*/ 315000 h 40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3200"/>
                  </a:gs>
                  <a:gs pos="100000">
                    <a:srgbClr val="ff66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513240" y="5014800"/>
                <a:ext cx="315720" cy="347760"/>
              </a:xfrm>
              <a:custGeom>
                <a:avLst/>
                <a:gdLst>
                  <a:gd name="textAreaLeft" fmla="*/ 72000 w 315720"/>
                  <a:gd name="textAreaRight" fmla="*/ 243720 w 315720"/>
                  <a:gd name="textAreaTop" fmla="*/ 79200 h 347760"/>
                  <a:gd name="textAreaBottom" fmla="*/ 268560 h 347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7e32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606840" y="5092560"/>
              <a:ext cx="1461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670280" y="2465280"/>
            <a:ext cx="370080" cy="569880"/>
            <a:chOff x="4670280" y="2465280"/>
            <a:chExt cx="370080" cy="569880"/>
          </a:xfrm>
        </p:grpSpPr>
        <p:grpSp>
          <p:nvGrpSpPr>
            <p:cNvPr id="139" name=""/>
            <p:cNvGrpSpPr/>
            <p:nvPr/>
          </p:nvGrpSpPr>
          <p:grpSpPr>
            <a:xfrm>
              <a:off x="4670280" y="2465280"/>
              <a:ext cx="370080" cy="569880"/>
              <a:chOff x="4670280" y="2465280"/>
              <a:chExt cx="370080" cy="569880"/>
            </a:xfrm>
          </p:grpSpPr>
          <p:sp>
            <p:nvSpPr>
              <p:cNvPr id="140" name=""/>
              <p:cNvSpPr/>
              <p:nvPr/>
            </p:nvSpPr>
            <p:spPr>
              <a:xfrm>
                <a:off x="4773600" y="2554200"/>
                <a:ext cx="165240" cy="480960"/>
              </a:xfrm>
              <a:custGeom>
                <a:avLst/>
                <a:gdLst/>
                <a:ahLst/>
                <a:rect l="l" t="t" r="r" b="b"/>
                <a:pathLst>
                  <a:path w="104" h="303">
                    <a:moveTo>
                      <a:pt x="0" y="301"/>
                    </a:moveTo>
                    <a:lnTo>
                      <a:pt x="52" y="239"/>
                    </a:lnTo>
                    <a:lnTo>
                      <a:pt x="103" y="302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301"/>
                    </a:lnTo>
                  </a:path>
                </a:pathLst>
              </a:custGeom>
              <a:gradFill rotWithShape="0">
                <a:gsLst>
                  <a:gs pos="0">
                    <a:srgbClr val="7e4b00"/>
                  </a:gs>
                  <a:gs pos="50000">
                    <a:srgbClr val="ff9900"/>
                  </a:gs>
                  <a:gs pos="100000">
                    <a:srgbClr val="7e4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773600" y="2662200"/>
                <a:ext cx="165240" cy="293760"/>
              </a:xfrm>
              <a:custGeom>
                <a:avLst/>
                <a:gdLst/>
                <a:ahLst/>
                <a:rect l="l" t="t" r="r" b="b"/>
                <a:pathLst>
                  <a:path w="104" h="185">
                    <a:moveTo>
                      <a:pt x="0" y="183"/>
                    </a:moveTo>
                    <a:lnTo>
                      <a:pt x="52" y="146"/>
                    </a:lnTo>
                    <a:lnTo>
                      <a:pt x="103" y="184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gradFill rotWithShape="0">
                <a:gsLst>
                  <a:gs pos="0">
                    <a:srgbClr val="7e4b00"/>
                  </a:gs>
                  <a:gs pos="50000">
                    <a:srgbClr val="ff9900"/>
                  </a:gs>
                  <a:gs pos="100000">
                    <a:srgbClr val="7e4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70280" y="2465280"/>
                <a:ext cx="370080" cy="408240"/>
              </a:xfrm>
              <a:custGeom>
                <a:avLst/>
                <a:gdLst>
                  <a:gd name="textAreaLeft" fmla="*/ 84240 w 370080"/>
                  <a:gd name="textAreaRight" fmla="*/ 285840 w 370080"/>
                  <a:gd name="textAreaTop" fmla="*/ 93240 h 408240"/>
                  <a:gd name="textAreaBottom" fmla="*/ 315000 h 40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3200"/>
                  </a:gs>
                  <a:gs pos="100000">
                    <a:srgbClr val="ff66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95840" y="2496960"/>
                <a:ext cx="315720" cy="347760"/>
              </a:xfrm>
              <a:custGeom>
                <a:avLst/>
                <a:gdLst>
                  <a:gd name="textAreaLeft" fmla="*/ 72000 w 315720"/>
                  <a:gd name="textAreaRight" fmla="*/ 243720 w 315720"/>
                  <a:gd name="textAreaTop" fmla="*/ 79200 h 347760"/>
                  <a:gd name="textAreaBottom" fmla="*/ 268560 h 347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7e32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4789440" y="2575080"/>
              <a:ext cx="1461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889600" y="4960800"/>
            <a:ext cx="370080" cy="569880"/>
            <a:chOff x="5889600" y="4960800"/>
            <a:chExt cx="370080" cy="569880"/>
          </a:xfrm>
        </p:grpSpPr>
        <p:grpSp>
          <p:nvGrpSpPr>
            <p:cNvPr id="146" name=""/>
            <p:cNvGrpSpPr/>
            <p:nvPr/>
          </p:nvGrpSpPr>
          <p:grpSpPr>
            <a:xfrm>
              <a:off x="5889600" y="4960800"/>
              <a:ext cx="370080" cy="569880"/>
              <a:chOff x="5889600" y="4960800"/>
              <a:chExt cx="370080" cy="569880"/>
            </a:xfrm>
          </p:grpSpPr>
          <p:sp>
            <p:nvSpPr>
              <p:cNvPr id="147" name=""/>
              <p:cNvSpPr/>
              <p:nvPr/>
            </p:nvSpPr>
            <p:spPr>
              <a:xfrm>
                <a:off x="5992920" y="5049720"/>
                <a:ext cx="164880" cy="480960"/>
              </a:xfrm>
              <a:custGeom>
                <a:avLst/>
                <a:gdLst/>
                <a:ahLst/>
                <a:rect l="l" t="t" r="r" b="b"/>
                <a:pathLst>
                  <a:path w="104" h="303">
                    <a:moveTo>
                      <a:pt x="0" y="301"/>
                    </a:moveTo>
                    <a:lnTo>
                      <a:pt x="52" y="239"/>
                    </a:lnTo>
                    <a:lnTo>
                      <a:pt x="103" y="302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301"/>
                    </a:lnTo>
                  </a:path>
                </a:pathLst>
              </a:custGeom>
              <a:gradFill rotWithShape="0">
                <a:gsLst>
                  <a:gs pos="0">
                    <a:srgbClr val="7e4b00"/>
                  </a:gs>
                  <a:gs pos="50000">
                    <a:srgbClr val="ff9900"/>
                  </a:gs>
                  <a:gs pos="100000">
                    <a:srgbClr val="7e4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92920" y="5157720"/>
                <a:ext cx="164880" cy="293760"/>
              </a:xfrm>
              <a:custGeom>
                <a:avLst/>
                <a:gdLst/>
                <a:ahLst/>
                <a:rect l="l" t="t" r="r" b="b"/>
                <a:pathLst>
                  <a:path w="104" h="185">
                    <a:moveTo>
                      <a:pt x="0" y="183"/>
                    </a:moveTo>
                    <a:lnTo>
                      <a:pt x="52" y="146"/>
                    </a:lnTo>
                    <a:lnTo>
                      <a:pt x="103" y="184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gradFill rotWithShape="0">
                <a:gsLst>
                  <a:gs pos="0">
                    <a:srgbClr val="7e4b00"/>
                  </a:gs>
                  <a:gs pos="50000">
                    <a:srgbClr val="ff9900"/>
                  </a:gs>
                  <a:gs pos="100000">
                    <a:srgbClr val="7e4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89600" y="4960800"/>
                <a:ext cx="370080" cy="408240"/>
              </a:xfrm>
              <a:custGeom>
                <a:avLst/>
                <a:gdLst>
                  <a:gd name="textAreaLeft" fmla="*/ 84240 w 370080"/>
                  <a:gd name="textAreaRight" fmla="*/ 285840 w 370080"/>
                  <a:gd name="textAreaTop" fmla="*/ 93240 h 408240"/>
                  <a:gd name="textAreaBottom" fmla="*/ 315000 h 40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3200"/>
                  </a:gs>
                  <a:gs pos="100000">
                    <a:srgbClr val="ff66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15160" y="4992840"/>
                <a:ext cx="315720" cy="347400"/>
              </a:xfrm>
              <a:custGeom>
                <a:avLst/>
                <a:gdLst>
                  <a:gd name="textAreaLeft" fmla="*/ 72000 w 315720"/>
                  <a:gd name="textAreaRight" fmla="*/ 243720 w 315720"/>
                  <a:gd name="textAreaTop" fmla="*/ 79200 h 347400"/>
                  <a:gd name="textAreaBottom" fmla="*/ 268200 h 34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7e32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6008760" y="5070600"/>
              <a:ext cx="1458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111640" y="5032440"/>
            <a:ext cx="298440" cy="36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4038480" y="2514600"/>
          <a:ext cx="30816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2514600"/>
                    <a:ext cx="3081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749680" y="5076720"/>
          <a:ext cx="298440" cy="36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9680" y="5076720"/>
                    <a:ext cx="29844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 flipV="1">
            <a:off x="2454120" y="3466800"/>
            <a:ext cx="2406960" cy="695160"/>
          </a:xfrm>
          <a:prstGeom prst="line">
            <a:avLst/>
          </a:prstGeom>
          <a:ln w="25560">
            <a:solidFill>
              <a:srgbClr val="3366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5416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ng IPT Protocol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Step: Use SRTP for Audio Stre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48360" y="6324480"/>
            <a:ext cx="25909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ed 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77160" y="4102200"/>
            <a:ext cx="668520" cy="2224080"/>
          </a:xfrm>
          <a:custGeom>
            <a:avLst/>
            <a:gdLst/>
            <a:ahLst/>
            <a:rect l="l" t="t" r="r" b="b"/>
            <a:pathLst>
              <a:path w="421" h="1401">
                <a:moveTo>
                  <a:pt x="0" y="1400"/>
                </a:moveTo>
                <a:lnTo>
                  <a:pt x="17" y="1354"/>
                </a:lnTo>
                <a:lnTo>
                  <a:pt x="39" y="1295"/>
                </a:lnTo>
                <a:lnTo>
                  <a:pt x="65" y="1226"/>
                </a:lnTo>
                <a:lnTo>
                  <a:pt x="95" y="1147"/>
                </a:lnTo>
                <a:lnTo>
                  <a:pt x="128" y="1062"/>
                </a:lnTo>
                <a:lnTo>
                  <a:pt x="161" y="971"/>
                </a:lnTo>
                <a:lnTo>
                  <a:pt x="197" y="876"/>
                </a:lnTo>
                <a:lnTo>
                  <a:pt x="233" y="779"/>
                </a:lnTo>
                <a:lnTo>
                  <a:pt x="301" y="587"/>
                </a:lnTo>
                <a:lnTo>
                  <a:pt x="332" y="495"/>
                </a:lnTo>
                <a:lnTo>
                  <a:pt x="360" y="408"/>
                </a:lnTo>
                <a:lnTo>
                  <a:pt x="383" y="328"/>
                </a:lnTo>
                <a:lnTo>
                  <a:pt x="401" y="256"/>
                </a:lnTo>
                <a:lnTo>
                  <a:pt x="414" y="194"/>
                </a:lnTo>
                <a:lnTo>
                  <a:pt x="420" y="144"/>
                </a:lnTo>
                <a:lnTo>
                  <a:pt x="419" y="105"/>
                </a:lnTo>
                <a:lnTo>
                  <a:pt x="411" y="72"/>
                </a:lnTo>
                <a:lnTo>
                  <a:pt x="399" y="48"/>
                </a:lnTo>
                <a:lnTo>
                  <a:pt x="381" y="29"/>
                </a:lnTo>
                <a:lnTo>
                  <a:pt x="360" y="15"/>
                </a:lnTo>
                <a:lnTo>
                  <a:pt x="335" y="6"/>
                </a:lnTo>
                <a:lnTo>
                  <a:pt x="308" y="2"/>
                </a:lnTo>
                <a:lnTo>
                  <a:pt x="279" y="0"/>
                </a:lnTo>
                <a:lnTo>
                  <a:pt x="219" y="2"/>
                </a:lnTo>
                <a:lnTo>
                  <a:pt x="160" y="9"/>
                </a:lnTo>
                <a:lnTo>
                  <a:pt x="110" y="12"/>
                </a:lnTo>
                <a:lnTo>
                  <a:pt x="91" y="12"/>
                </a:lnTo>
                <a:lnTo>
                  <a:pt x="75" y="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04280" y="2971800"/>
            <a:ext cx="296640" cy="2397240"/>
          </a:xfrm>
          <a:custGeom>
            <a:avLst/>
            <a:gdLst/>
            <a:ahLst/>
            <a:rect l="l" t="t" r="r" b="b"/>
            <a:pathLst>
              <a:path w="187" h="1510">
                <a:moveTo>
                  <a:pt x="0" y="0"/>
                </a:moveTo>
                <a:lnTo>
                  <a:pt x="19" y="3"/>
                </a:lnTo>
                <a:lnTo>
                  <a:pt x="36" y="10"/>
                </a:lnTo>
                <a:lnTo>
                  <a:pt x="52" y="21"/>
                </a:lnTo>
                <a:lnTo>
                  <a:pt x="66" y="37"/>
                </a:lnTo>
                <a:lnTo>
                  <a:pt x="86" y="77"/>
                </a:lnTo>
                <a:lnTo>
                  <a:pt x="91" y="101"/>
                </a:lnTo>
                <a:lnTo>
                  <a:pt x="93" y="126"/>
                </a:lnTo>
                <a:lnTo>
                  <a:pt x="93" y="629"/>
                </a:lnTo>
                <a:lnTo>
                  <a:pt x="95" y="655"/>
                </a:lnTo>
                <a:lnTo>
                  <a:pt x="100" y="678"/>
                </a:lnTo>
                <a:lnTo>
                  <a:pt x="120" y="718"/>
                </a:lnTo>
                <a:lnTo>
                  <a:pt x="134" y="734"/>
                </a:lnTo>
                <a:lnTo>
                  <a:pt x="150" y="745"/>
                </a:lnTo>
                <a:lnTo>
                  <a:pt x="167" y="752"/>
                </a:lnTo>
                <a:lnTo>
                  <a:pt x="186" y="755"/>
                </a:lnTo>
                <a:lnTo>
                  <a:pt x="167" y="757"/>
                </a:lnTo>
                <a:lnTo>
                  <a:pt x="150" y="765"/>
                </a:lnTo>
                <a:lnTo>
                  <a:pt x="134" y="776"/>
                </a:lnTo>
                <a:lnTo>
                  <a:pt x="120" y="792"/>
                </a:lnTo>
                <a:lnTo>
                  <a:pt x="100" y="832"/>
                </a:lnTo>
                <a:lnTo>
                  <a:pt x="95" y="855"/>
                </a:lnTo>
                <a:lnTo>
                  <a:pt x="93" y="880"/>
                </a:lnTo>
                <a:lnTo>
                  <a:pt x="93" y="1384"/>
                </a:lnTo>
                <a:lnTo>
                  <a:pt x="91" y="1409"/>
                </a:lnTo>
                <a:lnTo>
                  <a:pt x="86" y="1433"/>
                </a:lnTo>
                <a:lnTo>
                  <a:pt x="66" y="1473"/>
                </a:lnTo>
                <a:lnTo>
                  <a:pt x="52" y="1488"/>
                </a:lnTo>
                <a:lnTo>
                  <a:pt x="36" y="1500"/>
                </a:lnTo>
                <a:lnTo>
                  <a:pt x="19" y="1507"/>
                </a:lnTo>
                <a:lnTo>
                  <a:pt x="0" y="150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5680" y="3267000"/>
            <a:ext cx="6002280" cy="2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90800" y="2973240"/>
            <a:ext cx="263520" cy="286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5680" y="2973240"/>
            <a:ext cx="465120" cy="286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0440" y="2973240"/>
            <a:ext cx="262080" cy="286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25760" y="2973240"/>
            <a:ext cx="665280" cy="286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93920" y="2973240"/>
            <a:ext cx="263520" cy="286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60680" y="2973240"/>
            <a:ext cx="1198800" cy="286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62360" y="2973240"/>
            <a:ext cx="2865600" cy="286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5680" y="3552840"/>
            <a:ext cx="6002280" cy="286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chronization source (SSRC)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5680" y="3841920"/>
            <a:ext cx="6002280" cy="514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ibuting sources (CCRC) identifiers</a:t>
            </a:r>
            <a:br>
              <a:rPr sz="14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5680" y="4363920"/>
            <a:ext cx="6002280" cy="2862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TP extension 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5680" y="4649760"/>
            <a:ext cx="6002280" cy="930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TP pay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5680" y="5407200"/>
            <a:ext cx="6002280" cy="2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RTP MKI -- 0 bytes for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5680" y="5694480"/>
            <a:ext cx="6002280" cy="2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ion tag -- 4 bytes for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24080" y="4651200"/>
            <a:ext cx="135000" cy="756000"/>
          </a:xfrm>
          <a:custGeom>
            <a:avLst/>
            <a:gdLst/>
            <a:ahLst/>
            <a:rect l="l" t="t" r="r" b="b"/>
            <a:pathLst>
              <a:path w="85" h="476">
                <a:moveTo>
                  <a:pt x="84" y="0"/>
                </a:moveTo>
                <a:lnTo>
                  <a:pt x="76" y="1"/>
                </a:lnTo>
                <a:lnTo>
                  <a:pt x="68" y="3"/>
                </a:lnTo>
                <a:lnTo>
                  <a:pt x="55" y="12"/>
                </a:lnTo>
                <a:lnTo>
                  <a:pt x="45" y="24"/>
                </a:lnTo>
                <a:lnTo>
                  <a:pt x="43" y="32"/>
                </a:lnTo>
                <a:lnTo>
                  <a:pt x="42" y="40"/>
                </a:lnTo>
                <a:lnTo>
                  <a:pt x="42" y="200"/>
                </a:lnTo>
                <a:lnTo>
                  <a:pt x="41" y="208"/>
                </a:lnTo>
                <a:lnTo>
                  <a:pt x="39" y="215"/>
                </a:lnTo>
                <a:lnTo>
                  <a:pt x="30" y="228"/>
                </a:lnTo>
                <a:lnTo>
                  <a:pt x="16" y="236"/>
                </a:lnTo>
                <a:lnTo>
                  <a:pt x="9" y="239"/>
                </a:lnTo>
                <a:lnTo>
                  <a:pt x="0" y="239"/>
                </a:lnTo>
                <a:lnTo>
                  <a:pt x="9" y="240"/>
                </a:lnTo>
                <a:lnTo>
                  <a:pt x="16" y="242"/>
                </a:lnTo>
                <a:lnTo>
                  <a:pt x="30" y="251"/>
                </a:lnTo>
                <a:lnTo>
                  <a:pt x="39" y="264"/>
                </a:lnTo>
                <a:lnTo>
                  <a:pt x="41" y="271"/>
                </a:lnTo>
                <a:lnTo>
                  <a:pt x="42" y="279"/>
                </a:lnTo>
                <a:lnTo>
                  <a:pt x="42" y="436"/>
                </a:lnTo>
                <a:lnTo>
                  <a:pt x="43" y="444"/>
                </a:lnTo>
                <a:lnTo>
                  <a:pt x="45" y="451"/>
                </a:lnTo>
                <a:lnTo>
                  <a:pt x="55" y="464"/>
                </a:lnTo>
                <a:lnTo>
                  <a:pt x="68" y="472"/>
                </a:lnTo>
                <a:lnTo>
                  <a:pt x="76" y="474"/>
                </a:lnTo>
                <a:lnTo>
                  <a:pt x="84" y="47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1640" y="6321600"/>
            <a:ext cx="2133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rypted 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2400" y="5029200"/>
            <a:ext cx="420840" cy="1336680"/>
          </a:xfrm>
          <a:custGeom>
            <a:avLst/>
            <a:gdLst/>
            <a:ahLst/>
            <a:rect l="l" t="t" r="r" b="b"/>
            <a:pathLst>
              <a:path w="265" h="842">
                <a:moveTo>
                  <a:pt x="206" y="841"/>
                </a:moveTo>
                <a:lnTo>
                  <a:pt x="197" y="816"/>
                </a:lnTo>
                <a:lnTo>
                  <a:pt x="187" y="784"/>
                </a:lnTo>
                <a:lnTo>
                  <a:pt x="173" y="746"/>
                </a:lnTo>
                <a:lnTo>
                  <a:pt x="158" y="703"/>
                </a:lnTo>
                <a:lnTo>
                  <a:pt x="141" y="656"/>
                </a:lnTo>
                <a:lnTo>
                  <a:pt x="123" y="606"/>
                </a:lnTo>
                <a:lnTo>
                  <a:pt x="105" y="554"/>
                </a:lnTo>
                <a:lnTo>
                  <a:pt x="86" y="500"/>
                </a:lnTo>
                <a:lnTo>
                  <a:pt x="52" y="394"/>
                </a:lnTo>
                <a:lnTo>
                  <a:pt x="37" y="342"/>
                </a:lnTo>
                <a:lnTo>
                  <a:pt x="23" y="294"/>
                </a:lnTo>
                <a:lnTo>
                  <a:pt x="12" y="248"/>
                </a:lnTo>
                <a:lnTo>
                  <a:pt x="5" y="207"/>
                </a:lnTo>
                <a:lnTo>
                  <a:pt x="0" y="171"/>
                </a:lnTo>
                <a:lnTo>
                  <a:pt x="0" y="141"/>
                </a:lnTo>
                <a:lnTo>
                  <a:pt x="4" y="117"/>
                </a:lnTo>
                <a:lnTo>
                  <a:pt x="12" y="96"/>
                </a:lnTo>
                <a:lnTo>
                  <a:pt x="23" y="79"/>
                </a:lnTo>
                <a:lnTo>
                  <a:pt x="38" y="64"/>
                </a:lnTo>
                <a:lnTo>
                  <a:pt x="54" y="52"/>
                </a:lnTo>
                <a:lnTo>
                  <a:pt x="73" y="43"/>
                </a:lnTo>
                <a:lnTo>
                  <a:pt x="115" y="29"/>
                </a:lnTo>
                <a:lnTo>
                  <a:pt x="159" y="21"/>
                </a:lnTo>
                <a:lnTo>
                  <a:pt x="201" y="15"/>
                </a:lnTo>
                <a:lnTo>
                  <a:pt x="220" y="12"/>
                </a:lnTo>
                <a:lnTo>
                  <a:pt x="237" y="9"/>
                </a:lnTo>
                <a:lnTo>
                  <a:pt x="252" y="5"/>
                </a:lnTo>
                <a:lnTo>
                  <a:pt x="26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523880"/>
            <a:ext cx="72392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Real Tim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C 3711 for transport of secure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AES-128 for both authentication and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546360" y="4898880"/>
            <a:ext cx="1859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22920" y="3798720"/>
            <a:ext cx="0" cy="1067040"/>
          </a:xfrm>
          <a:prstGeom prst="line">
            <a:avLst/>
          </a:prstGeom>
          <a:ln w="2556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ng IPT Protocol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Step: Use SRTP for Audio Stre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48240" y="2593800"/>
            <a:ext cx="0" cy="1211400"/>
          </a:xfrm>
          <a:prstGeom prst="line">
            <a:avLst/>
          </a:prstGeom>
          <a:ln w="2556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709640" y="3805200"/>
            <a:ext cx="4021200" cy="7920"/>
          </a:xfrm>
          <a:prstGeom prst="line">
            <a:avLst/>
          </a:prstGeom>
          <a:ln w="2556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35400" y="3833640"/>
            <a:ext cx="0" cy="1067040"/>
          </a:xfrm>
          <a:prstGeom prst="line">
            <a:avLst/>
          </a:prstGeom>
          <a:ln w="2556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92480" y="2279520"/>
            <a:ext cx="15969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555800" y="4946760"/>
            <a:ext cx="453960" cy="53496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395520" y="2612520"/>
            <a:ext cx="1060560" cy="21337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592520" y="2606760"/>
            <a:ext cx="1014480" cy="213336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254560" y="4587840"/>
            <a:ext cx="862200" cy="692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91120" y="2268360"/>
            <a:ext cx="720720" cy="45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854440" y="4594320"/>
            <a:ext cx="849240" cy="70308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3487680" y="4983120"/>
            <a:ext cx="370080" cy="569880"/>
            <a:chOff x="3487680" y="4983120"/>
            <a:chExt cx="370080" cy="569880"/>
          </a:xfrm>
        </p:grpSpPr>
        <p:grpSp>
          <p:nvGrpSpPr>
            <p:cNvPr id="194" name=""/>
            <p:cNvGrpSpPr/>
            <p:nvPr/>
          </p:nvGrpSpPr>
          <p:grpSpPr>
            <a:xfrm>
              <a:off x="3487680" y="4983120"/>
              <a:ext cx="370080" cy="569880"/>
              <a:chOff x="3487680" y="4983120"/>
              <a:chExt cx="370080" cy="569880"/>
            </a:xfrm>
          </p:grpSpPr>
          <p:sp>
            <p:nvSpPr>
              <p:cNvPr id="195" name=""/>
              <p:cNvSpPr/>
              <p:nvPr/>
            </p:nvSpPr>
            <p:spPr>
              <a:xfrm>
                <a:off x="3591000" y="5072040"/>
                <a:ext cx="164880" cy="480960"/>
              </a:xfrm>
              <a:custGeom>
                <a:avLst/>
                <a:gdLst/>
                <a:ahLst/>
                <a:rect l="l" t="t" r="r" b="b"/>
                <a:pathLst>
                  <a:path w="104" h="303">
                    <a:moveTo>
                      <a:pt x="0" y="301"/>
                    </a:moveTo>
                    <a:lnTo>
                      <a:pt x="52" y="239"/>
                    </a:lnTo>
                    <a:lnTo>
                      <a:pt x="103" y="302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301"/>
                    </a:lnTo>
                  </a:path>
                </a:pathLst>
              </a:custGeom>
              <a:gradFill rotWithShape="0">
                <a:gsLst>
                  <a:gs pos="0">
                    <a:srgbClr val="7e4b00"/>
                  </a:gs>
                  <a:gs pos="50000">
                    <a:srgbClr val="ff9900"/>
                  </a:gs>
                  <a:gs pos="100000">
                    <a:srgbClr val="7e4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91000" y="5180040"/>
                <a:ext cx="164880" cy="293760"/>
              </a:xfrm>
              <a:custGeom>
                <a:avLst/>
                <a:gdLst/>
                <a:ahLst/>
                <a:rect l="l" t="t" r="r" b="b"/>
                <a:pathLst>
                  <a:path w="104" h="185">
                    <a:moveTo>
                      <a:pt x="0" y="183"/>
                    </a:moveTo>
                    <a:lnTo>
                      <a:pt x="52" y="146"/>
                    </a:lnTo>
                    <a:lnTo>
                      <a:pt x="103" y="184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gradFill rotWithShape="0">
                <a:gsLst>
                  <a:gs pos="0">
                    <a:srgbClr val="7e4b00"/>
                  </a:gs>
                  <a:gs pos="50000">
                    <a:srgbClr val="ff9900"/>
                  </a:gs>
                  <a:gs pos="100000">
                    <a:srgbClr val="7e4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87680" y="4983120"/>
                <a:ext cx="370080" cy="407880"/>
              </a:xfrm>
              <a:custGeom>
                <a:avLst/>
                <a:gdLst>
                  <a:gd name="textAreaLeft" fmla="*/ 84240 w 370080"/>
                  <a:gd name="textAreaRight" fmla="*/ 285840 w 370080"/>
                  <a:gd name="textAreaTop" fmla="*/ 92880 h 407880"/>
                  <a:gd name="textAreaBottom" fmla="*/ 315000 h 40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3200"/>
                  </a:gs>
                  <a:gs pos="100000">
                    <a:srgbClr val="ff66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13240" y="5014800"/>
                <a:ext cx="315720" cy="347760"/>
              </a:xfrm>
              <a:custGeom>
                <a:avLst/>
                <a:gdLst>
                  <a:gd name="textAreaLeft" fmla="*/ 72000 w 315720"/>
                  <a:gd name="textAreaRight" fmla="*/ 243720 w 315720"/>
                  <a:gd name="textAreaTop" fmla="*/ 79200 h 347760"/>
                  <a:gd name="textAreaBottom" fmla="*/ 268560 h 347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7e32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3606840" y="5092560"/>
              <a:ext cx="1461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670280" y="2465280"/>
            <a:ext cx="370080" cy="569880"/>
            <a:chOff x="4670280" y="2465280"/>
            <a:chExt cx="370080" cy="569880"/>
          </a:xfrm>
        </p:grpSpPr>
        <p:grpSp>
          <p:nvGrpSpPr>
            <p:cNvPr id="201" name=""/>
            <p:cNvGrpSpPr/>
            <p:nvPr/>
          </p:nvGrpSpPr>
          <p:grpSpPr>
            <a:xfrm>
              <a:off x="4670280" y="2465280"/>
              <a:ext cx="370080" cy="569880"/>
              <a:chOff x="4670280" y="2465280"/>
              <a:chExt cx="370080" cy="569880"/>
            </a:xfrm>
          </p:grpSpPr>
          <p:sp>
            <p:nvSpPr>
              <p:cNvPr id="202" name=""/>
              <p:cNvSpPr/>
              <p:nvPr/>
            </p:nvSpPr>
            <p:spPr>
              <a:xfrm>
                <a:off x="4773600" y="2554200"/>
                <a:ext cx="165240" cy="480960"/>
              </a:xfrm>
              <a:custGeom>
                <a:avLst/>
                <a:gdLst/>
                <a:ahLst/>
                <a:rect l="l" t="t" r="r" b="b"/>
                <a:pathLst>
                  <a:path w="104" h="303">
                    <a:moveTo>
                      <a:pt x="0" y="301"/>
                    </a:moveTo>
                    <a:lnTo>
                      <a:pt x="52" y="239"/>
                    </a:lnTo>
                    <a:lnTo>
                      <a:pt x="103" y="302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301"/>
                    </a:lnTo>
                  </a:path>
                </a:pathLst>
              </a:custGeom>
              <a:gradFill rotWithShape="0">
                <a:gsLst>
                  <a:gs pos="0">
                    <a:srgbClr val="7e4b00"/>
                  </a:gs>
                  <a:gs pos="50000">
                    <a:srgbClr val="ff9900"/>
                  </a:gs>
                  <a:gs pos="100000">
                    <a:srgbClr val="7e4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73600" y="2662200"/>
                <a:ext cx="165240" cy="293760"/>
              </a:xfrm>
              <a:custGeom>
                <a:avLst/>
                <a:gdLst/>
                <a:ahLst/>
                <a:rect l="l" t="t" r="r" b="b"/>
                <a:pathLst>
                  <a:path w="104" h="185">
                    <a:moveTo>
                      <a:pt x="0" y="183"/>
                    </a:moveTo>
                    <a:lnTo>
                      <a:pt x="52" y="146"/>
                    </a:lnTo>
                    <a:lnTo>
                      <a:pt x="103" y="184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gradFill rotWithShape="0">
                <a:gsLst>
                  <a:gs pos="0">
                    <a:srgbClr val="7e4b00"/>
                  </a:gs>
                  <a:gs pos="50000">
                    <a:srgbClr val="ff9900"/>
                  </a:gs>
                  <a:gs pos="100000">
                    <a:srgbClr val="7e4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70280" y="2465280"/>
                <a:ext cx="370080" cy="408240"/>
              </a:xfrm>
              <a:custGeom>
                <a:avLst/>
                <a:gdLst>
                  <a:gd name="textAreaLeft" fmla="*/ 84240 w 370080"/>
                  <a:gd name="textAreaRight" fmla="*/ 285840 w 370080"/>
                  <a:gd name="textAreaTop" fmla="*/ 93240 h 408240"/>
                  <a:gd name="textAreaBottom" fmla="*/ 315000 h 40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3200"/>
                  </a:gs>
                  <a:gs pos="100000">
                    <a:srgbClr val="ff66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95840" y="2496960"/>
                <a:ext cx="315720" cy="347760"/>
              </a:xfrm>
              <a:custGeom>
                <a:avLst/>
                <a:gdLst>
                  <a:gd name="textAreaLeft" fmla="*/ 72000 w 315720"/>
                  <a:gd name="textAreaRight" fmla="*/ 243720 w 315720"/>
                  <a:gd name="textAreaTop" fmla="*/ 79200 h 347760"/>
                  <a:gd name="textAreaBottom" fmla="*/ 268560 h 347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7e32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4789440" y="2575080"/>
              <a:ext cx="1461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889600" y="4960800"/>
            <a:ext cx="370080" cy="569880"/>
            <a:chOff x="5889600" y="4960800"/>
            <a:chExt cx="370080" cy="569880"/>
          </a:xfrm>
        </p:grpSpPr>
        <p:grpSp>
          <p:nvGrpSpPr>
            <p:cNvPr id="208" name=""/>
            <p:cNvGrpSpPr/>
            <p:nvPr/>
          </p:nvGrpSpPr>
          <p:grpSpPr>
            <a:xfrm>
              <a:off x="5889600" y="4960800"/>
              <a:ext cx="370080" cy="569880"/>
              <a:chOff x="5889600" y="4960800"/>
              <a:chExt cx="370080" cy="569880"/>
            </a:xfrm>
          </p:grpSpPr>
          <p:sp>
            <p:nvSpPr>
              <p:cNvPr id="209" name=""/>
              <p:cNvSpPr/>
              <p:nvPr/>
            </p:nvSpPr>
            <p:spPr>
              <a:xfrm>
                <a:off x="5992920" y="5049720"/>
                <a:ext cx="164880" cy="480960"/>
              </a:xfrm>
              <a:custGeom>
                <a:avLst/>
                <a:gdLst/>
                <a:ahLst/>
                <a:rect l="l" t="t" r="r" b="b"/>
                <a:pathLst>
                  <a:path w="104" h="303">
                    <a:moveTo>
                      <a:pt x="0" y="301"/>
                    </a:moveTo>
                    <a:lnTo>
                      <a:pt x="52" y="239"/>
                    </a:lnTo>
                    <a:lnTo>
                      <a:pt x="103" y="302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301"/>
                    </a:lnTo>
                  </a:path>
                </a:pathLst>
              </a:custGeom>
              <a:gradFill rotWithShape="0">
                <a:gsLst>
                  <a:gs pos="0">
                    <a:srgbClr val="7e4b00"/>
                  </a:gs>
                  <a:gs pos="50000">
                    <a:srgbClr val="ff9900"/>
                  </a:gs>
                  <a:gs pos="100000">
                    <a:srgbClr val="7e4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92920" y="5157720"/>
                <a:ext cx="164880" cy="293760"/>
              </a:xfrm>
              <a:custGeom>
                <a:avLst/>
                <a:gdLst/>
                <a:ahLst/>
                <a:rect l="l" t="t" r="r" b="b"/>
                <a:pathLst>
                  <a:path w="104" h="185">
                    <a:moveTo>
                      <a:pt x="0" y="183"/>
                    </a:moveTo>
                    <a:lnTo>
                      <a:pt x="52" y="146"/>
                    </a:lnTo>
                    <a:lnTo>
                      <a:pt x="103" y="184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gradFill rotWithShape="0">
                <a:gsLst>
                  <a:gs pos="0">
                    <a:srgbClr val="7e4b00"/>
                  </a:gs>
                  <a:gs pos="50000">
                    <a:srgbClr val="ff9900"/>
                  </a:gs>
                  <a:gs pos="100000">
                    <a:srgbClr val="7e4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89600" y="4960800"/>
                <a:ext cx="370080" cy="408240"/>
              </a:xfrm>
              <a:custGeom>
                <a:avLst/>
                <a:gdLst>
                  <a:gd name="textAreaLeft" fmla="*/ 84240 w 370080"/>
                  <a:gd name="textAreaRight" fmla="*/ 285840 w 370080"/>
                  <a:gd name="textAreaTop" fmla="*/ 93240 h 408240"/>
                  <a:gd name="textAreaBottom" fmla="*/ 315000 h 40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3200"/>
                  </a:gs>
                  <a:gs pos="100000">
                    <a:srgbClr val="ff66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15160" y="4992840"/>
                <a:ext cx="315720" cy="347400"/>
              </a:xfrm>
              <a:custGeom>
                <a:avLst/>
                <a:gdLst>
                  <a:gd name="textAreaLeft" fmla="*/ 72000 w 315720"/>
                  <a:gd name="textAreaRight" fmla="*/ 243720 w 315720"/>
                  <a:gd name="textAreaTop" fmla="*/ 79200 h 347400"/>
                  <a:gd name="textAreaBottom" fmla="*/ 268200 h 34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7e32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6008760" y="5070600"/>
              <a:ext cx="1458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111640" y="5032440"/>
            <a:ext cx="298440" cy="36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4038480" y="2514600"/>
          <a:ext cx="30816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2514600"/>
                    <a:ext cx="3081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749680" y="5076720"/>
          <a:ext cx="298440" cy="36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9680" y="5076720"/>
                    <a:ext cx="29844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4950000" y="5445000"/>
            <a:ext cx="33811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Arial"/>
              </a:rPr>
              <a:t>SRTP is the transport for authenticated and encrypted (AES-128) media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9000"/>
          </a:bodyPr>
          <a:p>
            <a:pPr marL="285840" indent="-28584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urity for IPT is usually desir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urity for IPT can be deliver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in the network infrastructu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the IPT protoco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urity is not a barrier for deploy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2600" spc="-1" strike="noStrike">
                <a:solidFill>
                  <a:srgbClr val="b92b38"/>
                </a:solidFill>
                <a:latin typeface="Arial"/>
              </a:rPr>
              <a:t>BTW: apply the same paranoia to data as wel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t Models Mer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1000"/>
          </a:bodyPr>
          <a:p>
            <a:pPr marL="234000" indent="-23400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Telephony </a:t>
            </a:r>
            <a:r>
              <a:rPr b="1" lang="en-US" sz="2600" spc="-1" strike="noStrike">
                <a:solidFill>
                  <a:srgbClr val="339999"/>
                </a:solidFill>
                <a:latin typeface="Arial"/>
              </a:rPr>
              <a:t>inherits IP data network </a:t>
            </a:r>
            <a:br>
              <a:rPr sz="2600"/>
            </a:br>
            <a:r>
              <a:rPr b="1" lang="en-US" sz="2600" spc="-1" strike="noStrike">
                <a:solidFill>
                  <a:srgbClr val="339999"/>
                </a:solidFill>
                <a:latin typeface="Arial"/>
              </a:rPr>
              <a:t>threa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del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b92b38"/>
                </a:solidFill>
                <a:latin typeface="Arial"/>
              </a:rPr>
              <a:t>Reconnaissance, DoS, host vulnerability exploit, surveillance, hijacking, identity, theft, misuse, et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oS requirements of IP Telephony </a:t>
            </a:r>
            <a:r>
              <a:rPr b="1" lang="en-US" sz="2600" spc="-1" strike="noStrike">
                <a:solidFill>
                  <a:srgbClr val="339999"/>
                </a:solidFill>
                <a:latin typeface="Arial"/>
              </a:rPr>
              <a:t>increase exposure to DoS attack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at affect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b92b38"/>
                </a:solidFill>
                <a:latin typeface="Arial"/>
              </a:rPr>
              <a:t>Delay, jitter, packet loss, bandwid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C endpoints typically require user authentication, </a:t>
            </a:r>
            <a:r>
              <a:rPr b="1" lang="en-US" sz="2600" spc="-1" strike="noStrike">
                <a:solidFill>
                  <a:srgbClr val="339999"/>
                </a:solidFill>
                <a:latin typeface="Arial"/>
              </a:rPr>
              <a:t>phones typically allow any use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exceptions: access/billing codes, Clas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f Servic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ing IP Telephony Sec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t a protective shell around IP through the infrastructu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cting routers &amp; swit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venting layer 2 tricks like VOM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Physical security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cting IPT serv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t security in the IP telephony protoco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above are not mutually exclusive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 Routers and Switc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484280"/>
            <a:ext cx="8224560" cy="460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89080" indent="-289080">
              <a:lnSpc>
                <a:spcPct val="10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 well-known and proven techniques to protect network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7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llow sound password and authentication practic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7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nsure that unused router services are turned off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7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urely configure any network management func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TP Authentication, Routing Authentication, Password encryption, SSH, AAA features, access control for SNMP, block telnet, turn off unused TCP/UDP servic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trict Physical Access! Beware router/switch password recovery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ent Layer 2 Tri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20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36520" indent="-236520">
              <a:lnSpc>
                <a:spcPct val="75000"/>
              </a:lnSpc>
              <a:spcBef>
                <a:spcPts val="11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 is the forwarding table for a swi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led dynamically based on source MAC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destination MAC address is unknown =&gt; flood frame within V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92b38"/>
                </a:solidFill>
                <a:latin typeface="Arial"/>
              </a:rPr>
              <a:t>CAM overflo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sends zillions of fake source MAC to fill MAC =&gt; learning is disabl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Preven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port secur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small and finite number of MAC per 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1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92b38"/>
                </a:solidFill>
                <a:latin typeface="Arial"/>
              </a:rPr>
              <a:t>Rogue DHC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malicious (fake DNS, GW) allows for Man in the Middle Att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Preven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DHCP snoop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drop all replies coming from non trusted DHCP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1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P is the protocol to link MAC &amp; IP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92b38"/>
                </a:solidFill>
                <a:latin typeface="Arial"/>
              </a:rPr>
              <a:t>ARP spoof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ttacked sends fake binding his-MAC, sniffed-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Preven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DHCP snoop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learn trusted binding, drop all vio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125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nning Tree Protocol, the ‘routing’ protocol, detects lo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b92b38"/>
                </a:solidFill>
                <a:latin typeface="Arial"/>
              </a:rPr>
              <a:t>Fake BPD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&gt; re-routing, computation (Do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Preven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drop BPD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n all access port, partially static top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Word About Physical Secu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ess to network equipment must be controll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ep network equipment well within recommended environmental limi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ssion critical resources may require dispersion, to provide effective redundanc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illing power is an effective DoS att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T Ser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y are essential to 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tected b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ict security policy enforcement (firewall, …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security: IPS, AV, 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ying security fix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BAC manage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ng IPT Protocol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Step: Phone Authent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90440" y="1523520"/>
            <a:ext cx="7088400" cy="48675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84040" indent="-28404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Using X.509 certific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ing Installed Certificate (MI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793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lled in non-erasable, non-volatile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ly Significant Certificate (LS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793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lled by local auth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793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cedes M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ng IPT Protocol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Step: Use TLS for Signa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8640" y="3659040"/>
            <a:ext cx="3959280" cy="378000"/>
          </a:xfrm>
          <a:prstGeom prst="rect">
            <a:avLst/>
          </a:prstGeom>
          <a:solidFill>
            <a:srgbClr val="99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" y="2516040"/>
            <a:ext cx="987480" cy="378000"/>
          </a:xfrm>
          <a:prstGeom prst="rect">
            <a:avLst/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9360" y="2516040"/>
            <a:ext cx="987480" cy="37800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40080" y="2516040"/>
            <a:ext cx="987480" cy="37800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30440" y="2516040"/>
            <a:ext cx="987480" cy="378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640" y="3278160"/>
            <a:ext cx="3959280" cy="37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8640" y="2897280"/>
            <a:ext cx="3959280" cy="3776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3657600"/>
            <a:ext cx="685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276720"/>
            <a:ext cx="685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895480"/>
            <a:ext cx="685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514600"/>
            <a:ext cx="838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2514600"/>
            <a:ext cx="838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514600"/>
            <a:ext cx="838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514600"/>
            <a:ext cx="838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3960" y="2057400"/>
            <a:ext cx="3861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s any application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572000"/>
            <a:ext cx="380988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231840" indent="-231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-directional PKI establishes </a:t>
            </a:r>
            <a:r>
              <a:rPr b="1" lang="en-US" sz="1800" spc="-1" strike="noStrike">
                <a:solidFill>
                  <a:srgbClr val="339999"/>
                </a:solidFill>
                <a:latin typeface="Arial"/>
              </a:rPr>
              <a:t>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MAC provides </a:t>
            </a:r>
            <a:r>
              <a:rPr b="1" lang="en-US" sz="1800" spc="-1" strike="noStrike">
                <a:solidFill>
                  <a:srgbClr val="339999"/>
                </a:solidFill>
                <a:latin typeface="Arial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ryption offers </a:t>
            </a:r>
            <a:r>
              <a:rPr b="1" lang="en-US" sz="1800" spc="-1" strike="noStrike">
                <a:solidFill>
                  <a:srgbClr val="339999"/>
                </a:solidFill>
                <a:latin typeface="Arial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13:12:48Z</dcterms:created>
  <dc:creator>Eric Vyncke</dc:creator>
  <dc:description>April 2003: based on Vincent Bieri presentation and Eric Vyncke presentations
Septembre 2003: shorten the prez, add CCM protection, update features
</dc:description>
  <cp:keywords/>
  <dc:language>en-US</dc:language>
  <cp:lastModifiedBy>Cisco Systems, Inc.</cp:lastModifiedBy>
  <cp:lastPrinted>1999-01-27T00:54:54Z</cp:lastPrinted>
  <dcterms:modified xsi:type="dcterms:W3CDTF">2005-09-05T13:04:30Z</dcterms:modified>
  <cp:revision>308</cp:revision>
  <dc:subject>Securing IP Telephony</dc:subject>
  <dc:title>Securing IP Telephony</dc:title>
</cp:coreProperties>
</file>