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3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A26CCF1-6ACB-4BB3-96C2-D4DF5C8F83B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EF4167F-DC6D-46D7-A325-80F558B08B6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01F9B7D-5156-48CE-B5D4-D06B7A9962D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E809FBA-86E4-4FC3-9EDC-6D5AAEDFD31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6190F85-FEAA-489D-BC1D-631FACC960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0DB1FF4-0305-48DD-A278-20CE24C752C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step upstream from the local data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s the link as 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 incremental deployment only as customers sign up fo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839880" y="236520"/>
            <a:ext cx="5414760" cy="40608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top all types of attacks key is multiple layers of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ithin the Gu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is anomaly recognition – behavior not string signature based; off of normal profile not specific known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re of anomaly recognition is basically the subset in the Detector without the enforcement la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839880" y="236520"/>
            <a:ext cx="5414760" cy="406080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gently and selectively applied anti-spoofing, at multiple levels, until all spoofed packets are determined to be dr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tinue to see anomaly, then can be sure of malicious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 to the multiple planes of defense, there are also escalating levels of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alation minimizes false positives, makes defenses as transparent as possible, and conserves resources for maximiz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ilters in the Analysis stage are basically pre-emptive “lockdown” type filters statically pre-determined as opposed to dynamically driven by actual recognition of anomal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mbedded analysis in the Guard enables it to be confidently used with other detection systems besides the Dete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54E98F4-809B-44BB-874B-C9E99AF5F18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5320" cy="39798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403200" y="4363920"/>
            <a:ext cx="6099120" cy="424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has real costs savin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E2119B8-7B31-4766-A1D5-5744B0D9293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870120" y="244440"/>
            <a:ext cx="5306760" cy="39798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403200" y="4367160"/>
            <a:ext cx="6099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FD27E5A-E5E5-4884-A012-DFF2D3AF93F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806400" y="173160"/>
            <a:ext cx="5415120" cy="40608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39200" y="4457880"/>
            <a:ext cx="6139080" cy="434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6FA337F-400B-4C66-9B34-8BC8A226A9A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70000" y="-592200"/>
            <a:ext cx="4632480" cy="347508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909360" y="2393640"/>
            <a:ext cx="5143320" cy="61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FAF780-66DF-4D01-A009-5E509915D4D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70000" y="-592200"/>
            <a:ext cx="4632480" cy="347508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09360" y="2393640"/>
            <a:ext cx="5143320" cy="61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4240"/>
            <a:ext cx="9144000" cy="298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696880" y="6643440"/>
            <a:ext cx="565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FCB4F16-11AF-47D5-8DE4-8D0F4BD42BFB}" type="slidenum">
              <a:rPr b="0" lang="en-US" sz="7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209520" y="6672240"/>
            <a:ext cx="1322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fr-BE" sz="700" spc="-1" strike="noStrike">
                <a:solidFill>
                  <a:srgbClr val="c0c0c0"/>
                </a:solidFill>
                <a:latin typeface="Arial"/>
              </a:rPr>
              <a:t>Cisco 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18320" y="6599520"/>
            <a:ext cx="923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b92b38"/>
                </a:solidFill>
                <a:latin typeface="Arial"/>
              </a:rPr>
              <a:t>Cisco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313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© 2005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0132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1880" y="485640"/>
            <a:ext cx="86688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0560" y="1332000"/>
            <a:ext cx="694980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64240"/>
            <a:ext cx="9144000" cy="298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96880" y="6643440"/>
            <a:ext cx="565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8C21692-0899-43CA-AD10-07C8F52AF6C0}" type="slidenum">
              <a:rPr b="0" lang="en-US" sz="7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74160" y="666900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© 2005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18320" y="6599520"/>
            <a:ext cx="923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b92b38"/>
                </a:solidFill>
                <a:latin typeface="Arial"/>
              </a:rPr>
              <a:t>Cisco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85800" y="6618960"/>
            <a:ext cx="2209680" cy="2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sco 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2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2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2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2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2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0560" y="1332000"/>
            <a:ext cx="694980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Detecting and Mitigating DoS Attack in a Network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34960" y="4435560"/>
            <a:ext cx="69408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oS Reality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t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ng th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dentification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/User Phone c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Load on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MP – Watching the baseline and tracking variations/surg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flow/IPFIX – Traffic Anomaly Detection Tool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k Holes – Look for Backsc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etflow: Statistics per TCP/UDP Flows</a:t>
            </a: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DoS == Unusual Behavi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867280" y="1981080"/>
            <a:ext cx="2438640" cy="685800"/>
          </a:xfrm>
          <a:prstGeom prst="wedgeRectCallout">
            <a:avLst>
              <a:gd name="adj1" fmla="val -231902"/>
              <a:gd name="adj2" fmla="val -15046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l data dele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1981080"/>
            <a:ext cx="2438640" cy="685800"/>
          </a:xfrm>
          <a:prstGeom prst="wedgeRectCallout">
            <a:avLst>
              <a:gd name="adj1" fmla="val -200976"/>
              <a:gd name="adj2" fmla="val 19097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l data dele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67280" y="1981080"/>
            <a:ext cx="2438640" cy="685800"/>
          </a:xfrm>
          <a:prstGeom prst="wedgeRectCallout">
            <a:avLst>
              <a:gd name="adj1" fmla="val 7615"/>
              <a:gd name="adj2" fmla="val 18865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l data dele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0480" y="1434960"/>
            <a:ext cx="886536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DoS attack (33 flows) on router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: 660 pkt/s    0.2112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xxx is: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ddd is: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rc_i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st_i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r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k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rc_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st_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6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08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22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77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43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108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6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7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15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03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5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18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3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13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2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5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21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1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83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11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9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5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60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0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2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2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3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3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45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68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2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6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9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2.xx.xxx.5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4.yyy.yyy.2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4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2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xxx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28760"/>
                <a:tab algn="l" pos="2568600"/>
                <a:tab algn="l" pos="2954160"/>
                <a:tab algn="l" pos="3519360"/>
                <a:tab algn="l" pos="4100400"/>
                <a:tab algn="l" pos="4762440"/>
                <a:tab algn="l" pos="5424480"/>
                <a:tab algn="l" pos="6199200"/>
                <a:tab algn="l" pos="6861240"/>
                <a:tab algn="l" pos="7910640"/>
                <a:tab algn="l" pos="8358120"/>
                <a:tab algn="l" pos="9286920"/>
                <a:tab algn="l" pos="102157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ink Hole Router</a:t>
            </a: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Backscatter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8280" y="1523520"/>
            <a:ext cx="822492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DDoS victim replies to random destin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&gt; Some backscatter goes to sink hole router, where it can be analy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066680" y="2362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3200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4191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0880" y="5181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6680" y="6095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324840" cy="510552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ackscatter Analys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8381880" y="2449440"/>
            <a:ext cx="685080" cy="958680"/>
            <a:chOff x="8381880" y="2449440"/>
            <a:chExt cx="685080" cy="958680"/>
          </a:xfrm>
        </p:grpSpPr>
        <p:grpSp>
          <p:nvGrpSpPr>
            <p:cNvPr id="768" name=""/>
            <p:cNvGrpSpPr/>
            <p:nvPr/>
          </p:nvGrpSpPr>
          <p:grpSpPr>
            <a:xfrm>
              <a:off x="8390880" y="2459880"/>
              <a:ext cx="676080" cy="948240"/>
              <a:chOff x="8390880" y="2459880"/>
              <a:chExt cx="676080" cy="948240"/>
            </a:xfrm>
          </p:grpSpPr>
          <p:sp>
            <p:nvSpPr>
              <p:cNvPr id="769" name=""/>
              <p:cNvSpPr/>
              <p:nvPr/>
            </p:nvSpPr>
            <p:spPr>
              <a:xfrm>
                <a:off x="8390880" y="332604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430840" y="327348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446320" y="3227400"/>
                <a:ext cx="81720" cy="8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442720" y="3093840"/>
                <a:ext cx="18468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420400" y="286164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528400" y="2779200"/>
                <a:ext cx="370800" cy="340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420400" y="260856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489520" y="323316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99040" y="2608560"/>
                <a:ext cx="36792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592120" y="2459880"/>
                <a:ext cx="366840" cy="33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8381880" y="2449440"/>
              <a:ext cx="675000" cy="948240"/>
              <a:chOff x="8381880" y="2449440"/>
              <a:chExt cx="675000" cy="948240"/>
            </a:xfrm>
          </p:grpSpPr>
          <p:sp>
            <p:nvSpPr>
              <p:cNvPr id="780" name=""/>
              <p:cNvSpPr/>
              <p:nvPr/>
            </p:nvSpPr>
            <p:spPr>
              <a:xfrm>
                <a:off x="8381880" y="331560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420760" y="3263400"/>
                <a:ext cx="8316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36240" y="3216960"/>
                <a:ext cx="81720" cy="83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30840" y="3083400"/>
                <a:ext cx="186120" cy="1544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11400" y="285120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518320" y="2768760"/>
                <a:ext cx="370800" cy="341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1400" y="259812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78000" y="322272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688960" y="2598120"/>
                <a:ext cx="36792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582040" y="2449440"/>
                <a:ext cx="366480" cy="3391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"/>
          <p:cNvSpPr/>
          <p:nvPr/>
        </p:nvSpPr>
        <p:spPr>
          <a:xfrm>
            <a:off x="7772400" y="4057560"/>
            <a:ext cx="10782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98520" y="2222640"/>
            <a:ext cx="6558120" cy="1547640"/>
          </a:xfrm>
          <a:custGeom>
            <a:avLst/>
            <a:gdLst/>
            <a:ahLst/>
            <a:rect l="l" t="t" r="r" b="b"/>
            <a:pathLst>
              <a:path w="4131" h="975">
                <a:moveTo>
                  <a:pt x="0" y="27"/>
                </a:moveTo>
                <a:cubicBezTo>
                  <a:pt x="102" y="44"/>
                  <a:pt x="276" y="0"/>
                  <a:pt x="618" y="136"/>
                </a:cubicBezTo>
                <a:cubicBezTo>
                  <a:pt x="960" y="272"/>
                  <a:pt x="1468" y="715"/>
                  <a:pt x="2053" y="845"/>
                </a:cubicBezTo>
                <a:cubicBezTo>
                  <a:pt x="2638" y="975"/>
                  <a:pt x="3697" y="900"/>
                  <a:pt x="4131" y="91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192320" y="2313000"/>
            <a:ext cx="6740280" cy="1525680"/>
          </a:xfrm>
          <a:custGeom>
            <a:avLst/>
            <a:gdLst/>
            <a:ahLst/>
            <a:rect l="l" t="t" r="r" b="b"/>
            <a:pathLst>
              <a:path w="4246" h="961">
                <a:moveTo>
                  <a:pt x="0" y="96"/>
                </a:moveTo>
                <a:cubicBezTo>
                  <a:pt x="90" y="102"/>
                  <a:pt x="205" y="0"/>
                  <a:pt x="551" y="121"/>
                </a:cubicBezTo>
                <a:cubicBezTo>
                  <a:pt x="897" y="242"/>
                  <a:pt x="1463" y="689"/>
                  <a:pt x="2079" y="825"/>
                </a:cubicBezTo>
                <a:cubicBezTo>
                  <a:pt x="2695" y="961"/>
                  <a:pt x="3794" y="912"/>
                  <a:pt x="4246" y="93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69880" y="3736800"/>
            <a:ext cx="7242120" cy="1378080"/>
          </a:xfrm>
          <a:custGeom>
            <a:avLst/>
            <a:gdLst/>
            <a:ahLst/>
            <a:rect l="l" t="t" r="r" b="b"/>
            <a:pathLst>
              <a:path w="4562" h="868">
                <a:moveTo>
                  <a:pt x="0" y="835"/>
                </a:moveTo>
                <a:cubicBezTo>
                  <a:pt x="334" y="843"/>
                  <a:pt x="342" y="868"/>
                  <a:pt x="543" y="860"/>
                </a:cubicBezTo>
                <a:cubicBezTo>
                  <a:pt x="744" y="852"/>
                  <a:pt x="2145" y="250"/>
                  <a:pt x="2815" y="125"/>
                </a:cubicBezTo>
                <a:cubicBezTo>
                  <a:pt x="3485" y="0"/>
                  <a:pt x="4198" y="114"/>
                  <a:pt x="4562" y="11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82480" y="3797280"/>
            <a:ext cx="7382160" cy="1514520"/>
          </a:xfrm>
          <a:custGeom>
            <a:avLst/>
            <a:gdLst/>
            <a:ahLst/>
            <a:rect l="l" t="t" r="r" b="b"/>
            <a:pathLst>
              <a:path w="4650" h="954">
                <a:moveTo>
                  <a:pt x="0" y="864"/>
                </a:moveTo>
                <a:cubicBezTo>
                  <a:pt x="120" y="858"/>
                  <a:pt x="249" y="954"/>
                  <a:pt x="727" y="830"/>
                </a:cubicBezTo>
                <a:cubicBezTo>
                  <a:pt x="1205" y="706"/>
                  <a:pt x="2212" y="242"/>
                  <a:pt x="2866" y="121"/>
                </a:cubicBezTo>
                <a:cubicBezTo>
                  <a:pt x="3520" y="0"/>
                  <a:pt x="4278" y="108"/>
                  <a:pt x="4650" y="10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3892680"/>
            <a:ext cx="7000920" cy="1469880"/>
          </a:xfrm>
          <a:custGeom>
            <a:avLst/>
            <a:gdLst/>
            <a:ahLst/>
            <a:rect l="l" t="t" r="r" b="b"/>
            <a:pathLst>
              <a:path w="4410" h="926">
                <a:moveTo>
                  <a:pt x="0" y="904"/>
                </a:moveTo>
                <a:cubicBezTo>
                  <a:pt x="125" y="885"/>
                  <a:pt x="292" y="926"/>
                  <a:pt x="759" y="795"/>
                </a:cubicBezTo>
                <a:cubicBezTo>
                  <a:pt x="1226" y="664"/>
                  <a:pt x="2194" y="232"/>
                  <a:pt x="2802" y="116"/>
                </a:cubicBezTo>
                <a:cubicBezTo>
                  <a:pt x="3410" y="0"/>
                  <a:pt x="4075" y="104"/>
                  <a:pt x="4410" y="10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11440" y="1371600"/>
            <a:ext cx="1109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res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75800" y="1371600"/>
            <a:ext cx="826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396800">
            <a:off x="2741400" y="2743200"/>
            <a:ext cx="21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92b38"/>
                </a:solidFill>
                <a:latin typeface="Arial"/>
              </a:rPr>
              <a:t>random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20419200">
            <a:off x="1902960" y="4117680"/>
            <a:ext cx="21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92b38"/>
                </a:solidFill>
                <a:latin typeface="Arial"/>
              </a:rPr>
              <a:t>random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2590920"/>
            <a:ext cx="838080" cy="380880"/>
          </a:xfrm>
          <a:prstGeom prst="line">
            <a:avLst/>
          </a:prstGeom>
          <a:ln w="3816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62320" y="4038120"/>
            <a:ext cx="838080" cy="304920"/>
          </a:xfrm>
          <a:prstGeom prst="line">
            <a:avLst/>
          </a:prstGeom>
          <a:ln w="3816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361760" y="5844960"/>
            <a:ext cx="579240" cy="860400"/>
            <a:chOff x="4361760" y="5844960"/>
            <a:chExt cx="579240" cy="860400"/>
          </a:xfrm>
        </p:grpSpPr>
        <p:sp>
          <p:nvSpPr>
            <p:cNvPr id="803" name=""/>
            <p:cNvSpPr/>
            <p:nvPr/>
          </p:nvSpPr>
          <p:spPr>
            <a:xfrm rot="20040000">
              <a:off x="4518000" y="586368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92080" y="662868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19720" y="626184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31960" y="627768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794480" y="627480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29800" y="621612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0040000">
              <a:off x="4528800" y="588636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4880880" y="5718240"/>
            <a:ext cx="21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 Hole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447920"/>
            <a:ext cx="8466120" cy="4898880"/>
            <a:chOff x="0" y="1447920"/>
            <a:chExt cx="8466120" cy="4898880"/>
          </a:xfrm>
        </p:grpSpPr>
        <p:sp>
          <p:nvSpPr>
            <p:cNvPr id="812" name=""/>
            <p:cNvSpPr/>
            <p:nvPr/>
          </p:nvSpPr>
          <p:spPr>
            <a:xfrm>
              <a:off x="4059360" y="1447920"/>
              <a:ext cx="26492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random desti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57960" y="2664000"/>
              <a:ext cx="2550960" cy="998280"/>
            </a:xfrm>
            <a:custGeom>
              <a:avLst/>
              <a:gdLst/>
              <a:ahLst/>
              <a:rect l="l" t="t" r="r" b="b"/>
              <a:pathLst>
                <a:path w="1607" h="629">
                  <a:moveTo>
                    <a:pt x="394" y="0"/>
                  </a:moveTo>
                  <a:cubicBezTo>
                    <a:pt x="362" y="85"/>
                    <a:pt x="0" y="396"/>
                    <a:pt x="202" y="501"/>
                  </a:cubicBezTo>
                  <a:cubicBezTo>
                    <a:pt x="404" y="606"/>
                    <a:pt x="1314" y="602"/>
                    <a:pt x="1607" y="629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90960" y="2173320"/>
              <a:ext cx="3070440" cy="1568520"/>
            </a:xfrm>
            <a:custGeom>
              <a:avLst/>
              <a:gdLst/>
              <a:ahLst/>
              <a:rect l="l" t="t" r="r" b="b"/>
              <a:pathLst>
                <a:path w="1934" h="988">
                  <a:moveTo>
                    <a:pt x="33" y="0"/>
                  </a:moveTo>
                  <a:cubicBezTo>
                    <a:pt x="80" y="133"/>
                    <a:pt x="0" y="636"/>
                    <a:pt x="317" y="801"/>
                  </a:cubicBezTo>
                  <a:cubicBezTo>
                    <a:pt x="634" y="966"/>
                    <a:pt x="1597" y="949"/>
                    <a:pt x="1934" y="988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35600" y="3968640"/>
              <a:ext cx="2325600" cy="828720"/>
            </a:xfrm>
            <a:custGeom>
              <a:avLst/>
              <a:gdLst/>
              <a:ahLst/>
              <a:rect l="l" t="t" r="r" b="b"/>
              <a:pathLst>
                <a:path w="1465" h="522">
                  <a:moveTo>
                    <a:pt x="531" y="522"/>
                  </a:moveTo>
                  <a:cubicBezTo>
                    <a:pt x="469" y="450"/>
                    <a:pt x="0" y="158"/>
                    <a:pt x="156" y="79"/>
                  </a:cubicBezTo>
                  <a:cubicBezTo>
                    <a:pt x="312" y="0"/>
                    <a:pt x="1192" y="55"/>
                    <a:pt x="1465" y="49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89360" y="2279520"/>
              <a:ext cx="4371840" cy="1535400"/>
            </a:xfrm>
            <a:custGeom>
              <a:avLst/>
              <a:gdLst/>
              <a:ahLst/>
              <a:rect l="l" t="t" r="r" b="b"/>
              <a:pathLst>
                <a:path w="2754" h="967">
                  <a:moveTo>
                    <a:pt x="0" y="0"/>
                  </a:moveTo>
                  <a:cubicBezTo>
                    <a:pt x="160" y="129"/>
                    <a:pt x="501" y="615"/>
                    <a:pt x="960" y="776"/>
                  </a:cubicBezTo>
                  <a:cubicBezTo>
                    <a:pt x="1419" y="937"/>
                    <a:pt x="2380" y="927"/>
                    <a:pt x="2754" y="967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3680" y="2173320"/>
              <a:ext cx="7697520" cy="1744560"/>
            </a:xfrm>
            <a:custGeom>
              <a:avLst/>
              <a:gdLst/>
              <a:ahLst/>
              <a:rect l="l" t="t" r="r" b="b"/>
              <a:pathLst>
                <a:path w="4849" h="1099">
                  <a:moveTo>
                    <a:pt x="0" y="50"/>
                  </a:moveTo>
                  <a:cubicBezTo>
                    <a:pt x="199" y="68"/>
                    <a:pt x="716" y="0"/>
                    <a:pt x="1202" y="150"/>
                  </a:cubicBezTo>
                  <a:cubicBezTo>
                    <a:pt x="1688" y="300"/>
                    <a:pt x="2306" y="805"/>
                    <a:pt x="2914" y="952"/>
                  </a:cubicBezTo>
                  <a:cubicBezTo>
                    <a:pt x="3522" y="1099"/>
                    <a:pt x="4446" y="1017"/>
                    <a:pt x="4849" y="1034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8760" y="3075120"/>
              <a:ext cx="8155080" cy="822240"/>
            </a:xfrm>
            <a:custGeom>
              <a:avLst/>
              <a:gdLst/>
              <a:ahLst/>
              <a:rect l="l" t="t" r="r" b="b"/>
              <a:pathLst>
                <a:path w="5137" h="518">
                  <a:moveTo>
                    <a:pt x="0" y="25"/>
                  </a:moveTo>
                  <a:cubicBezTo>
                    <a:pt x="181" y="30"/>
                    <a:pt x="647" y="0"/>
                    <a:pt x="1094" y="58"/>
                  </a:cubicBezTo>
                  <a:cubicBezTo>
                    <a:pt x="1541" y="116"/>
                    <a:pt x="2006" y="298"/>
                    <a:pt x="2680" y="375"/>
                  </a:cubicBezTo>
                  <a:cubicBezTo>
                    <a:pt x="3354" y="452"/>
                    <a:pt x="4625" y="488"/>
                    <a:pt x="5137" y="518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4520" y="3743280"/>
              <a:ext cx="7962840" cy="382680"/>
            </a:xfrm>
            <a:custGeom>
              <a:avLst/>
              <a:gdLst/>
              <a:ahLst/>
              <a:rect l="l" t="t" r="r" b="b"/>
              <a:pathLst>
                <a:path w="5016" h="241">
                  <a:moveTo>
                    <a:pt x="0" y="230"/>
                  </a:moveTo>
                  <a:cubicBezTo>
                    <a:pt x="78" y="226"/>
                    <a:pt x="174" y="241"/>
                    <a:pt x="476" y="205"/>
                  </a:cubicBezTo>
                  <a:cubicBezTo>
                    <a:pt x="778" y="169"/>
                    <a:pt x="1055" y="26"/>
                    <a:pt x="1812" y="13"/>
                  </a:cubicBezTo>
                  <a:cubicBezTo>
                    <a:pt x="2569" y="0"/>
                    <a:pt x="4349" y="104"/>
                    <a:pt x="5016" y="128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0" y="3693960"/>
              <a:ext cx="8459640" cy="1594080"/>
            </a:xfrm>
            <a:custGeom>
              <a:avLst/>
              <a:gdLst/>
              <a:ahLst/>
              <a:rect l="l" t="t" r="r" b="b"/>
              <a:pathLst>
                <a:path w="5329" h="1004">
                  <a:moveTo>
                    <a:pt x="0" y="1004"/>
                  </a:moveTo>
                  <a:cubicBezTo>
                    <a:pt x="192" y="979"/>
                    <a:pt x="590" y="1001"/>
                    <a:pt x="1160" y="854"/>
                  </a:cubicBezTo>
                  <a:cubicBezTo>
                    <a:pt x="1730" y="707"/>
                    <a:pt x="2724" y="240"/>
                    <a:pt x="3419" y="120"/>
                  </a:cubicBezTo>
                  <a:cubicBezTo>
                    <a:pt x="4114" y="0"/>
                    <a:pt x="4931" y="130"/>
                    <a:pt x="5329" y="133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3720" y="3936960"/>
              <a:ext cx="8042400" cy="2409840"/>
            </a:xfrm>
            <a:custGeom>
              <a:avLst/>
              <a:gdLst/>
              <a:ahLst/>
              <a:rect l="l" t="t" r="r" b="b"/>
              <a:pathLst>
                <a:path w="5066" h="1518">
                  <a:moveTo>
                    <a:pt x="0" y="1410"/>
                  </a:moveTo>
                  <a:cubicBezTo>
                    <a:pt x="206" y="1395"/>
                    <a:pt x="779" y="1518"/>
                    <a:pt x="1227" y="1318"/>
                  </a:cubicBezTo>
                  <a:cubicBezTo>
                    <a:pt x="1675" y="1118"/>
                    <a:pt x="2048" y="416"/>
                    <a:pt x="2688" y="208"/>
                  </a:cubicBezTo>
                  <a:cubicBezTo>
                    <a:pt x="3328" y="0"/>
                    <a:pt x="4571" y="100"/>
                    <a:pt x="5066" y="71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48280" y="3763800"/>
              <a:ext cx="3908160" cy="1920960"/>
            </a:xfrm>
            <a:custGeom>
              <a:avLst/>
              <a:gdLst/>
              <a:ahLst/>
              <a:rect l="l" t="t" r="r" b="b"/>
              <a:pathLst>
                <a:path w="2462" h="1210">
                  <a:moveTo>
                    <a:pt x="0" y="1210"/>
                  </a:moveTo>
                  <a:cubicBezTo>
                    <a:pt x="0" y="1027"/>
                    <a:pt x="7" y="611"/>
                    <a:pt x="417" y="409"/>
                  </a:cubicBezTo>
                  <a:cubicBezTo>
                    <a:pt x="827" y="207"/>
                    <a:pt x="2036" y="85"/>
                    <a:pt x="2462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78400" y="3763800"/>
              <a:ext cx="3908520" cy="1616400"/>
            </a:xfrm>
            <a:custGeom>
              <a:avLst/>
              <a:gdLst/>
              <a:ahLst/>
              <a:rect l="l" t="t" r="r" b="b"/>
              <a:pathLst>
                <a:path w="2462" h="1018">
                  <a:moveTo>
                    <a:pt x="1345" y="1018"/>
                  </a:moveTo>
                  <a:cubicBezTo>
                    <a:pt x="1192" y="929"/>
                    <a:pt x="0" y="968"/>
                    <a:pt x="426" y="484"/>
                  </a:cubicBezTo>
                  <a:cubicBezTo>
                    <a:pt x="852" y="0"/>
                    <a:pt x="2038" y="162"/>
                    <a:pt x="2462" y="77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48280" y="5843520"/>
              <a:ext cx="502920" cy="425520"/>
            </a:xfrm>
            <a:custGeom>
              <a:avLst/>
              <a:gdLst/>
              <a:ahLst/>
              <a:rect l="l" t="t" r="r" b="b"/>
              <a:pathLst>
                <a:path w="317" h="268">
                  <a:moveTo>
                    <a:pt x="300" y="268"/>
                  </a:moveTo>
                  <a:cubicBezTo>
                    <a:pt x="300" y="85"/>
                    <a:pt x="317" y="104"/>
                    <a:pt x="267" y="59"/>
                  </a:cubicBezTo>
                  <a:cubicBezTo>
                    <a:pt x="217" y="14"/>
                    <a:pt x="56" y="12"/>
                    <a:pt x="0" y="0"/>
                  </a:cubicBezTo>
                </a:path>
              </a:pathLst>
            </a:custGeom>
            <a:noFill/>
            <a:ln w="57240">
              <a:solidFill>
                <a:srgbClr val="009900"/>
              </a:solidFill>
              <a:prstDash val="lg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338640" y="5254560"/>
            <a:ext cx="4967280" cy="1555920"/>
          </a:xfrm>
          <a:custGeom>
            <a:avLst/>
            <a:gdLst/>
            <a:ahLst/>
            <a:rect l="l" t="t" r="r" b="b"/>
            <a:pathLst>
              <a:path w="2530" h="980">
                <a:moveTo>
                  <a:pt x="2413" y="346"/>
                </a:moveTo>
                <a:cubicBezTo>
                  <a:pt x="2074" y="300"/>
                  <a:pt x="752" y="0"/>
                  <a:pt x="376" y="71"/>
                </a:cubicBezTo>
                <a:cubicBezTo>
                  <a:pt x="0" y="142"/>
                  <a:pt x="53" y="622"/>
                  <a:pt x="159" y="772"/>
                </a:cubicBezTo>
                <a:cubicBezTo>
                  <a:pt x="265" y="922"/>
                  <a:pt x="636" y="980"/>
                  <a:pt x="1011" y="972"/>
                </a:cubicBezTo>
                <a:cubicBezTo>
                  <a:pt x="1386" y="964"/>
                  <a:pt x="2288" y="947"/>
                  <a:pt x="2409" y="722"/>
                </a:cubicBezTo>
                <a:cubicBezTo>
                  <a:pt x="2530" y="497"/>
                  <a:pt x="2313" y="394"/>
                  <a:pt x="2073" y="19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-228600" y="2133720"/>
            <a:ext cx="8871120" cy="4190760"/>
            <a:chOff x="-228600" y="2133720"/>
            <a:chExt cx="8871120" cy="4190760"/>
          </a:xfrm>
        </p:grpSpPr>
        <p:pic>
          <p:nvPicPr>
            <p:cNvPr id="827" name="" descr=""/>
            <p:cNvPicPr/>
            <p:nvPr/>
          </p:nvPicPr>
          <p:blipFill>
            <a:blip r:embed="rId2"/>
            <a:stretch/>
          </p:blipFill>
          <p:spPr>
            <a:xfrm>
              <a:off x="3809880" y="571500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3"/>
            <a:stretch/>
          </p:blipFill>
          <p:spPr>
            <a:xfrm>
              <a:off x="7924680" y="3400560"/>
              <a:ext cx="717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6080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6"/>
            <a:stretch/>
          </p:blipFill>
          <p:spPr>
            <a:xfrm>
              <a:off x="1219320" y="297504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7"/>
            <a:stretch/>
          </p:blipFill>
          <p:spPr>
            <a:xfrm>
              <a:off x="611280" y="3962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8"/>
            <a:stretch/>
          </p:blipFill>
          <p:spPr>
            <a:xfrm>
              <a:off x="1828800" y="5870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9"/>
            <a:stretch/>
          </p:blipFill>
          <p:spPr>
            <a:xfrm>
              <a:off x="1219320" y="49561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0"/>
            <a:stretch/>
          </p:blipFill>
          <p:spPr>
            <a:xfrm>
              <a:off x="838080" y="2133720"/>
              <a:ext cx="6098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1"/>
            <a:stretch/>
          </p:blipFill>
          <p:spPr>
            <a:xfrm>
              <a:off x="304920" y="297324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2"/>
            <a:stretch/>
          </p:blipFill>
          <p:spPr>
            <a:xfrm>
              <a:off x="-228600" y="396396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3"/>
            <a:stretch/>
          </p:blipFill>
          <p:spPr>
            <a:xfrm>
              <a:off x="304920" y="4954680"/>
              <a:ext cx="6094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4"/>
            <a:stretch/>
          </p:blipFill>
          <p:spPr>
            <a:xfrm>
              <a:off x="838080" y="5869080"/>
              <a:ext cx="60984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oS Reality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ng th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racing DoS Attac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8280" y="1447560"/>
            <a:ext cx="822492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source prefix is not spoof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Routing tabl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Internet Routing Registry (IRR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direct site cont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source prefix is spoofed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Trace packet flow through the network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L, NetFlow, IP source tra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Find upstream ISP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Upstream needs to continue tra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adays, 1000’s of sources not spoof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&gt; not always meaningful to trace back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5560" y="225000"/>
            <a:ext cx="785520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race-Back in One Step: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CMP Backscat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8280" y="1752480"/>
            <a:ext cx="8224920" cy="437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rder rout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ow ICMP (rate limi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packet drop, ICM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nreachab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ill be sent to the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ACL or routing tricks (routing to NULL 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ingress router drop traffic to &lt;victi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send ICMP unreachables to spoofed source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k hole router logs the ICMP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066680" y="2362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33520" y="3200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4191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0880" y="5181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066680" y="6095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324840" cy="510552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race-Back Made Easy: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CMP Backscatter Step 1: no dro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8381880" y="2449440"/>
            <a:ext cx="685080" cy="958680"/>
            <a:chOff x="8381880" y="2449440"/>
            <a:chExt cx="685080" cy="958680"/>
          </a:xfrm>
        </p:grpSpPr>
        <p:grpSp>
          <p:nvGrpSpPr>
            <p:cNvPr id="855" name=""/>
            <p:cNvGrpSpPr/>
            <p:nvPr/>
          </p:nvGrpSpPr>
          <p:grpSpPr>
            <a:xfrm>
              <a:off x="8390880" y="2459880"/>
              <a:ext cx="676080" cy="948240"/>
              <a:chOff x="8390880" y="2459880"/>
              <a:chExt cx="676080" cy="948240"/>
            </a:xfrm>
          </p:grpSpPr>
          <p:sp>
            <p:nvSpPr>
              <p:cNvPr id="856" name=""/>
              <p:cNvSpPr/>
              <p:nvPr/>
            </p:nvSpPr>
            <p:spPr>
              <a:xfrm>
                <a:off x="8390880" y="332604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430840" y="327348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446320" y="3227400"/>
                <a:ext cx="81720" cy="8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42720" y="3093840"/>
                <a:ext cx="18468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420400" y="286164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528400" y="2779200"/>
                <a:ext cx="370800" cy="340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420400" y="260856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489520" y="323316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99040" y="2608560"/>
                <a:ext cx="36792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592120" y="2459880"/>
                <a:ext cx="366840" cy="33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8381880" y="2449440"/>
              <a:ext cx="675000" cy="948240"/>
              <a:chOff x="8381880" y="2449440"/>
              <a:chExt cx="675000" cy="948240"/>
            </a:xfrm>
          </p:grpSpPr>
          <p:sp>
            <p:nvSpPr>
              <p:cNvPr id="867" name=""/>
              <p:cNvSpPr/>
              <p:nvPr/>
            </p:nvSpPr>
            <p:spPr>
              <a:xfrm>
                <a:off x="8381880" y="331560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20760" y="3263400"/>
                <a:ext cx="8316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36240" y="3216960"/>
                <a:ext cx="81720" cy="83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430840" y="3083400"/>
                <a:ext cx="186120" cy="1544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411400" y="285120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518320" y="2768760"/>
                <a:ext cx="370800" cy="341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411400" y="259812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478000" y="322272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88960" y="2598120"/>
                <a:ext cx="36792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582040" y="2449440"/>
                <a:ext cx="366480" cy="3391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7772400" y="4057560"/>
            <a:ext cx="10782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98520" y="2222640"/>
            <a:ext cx="6558120" cy="1547640"/>
          </a:xfrm>
          <a:custGeom>
            <a:avLst/>
            <a:gdLst/>
            <a:ahLst/>
            <a:rect l="l" t="t" r="r" b="b"/>
            <a:pathLst>
              <a:path w="4131" h="975">
                <a:moveTo>
                  <a:pt x="0" y="27"/>
                </a:moveTo>
                <a:cubicBezTo>
                  <a:pt x="102" y="44"/>
                  <a:pt x="276" y="0"/>
                  <a:pt x="618" y="136"/>
                </a:cubicBezTo>
                <a:cubicBezTo>
                  <a:pt x="960" y="272"/>
                  <a:pt x="1468" y="715"/>
                  <a:pt x="2053" y="845"/>
                </a:cubicBezTo>
                <a:cubicBezTo>
                  <a:pt x="2638" y="975"/>
                  <a:pt x="3697" y="900"/>
                  <a:pt x="4131" y="91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92320" y="2313000"/>
            <a:ext cx="6740280" cy="1525680"/>
          </a:xfrm>
          <a:custGeom>
            <a:avLst/>
            <a:gdLst/>
            <a:ahLst/>
            <a:rect l="l" t="t" r="r" b="b"/>
            <a:pathLst>
              <a:path w="4246" h="961">
                <a:moveTo>
                  <a:pt x="0" y="96"/>
                </a:moveTo>
                <a:cubicBezTo>
                  <a:pt x="90" y="102"/>
                  <a:pt x="205" y="0"/>
                  <a:pt x="551" y="121"/>
                </a:cubicBezTo>
                <a:cubicBezTo>
                  <a:pt x="897" y="242"/>
                  <a:pt x="1463" y="689"/>
                  <a:pt x="2079" y="825"/>
                </a:cubicBezTo>
                <a:cubicBezTo>
                  <a:pt x="2695" y="961"/>
                  <a:pt x="3794" y="912"/>
                  <a:pt x="4246" y="93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69880" y="3736800"/>
            <a:ext cx="7242120" cy="1378080"/>
          </a:xfrm>
          <a:custGeom>
            <a:avLst/>
            <a:gdLst/>
            <a:ahLst/>
            <a:rect l="l" t="t" r="r" b="b"/>
            <a:pathLst>
              <a:path w="4562" h="868">
                <a:moveTo>
                  <a:pt x="0" y="835"/>
                </a:moveTo>
                <a:cubicBezTo>
                  <a:pt x="334" y="843"/>
                  <a:pt x="342" y="868"/>
                  <a:pt x="543" y="860"/>
                </a:cubicBezTo>
                <a:cubicBezTo>
                  <a:pt x="744" y="852"/>
                  <a:pt x="2145" y="250"/>
                  <a:pt x="2815" y="125"/>
                </a:cubicBezTo>
                <a:cubicBezTo>
                  <a:pt x="3485" y="0"/>
                  <a:pt x="4198" y="114"/>
                  <a:pt x="4562" y="11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82480" y="3797280"/>
            <a:ext cx="7382160" cy="1514520"/>
          </a:xfrm>
          <a:custGeom>
            <a:avLst/>
            <a:gdLst/>
            <a:ahLst/>
            <a:rect l="l" t="t" r="r" b="b"/>
            <a:pathLst>
              <a:path w="4650" h="954">
                <a:moveTo>
                  <a:pt x="0" y="864"/>
                </a:moveTo>
                <a:cubicBezTo>
                  <a:pt x="120" y="858"/>
                  <a:pt x="249" y="954"/>
                  <a:pt x="727" y="830"/>
                </a:cubicBezTo>
                <a:cubicBezTo>
                  <a:pt x="1205" y="706"/>
                  <a:pt x="2212" y="242"/>
                  <a:pt x="2866" y="121"/>
                </a:cubicBezTo>
                <a:cubicBezTo>
                  <a:pt x="3520" y="0"/>
                  <a:pt x="4278" y="108"/>
                  <a:pt x="4650" y="10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55640" y="3892680"/>
            <a:ext cx="7000920" cy="1469880"/>
          </a:xfrm>
          <a:custGeom>
            <a:avLst/>
            <a:gdLst/>
            <a:ahLst/>
            <a:rect l="l" t="t" r="r" b="b"/>
            <a:pathLst>
              <a:path w="4410" h="926">
                <a:moveTo>
                  <a:pt x="0" y="904"/>
                </a:moveTo>
                <a:cubicBezTo>
                  <a:pt x="125" y="885"/>
                  <a:pt x="292" y="926"/>
                  <a:pt x="759" y="795"/>
                </a:cubicBezTo>
                <a:cubicBezTo>
                  <a:pt x="1226" y="664"/>
                  <a:pt x="2194" y="232"/>
                  <a:pt x="2802" y="116"/>
                </a:cubicBezTo>
                <a:cubicBezTo>
                  <a:pt x="3410" y="0"/>
                  <a:pt x="4075" y="104"/>
                  <a:pt x="4410" y="10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11440" y="1371600"/>
            <a:ext cx="1109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res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5800" y="1371600"/>
            <a:ext cx="826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rot="1396800">
            <a:off x="2741400" y="2743200"/>
            <a:ext cx="21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92b38"/>
                </a:solidFill>
                <a:latin typeface="Arial"/>
              </a:rPr>
              <a:t>random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20419200">
            <a:off x="1902960" y="4117680"/>
            <a:ext cx="21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92b38"/>
                </a:solidFill>
                <a:latin typeface="Arial"/>
              </a:rPr>
              <a:t>random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429000" y="2590920"/>
            <a:ext cx="838080" cy="380880"/>
          </a:xfrm>
          <a:prstGeom prst="line">
            <a:avLst/>
          </a:prstGeom>
          <a:ln w="3816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362320" y="4038120"/>
            <a:ext cx="838080" cy="304920"/>
          </a:xfrm>
          <a:prstGeom prst="line">
            <a:avLst/>
          </a:prstGeom>
          <a:ln w="3816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4361760" y="5844960"/>
            <a:ext cx="579240" cy="860400"/>
            <a:chOff x="4361760" y="5844960"/>
            <a:chExt cx="579240" cy="860400"/>
          </a:xfrm>
        </p:grpSpPr>
        <p:sp>
          <p:nvSpPr>
            <p:cNvPr id="890" name=""/>
            <p:cNvSpPr/>
            <p:nvPr/>
          </p:nvSpPr>
          <p:spPr>
            <a:xfrm rot="20040000">
              <a:off x="4518000" y="586368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92080" y="662868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9720" y="626184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31960" y="627768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794480" y="627480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29800" y="621612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040000">
              <a:off x="4528800" y="588636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4682880" y="5718240"/>
            <a:ext cx="2167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 hole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-228600" y="2133720"/>
            <a:ext cx="8871120" cy="4190760"/>
            <a:chOff x="-228600" y="2133720"/>
            <a:chExt cx="8871120" cy="4190760"/>
          </a:xfrm>
        </p:grpSpPr>
        <p:pic>
          <p:nvPicPr>
            <p:cNvPr id="899" name="" descr=""/>
            <p:cNvPicPr/>
            <p:nvPr/>
          </p:nvPicPr>
          <p:blipFill>
            <a:blip r:embed="rId2"/>
            <a:stretch/>
          </p:blipFill>
          <p:spPr>
            <a:xfrm>
              <a:off x="3809880" y="571500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7924680" y="3400560"/>
              <a:ext cx="717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6080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6"/>
            <a:stretch/>
          </p:blipFill>
          <p:spPr>
            <a:xfrm>
              <a:off x="1219320" y="297504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7"/>
            <a:stretch/>
          </p:blipFill>
          <p:spPr>
            <a:xfrm>
              <a:off x="611280" y="3962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8"/>
            <a:stretch/>
          </p:blipFill>
          <p:spPr>
            <a:xfrm>
              <a:off x="1828800" y="5870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9"/>
            <a:stretch/>
          </p:blipFill>
          <p:spPr>
            <a:xfrm>
              <a:off x="1219320" y="49561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0"/>
            <a:stretch/>
          </p:blipFill>
          <p:spPr>
            <a:xfrm>
              <a:off x="838080" y="2133720"/>
              <a:ext cx="6098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1"/>
            <a:stretch/>
          </p:blipFill>
          <p:spPr>
            <a:xfrm>
              <a:off x="304920" y="297324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2"/>
            <a:stretch/>
          </p:blipFill>
          <p:spPr>
            <a:xfrm>
              <a:off x="-228600" y="396396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3"/>
            <a:stretch/>
          </p:blipFill>
          <p:spPr>
            <a:xfrm>
              <a:off x="304920" y="4954680"/>
              <a:ext cx="6094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4"/>
            <a:stretch/>
          </p:blipFill>
          <p:spPr>
            <a:xfrm>
              <a:off x="838080" y="5869080"/>
              <a:ext cx="60984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324840" cy="5105520"/>
          </a:xfrm>
          <a:prstGeom prst="rect">
            <a:avLst/>
          </a:prstGeom>
          <a:ln w="0">
            <a:noFill/>
          </a:ln>
        </p:spPr>
      </p:pic>
      <p:grpSp>
        <p:nvGrpSpPr>
          <p:cNvPr id="913" name=""/>
          <p:cNvGrpSpPr/>
          <p:nvPr/>
        </p:nvGrpSpPr>
        <p:grpSpPr>
          <a:xfrm>
            <a:off x="1266840" y="4587840"/>
            <a:ext cx="638280" cy="501840"/>
            <a:chOff x="1266840" y="4587840"/>
            <a:chExt cx="638280" cy="501840"/>
          </a:xfrm>
        </p:grpSpPr>
        <p:sp>
          <p:nvSpPr>
            <p:cNvPr id="914" name=""/>
            <p:cNvSpPr/>
            <p:nvPr/>
          </p:nvSpPr>
          <p:spPr>
            <a:xfrm>
              <a:off x="1266840" y="4587840"/>
              <a:ext cx="577800" cy="336600"/>
            </a:xfrm>
            <a:custGeom>
              <a:avLst/>
              <a:gdLst/>
              <a:ahLst/>
              <a:rect l="l" t="t" r="r" b="b"/>
              <a:pathLst>
                <a:path w="364" h="212">
                  <a:moveTo>
                    <a:pt x="81" y="212"/>
                  </a:moveTo>
                  <a:cubicBezTo>
                    <a:pt x="0" y="51"/>
                    <a:pt x="44" y="60"/>
                    <a:pt x="91" y="30"/>
                  </a:cubicBezTo>
                  <a:cubicBezTo>
                    <a:pt x="138" y="0"/>
                    <a:pt x="307" y="30"/>
                    <a:pt x="364" y="30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19120" y="4662360"/>
              <a:ext cx="393840" cy="414360"/>
            </a:xfrm>
            <a:custGeom>
              <a:avLst/>
              <a:gdLst/>
              <a:ahLst/>
              <a:rect l="l" t="t" r="r" b="b"/>
              <a:pathLst>
                <a:path w="248" h="261">
                  <a:moveTo>
                    <a:pt x="81" y="261"/>
                  </a:moveTo>
                  <a:cubicBezTo>
                    <a:pt x="0" y="100"/>
                    <a:pt x="8" y="68"/>
                    <a:pt x="36" y="34"/>
                  </a:cubicBezTo>
                  <a:cubicBezTo>
                    <a:pt x="64" y="0"/>
                    <a:pt x="204" y="50"/>
                    <a:pt x="248" y="54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47920" y="4800600"/>
              <a:ext cx="457200" cy="289080"/>
            </a:xfrm>
            <a:custGeom>
              <a:avLst/>
              <a:gdLst/>
              <a:ahLst/>
              <a:rect l="l" t="t" r="r" b="b"/>
              <a:pathLst>
                <a:path w="288" h="182">
                  <a:moveTo>
                    <a:pt x="5" y="182"/>
                  </a:moveTo>
                  <a:cubicBezTo>
                    <a:pt x="0" y="56"/>
                    <a:pt x="34" y="86"/>
                    <a:pt x="81" y="56"/>
                  </a:cubicBezTo>
                  <a:cubicBezTo>
                    <a:pt x="128" y="26"/>
                    <a:pt x="245" y="12"/>
                    <a:pt x="288" y="0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066680" y="2362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3520" y="3200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4191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0880" y="5181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66680" y="6095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38098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race-Back Made Easy: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CMP Backscatter Step 2: Drop Packe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772400" y="4057560"/>
            <a:ext cx="10782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98520" y="2222640"/>
            <a:ext cx="619200" cy="74520"/>
          </a:xfrm>
          <a:custGeom>
            <a:avLst/>
            <a:gdLst/>
            <a:ahLst/>
            <a:rect l="l" t="t" r="r" b="b"/>
            <a:pathLst>
              <a:path w="4131" h="975">
                <a:moveTo>
                  <a:pt x="0" y="27"/>
                </a:moveTo>
                <a:cubicBezTo>
                  <a:pt x="102" y="44"/>
                  <a:pt x="276" y="0"/>
                  <a:pt x="618" y="136"/>
                </a:cubicBezTo>
                <a:cubicBezTo>
                  <a:pt x="960" y="272"/>
                  <a:pt x="1468" y="715"/>
                  <a:pt x="2053" y="845"/>
                </a:cubicBezTo>
                <a:cubicBezTo>
                  <a:pt x="2638" y="975"/>
                  <a:pt x="3697" y="900"/>
                  <a:pt x="4131" y="91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192320" y="2313000"/>
            <a:ext cx="636480" cy="74520"/>
          </a:xfrm>
          <a:custGeom>
            <a:avLst/>
            <a:gdLst/>
            <a:ahLst/>
            <a:rect l="l" t="t" r="r" b="b"/>
            <a:pathLst>
              <a:path w="4246" h="961">
                <a:moveTo>
                  <a:pt x="0" y="96"/>
                </a:moveTo>
                <a:cubicBezTo>
                  <a:pt x="90" y="102"/>
                  <a:pt x="205" y="0"/>
                  <a:pt x="551" y="121"/>
                </a:cubicBezTo>
                <a:cubicBezTo>
                  <a:pt x="897" y="242"/>
                  <a:pt x="1463" y="689"/>
                  <a:pt x="2079" y="825"/>
                </a:cubicBezTo>
                <a:cubicBezTo>
                  <a:pt x="2695" y="961"/>
                  <a:pt x="3794" y="912"/>
                  <a:pt x="4246" y="93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69880" y="4995720"/>
            <a:ext cx="623880" cy="119160"/>
          </a:xfrm>
          <a:custGeom>
            <a:avLst/>
            <a:gdLst/>
            <a:ahLst/>
            <a:rect l="l" t="t" r="r" b="b"/>
            <a:pathLst>
              <a:path w="4562" h="868">
                <a:moveTo>
                  <a:pt x="0" y="835"/>
                </a:moveTo>
                <a:cubicBezTo>
                  <a:pt x="334" y="843"/>
                  <a:pt x="342" y="868"/>
                  <a:pt x="543" y="860"/>
                </a:cubicBezTo>
                <a:cubicBezTo>
                  <a:pt x="744" y="852"/>
                  <a:pt x="2145" y="250"/>
                  <a:pt x="2815" y="125"/>
                </a:cubicBezTo>
                <a:cubicBezTo>
                  <a:pt x="3485" y="0"/>
                  <a:pt x="4198" y="114"/>
                  <a:pt x="4562" y="11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82480" y="5181480"/>
            <a:ext cx="636840" cy="130320"/>
          </a:xfrm>
          <a:custGeom>
            <a:avLst/>
            <a:gdLst/>
            <a:ahLst/>
            <a:rect l="l" t="t" r="r" b="b"/>
            <a:pathLst>
              <a:path w="4650" h="954">
                <a:moveTo>
                  <a:pt x="0" y="864"/>
                </a:moveTo>
                <a:cubicBezTo>
                  <a:pt x="120" y="858"/>
                  <a:pt x="249" y="954"/>
                  <a:pt x="727" y="830"/>
                </a:cubicBezTo>
                <a:cubicBezTo>
                  <a:pt x="1205" y="706"/>
                  <a:pt x="2212" y="242"/>
                  <a:pt x="2866" y="121"/>
                </a:cubicBezTo>
                <a:cubicBezTo>
                  <a:pt x="3520" y="0"/>
                  <a:pt x="4278" y="108"/>
                  <a:pt x="4650" y="10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55640" y="5235480"/>
            <a:ext cx="603360" cy="127080"/>
          </a:xfrm>
          <a:custGeom>
            <a:avLst/>
            <a:gdLst/>
            <a:ahLst/>
            <a:rect l="l" t="t" r="r" b="b"/>
            <a:pathLst>
              <a:path w="4410" h="926">
                <a:moveTo>
                  <a:pt x="0" y="904"/>
                </a:moveTo>
                <a:cubicBezTo>
                  <a:pt x="125" y="885"/>
                  <a:pt x="292" y="926"/>
                  <a:pt x="759" y="795"/>
                </a:cubicBezTo>
                <a:cubicBezTo>
                  <a:pt x="1226" y="664"/>
                  <a:pt x="2194" y="232"/>
                  <a:pt x="2802" y="116"/>
                </a:cubicBezTo>
                <a:cubicBezTo>
                  <a:pt x="3410" y="0"/>
                  <a:pt x="4075" y="104"/>
                  <a:pt x="4410" y="101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711440" y="1371600"/>
            <a:ext cx="1109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res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75800" y="1371600"/>
            <a:ext cx="826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361760" y="5844960"/>
            <a:ext cx="579240" cy="860400"/>
            <a:chOff x="4361760" y="5844960"/>
            <a:chExt cx="579240" cy="860400"/>
          </a:xfrm>
        </p:grpSpPr>
        <p:sp>
          <p:nvSpPr>
            <p:cNvPr id="933" name=""/>
            <p:cNvSpPr/>
            <p:nvPr/>
          </p:nvSpPr>
          <p:spPr>
            <a:xfrm rot="20040000">
              <a:off x="4518000" y="586368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92080" y="662868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19720" y="626184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31960" y="627768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794480" y="627480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29800" y="621612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20040000">
              <a:off x="4528800" y="588636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682880" y="5718240"/>
            <a:ext cx="2167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 hole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th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286000" y="2590920"/>
            <a:ext cx="1828800" cy="3124080"/>
          </a:xfrm>
          <a:custGeom>
            <a:avLst/>
            <a:gdLst/>
            <a:ahLst/>
            <a:rect l="l" t="t" r="r" b="b"/>
            <a:pathLst>
              <a:path w="1152" h="1968">
                <a:moveTo>
                  <a:pt x="0" y="0"/>
                </a:moveTo>
                <a:cubicBezTo>
                  <a:pt x="312" y="196"/>
                  <a:pt x="624" y="392"/>
                  <a:pt x="816" y="720"/>
                </a:cubicBezTo>
                <a:cubicBezTo>
                  <a:pt x="1008" y="1048"/>
                  <a:pt x="1080" y="1508"/>
                  <a:pt x="1152" y="1968"/>
                </a:cubicBezTo>
              </a:path>
            </a:pathLst>
          </a:custGeom>
          <a:noFill/>
          <a:ln w="76320">
            <a:solidFill>
              <a:srgbClr val="eeb30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62280" y="5108400"/>
            <a:ext cx="2023920" cy="606600"/>
          </a:xfrm>
          <a:custGeom>
            <a:avLst/>
            <a:gdLst/>
            <a:ahLst/>
            <a:rect l="l" t="t" r="r" b="b"/>
            <a:pathLst>
              <a:path w="1275" h="382">
                <a:moveTo>
                  <a:pt x="0" y="104"/>
                </a:moveTo>
                <a:cubicBezTo>
                  <a:pt x="143" y="94"/>
                  <a:pt x="646" y="0"/>
                  <a:pt x="858" y="46"/>
                </a:cubicBezTo>
                <a:cubicBezTo>
                  <a:pt x="1070" y="92"/>
                  <a:pt x="1188" y="312"/>
                  <a:pt x="1275" y="382"/>
                </a:cubicBezTo>
              </a:path>
            </a:pathLst>
          </a:custGeom>
          <a:noFill/>
          <a:ln w="76320">
            <a:solidFill>
              <a:srgbClr val="eeb30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93280" y="4727520"/>
            <a:ext cx="36612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eeb30e"/>
                </a:solidFill>
                <a:latin typeface="Arial"/>
              </a:rPr>
              <a:t>ICMP unreach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262240" y="2727360"/>
            <a:ext cx="1743120" cy="2987640"/>
          </a:xfrm>
          <a:custGeom>
            <a:avLst/>
            <a:gdLst/>
            <a:ahLst/>
            <a:rect l="l" t="t" r="r" b="b"/>
            <a:pathLst>
              <a:path w="1098" h="1882">
                <a:moveTo>
                  <a:pt x="0" y="0"/>
                </a:moveTo>
                <a:cubicBezTo>
                  <a:pt x="114" y="111"/>
                  <a:pt x="494" y="353"/>
                  <a:pt x="677" y="667"/>
                </a:cubicBezTo>
                <a:cubicBezTo>
                  <a:pt x="860" y="981"/>
                  <a:pt x="1010" y="1629"/>
                  <a:pt x="1098" y="1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49560" y="4916520"/>
            <a:ext cx="1888920" cy="798480"/>
          </a:xfrm>
          <a:custGeom>
            <a:avLst/>
            <a:gdLst/>
            <a:ahLst/>
            <a:rect l="l" t="t" r="r" b="b"/>
            <a:pathLst>
              <a:path w="1190" h="503">
                <a:moveTo>
                  <a:pt x="0" y="167"/>
                </a:moveTo>
                <a:cubicBezTo>
                  <a:pt x="136" y="150"/>
                  <a:pt x="621" y="0"/>
                  <a:pt x="819" y="56"/>
                </a:cubicBezTo>
                <a:cubicBezTo>
                  <a:pt x="1017" y="112"/>
                  <a:pt x="1113" y="410"/>
                  <a:pt x="1190" y="50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925640" y="3208320"/>
            <a:ext cx="2103480" cy="2506680"/>
          </a:xfrm>
          <a:custGeom>
            <a:avLst/>
            <a:gdLst/>
            <a:ahLst/>
            <a:rect l="l" t="t" r="r" b="b"/>
            <a:pathLst>
              <a:path w="1325" h="1579">
                <a:moveTo>
                  <a:pt x="0" y="0"/>
                </a:moveTo>
                <a:cubicBezTo>
                  <a:pt x="133" y="64"/>
                  <a:pt x="577" y="111"/>
                  <a:pt x="798" y="374"/>
                </a:cubicBezTo>
                <a:cubicBezTo>
                  <a:pt x="1019" y="637"/>
                  <a:pt x="1215" y="1328"/>
                  <a:pt x="1325" y="15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300320" y="3624120"/>
            <a:ext cx="2708280" cy="2082960"/>
          </a:xfrm>
          <a:custGeom>
            <a:avLst/>
            <a:gdLst/>
            <a:ahLst/>
            <a:rect l="l" t="t" r="r" b="b"/>
            <a:pathLst>
              <a:path w="1706" h="1312">
                <a:moveTo>
                  <a:pt x="0" y="274"/>
                </a:moveTo>
                <a:cubicBezTo>
                  <a:pt x="188" y="257"/>
                  <a:pt x="857" y="0"/>
                  <a:pt x="1141" y="173"/>
                </a:cubicBezTo>
                <a:cubicBezTo>
                  <a:pt x="1425" y="346"/>
                  <a:pt x="1588" y="1075"/>
                  <a:pt x="1706" y="1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93920" y="5084640"/>
            <a:ext cx="1708200" cy="754200"/>
          </a:xfrm>
          <a:custGeom>
            <a:avLst/>
            <a:gdLst/>
            <a:ahLst/>
            <a:rect l="l" t="t" r="r" b="b"/>
            <a:pathLst>
              <a:path w="1076" h="475">
                <a:moveTo>
                  <a:pt x="0" y="475"/>
                </a:moveTo>
                <a:cubicBezTo>
                  <a:pt x="103" y="401"/>
                  <a:pt x="283" y="62"/>
                  <a:pt x="616" y="31"/>
                </a:cubicBezTo>
                <a:cubicBezTo>
                  <a:pt x="949" y="0"/>
                  <a:pt x="980" y="303"/>
                  <a:pt x="1076" y="3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913840" y="1696680"/>
            <a:ext cx="579240" cy="860400"/>
            <a:chOff x="2913840" y="1696680"/>
            <a:chExt cx="579240" cy="860400"/>
          </a:xfrm>
        </p:grpSpPr>
        <p:sp>
          <p:nvSpPr>
            <p:cNvPr id="950" name=""/>
            <p:cNvSpPr/>
            <p:nvPr/>
          </p:nvSpPr>
          <p:spPr>
            <a:xfrm rot="20040000">
              <a:off x="3070080" y="171540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44160" y="248040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71800" y="211356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84040" y="212940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346560" y="212652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81880" y="206784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0040000">
              <a:off x="3080880" y="173808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770840" y="4059000"/>
            <a:ext cx="579240" cy="860400"/>
            <a:chOff x="1770840" y="4059000"/>
            <a:chExt cx="579240" cy="860400"/>
          </a:xfrm>
        </p:grpSpPr>
        <p:sp>
          <p:nvSpPr>
            <p:cNvPr id="958" name=""/>
            <p:cNvSpPr/>
            <p:nvPr/>
          </p:nvSpPr>
          <p:spPr>
            <a:xfrm rot="20040000">
              <a:off x="1927080" y="407772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01160" y="484272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828800" y="447588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841040" y="449172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203560" y="448884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38880" y="443016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20040000">
              <a:off x="1937880" y="410040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2428920" y="2273400"/>
            <a:ext cx="619200" cy="74520"/>
          </a:xfrm>
          <a:custGeom>
            <a:avLst/>
            <a:gdLst/>
            <a:ahLst/>
            <a:rect l="l" t="t" r="r" b="b"/>
            <a:pathLst>
              <a:path w="4131" h="975">
                <a:moveTo>
                  <a:pt x="0" y="27"/>
                </a:moveTo>
                <a:cubicBezTo>
                  <a:pt x="102" y="44"/>
                  <a:pt x="276" y="0"/>
                  <a:pt x="618" y="136"/>
                </a:cubicBezTo>
                <a:cubicBezTo>
                  <a:pt x="960" y="272"/>
                  <a:pt x="1468" y="715"/>
                  <a:pt x="2053" y="845"/>
                </a:cubicBezTo>
                <a:cubicBezTo>
                  <a:pt x="2638" y="975"/>
                  <a:pt x="3697" y="900"/>
                  <a:pt x="4131" y="91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322360" y="2363760"/>
            <a:ext cx="636840" cy="74520"/>
          </a:xfrm>
          <a:custGeom>
            <a:avLst/>
            <a:gdLst/>
            <a:ahLst/>
            <a:rect l="l" t="t" r="r" b="b"/>
            <a:pathLst>
              <a:path w="4246" h="961">
                <a:moveTo>
                  <a:pt x="0" y="96"/>
                </a:moveTo>
                <a:cubicBezTo>
                  <a:pt x="90" y="102"/>
                  <a:pt x="205" y="0"/>
                  <a:pt x="551" y="121"/>
                </a:cubicBezTo>
                <a:cubicBezTo>
                  <a:pt x="897" y="242"/>
                  <a:pt x="1463" y="689"/>
                  <a:pt x="2079" y="825"/>
                </a:cubicBezTo>
                <a:cubicBezTo>
                  <a:pt x="2695" y="961"/>
                  <a:pt x="3794" y="912"/>
                  <a:pt x="4246" y="935"/>
                </a:cubicBezTo>
              </a:path>
            </a:pathLst>
          </a:custGeom>
          <a:noFill/>
          <a:ln w="57240">
            <a:solidFill>
              <a:srgbClr val="b92b3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-228600" y="2133720"/>
            <a:ext cx="8871120" cy="4190760"/>
            <a:chOff x="-228600" y="2133720"/>
            <a:chExt cx="8871120" cy="4190760"/>
          </a:xfrm>
        </p:grpSpPr>
        <p:pic>
          <p:nvPicPr>
            <p:cNvPr id="968" name="" descr=""/>
            <p:cNvPicPr/>
            <p:nvPr/>
          </p:nvPicPr>
          <p:blipFill>
            <a:blip r:embed="rId2"/>
            <a:stretch/>
          </p:blipFill>
          <p:spPr>
            <a:xfrm>
              <a:off x="3809880" y="571500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7924680" y="3400560"/>
              <a:ext cx="717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6080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6"/>
            <a:stretch/>
          </p:blipFill>
          <p:spPr>
            <a:xfrm>
              <a:off x="1219320" y="297504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7"/>
            <a:stretch/>
          </p:blipFill>
          <p:spPr>
            <a:xfrm>
              <a:off x="611280" y="3962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8"/>
            <a:stretch/>
          </p:blipFill>
          <p:spPr>
            <a:xfrm>
              <a:off x="1828800" y="5870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9"/>
            <a:stretch/>
          </p:blipFill>
          <p:spPr>
            <a:xfrm>
              <a:off x="1219320" y="49561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10"/>
            <a:stretch/>
          </p:blipFill>
          <p:spPr>
            <a:xfrm>
              <a:off x="838080" y="2133720"/>
              <a:ext cx="6098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11"/>
            <a:stretch/>
          </p:blipFill>
          <p:spPr>
            <a:xfrm>
              <a:off x="304920" y="297324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12"/>
            <a:stretch/>
          </p:blipFill>
          <p:spPr>
            <a:xfrm>
              <a:off x="-228600" y="396396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13"/>
            <a:stretch/>
          </p:blipFill>
          <p:spPr>
            <a:xfrm>
              <a:off x="304920" y="4954680"/>
              <a:ext cx="6094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14"/>
            <a:stretch/>
          </p:blipFill>
          <p:spPr>
            <a:xfrm>
              <a:off x="838080" y="5869080"/>
              <a:ext cx="60984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DDoS Reality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et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otecting th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oS Reality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ng th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t the Edge / Firewall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L/QoS to Drop/Throttle DDoS Traffic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5715000"/>
            <a:ext cx="3808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715000" y="5715000"/>
            <a:ext cx="3808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71960" y="5715000"/>
            <a:ext cx="38088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43920" y="6400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rv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633840" y="64008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299920" y="6400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rv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4191120"/>
            <a:ext cx="114300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7080" y="4191120"/>
            <a:ext cx="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438280" y="4191120"/>
            <a:ext cx="152424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495320" y="2971800"/>
            <a:ext cx="1171800" cy="9907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23880" y="1905120"/>
            <a:ext cx="762120" cy="10666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70240" y="2971800"/>
            <a:ext cx="1592280" cy="9907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791320" y="1828800"/>
            <a:ext cx="914400" cy="11430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837720" y="1143000"/>
            <a:ext cx="381240" cy="4572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162920" y="1066680"/>
            <a:ext cx="457200" cy="5335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600200" y="1143000"/>
            <a:ext cx="609480" cy="380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6095880" y="914040"/>
            <a:ext cx="533520" cy="6858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62520" y="5224320"/>
            <a:ext cx="609480" cy="33336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6196680" y="5451480"/>
            <a:ext cx="1325520" cy="926280"/>
            <a:chOff x="6196680" y="5451480"/>
            <a:chExt cx="1325520" cy="926280"/>
          </a:xfrm>
        </p:grpSpPr>
        <p:sp>
          <p:nvSpPr>
            <p:cNvPr id="1003" name=""/>
            <p:cNvSpPr/>
            <p:nvPr/>
          </p:nvSpPr>
          <p:spPr>
            <a:xfrm>
              <a:off x="7157160" y="54594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850800" y="546084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512400" y="54576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96680" y="545148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506200" y="4414680"/>
            <a:ext cx="1325520" cy="926280"/>
            <a:chOff x="5506200" y="4414680"/>
            <a:chExt cx="1325520" cy="926280"/>
          </a:xfrm>
        </p:grpSpPr>
        <p:sp>
          <p:nvSpPr>
            <p:cNvPr id="1008" name=""/>
            <p:cNvSpPr/>
            <p:nvPr/>
          </p:nvSpPr>
          <p:spPr>
            <a:xfrm>
              <a:off x="6466680" y="44226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60320" y="442404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21920" y="44208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06200" y="441468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5575320" y="2425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63880" y="3733920"/>
            <a:ext cx="804960" cy="726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95600" y="2416320"/>
            <a:ext cx="804600" cy="726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80000" y="1336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023840" y="1336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889520" y="474804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963880" y="474516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049640" y="475308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399120" y="3387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967280" y="3395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372760" y="515628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233120" y="15876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214520" y="4414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-84240" y="2784600"/>
            <a:ext cx="27057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asy to ch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oint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t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nsumer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  <a:ea typeface="Arial"/>
              </a:rPr>
              <a:t>Too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t the Routers in the Network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L/QoS to Drop/Throttle DDoS Traffic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286000" y="5715000"/>
            <a:ext cx="3808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5715000"/>
            <a:ext cx="3808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71960" y="5715000"/>
            <a:ext cx="38088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43920" y="6400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rv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658680" y="64008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299920" y="6400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rv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572000" y="4191120"/>
            <a:ext cx="114300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267080" y="4191120"/>
            <a:ext cx="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438280" y="4191120"/>
            <a:ext cx="1524240" cy="1523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4495320" y="2971800"/>
            <a:ext cx="1171800" cy="9907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523880" y="1905120"/>
            <a:ext cx="762120" cy="10666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70240" y="2971800"/>
            <a:ext cx="1592280" cy="9907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791320" y="1828800"/>
            <a:ext cx="914400" cy="11430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 flipV="1">
            <a:off x="837720" y="1143000"/>
            <a:ext cx="381240" cy="4572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7162920" y="1066680"/>
            <a:ext cx="457200" cy="53352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600200" y="1143000"/>
            <a:ext cx="609480" cy="380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6095880" y="914040"/>
            <a:ext cx="533520" cy="6858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6196680" y="5451480"/>
            <a:ext cx="1325520" cy="926280"/>
            <a:chOff x="6196680" y="5451480"/>
            <a:chExt cx="1325520" cy="926280"/>
          </a:xfrm>
        </p:grpSpPr>
        <p:sp>
          <p:nvSpPr>
            <p:cNvPr id="1045" name=""/>
            <p:cNvSpPr/>
            <p:nvPr/>
          </p:nvSpPr>
          <p:spPr>
            <a:xfrm>
              <a:off x="7157160" y="54594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50800" y="546084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512400" y="54576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196680" y="545148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5506200" y="4414680"/>
            <a:ext cx="1325520" cy="926280"/>
            <a:chOff x="5506200" y="4414680"/>
            <a:chExt cx="1325520" cy="926280"/>
          </a:xfrm>
        </p:grpSpPr>
        <p:sp>
          <p:nvSpPr>
            <p:cNvPr id="1050" name=""/>
            <p:cNvSpPr/>
            <p:nvPr/>
          </p:nvSpPr>
          <p:spPr>
            <a:xfrm>
              <a:off x="6466680" y="44226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60320" y="442404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21920" y="442080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506200" y="4414680"/>
              <a:ext cx="3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5575320" y="2425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63880" y="3733920"/>
            <a:ext cx="804960" cy="726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695600" y="2416320"/>
            <a:ext cx="804600" cy="726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480000" y="1336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23840" y="1336680"/>
            <a:ext cx="804960" cy="72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89520" y="474804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74516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049640" y="4753080"/>
            <a:ext cx="44460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9120" y="3387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67280" y="3395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372760" y="515628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233120" y="15876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214520" y="4414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-83880" y="2984400"/>
            <a:ext cx="3493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and. Spoof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rows good with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3067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~X0,000 AC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477120" y="3390840"/>
            <a:ext cx="2589120" cy="1257480"/>
          </a:xfrm>
          <a:prstGeom prst="wedgeRectCallout">
            <a:avLst>
              <a:gd name="adj1" fmla="val -118546"/>
              <a:gd name="adj2" fmla="val 6060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C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  <a:ea typeface="Arial"/>
              </a:rPr>
              <a:t>Upper bound o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54640" y="3875040"/>
            <a:ext cx="2006640" cy="961920"/>
          </a:xfrm>
          <a:custGeom>
            <a:avLst/>
            <a:gdLst/>
            <a:ahLst/>
            <a:rect l="l" t="t" r="r" b="b"/>
            <a:pathLst>
              <a:path w="1264" h="606">
                <a:moveTo>
                  <a:pt x="1264" y="0"/>
                </a:moveTo>
                <a:lnTo>
                  <a:pt x="0" y="606"/>
                </a:lnTo>
                <a:lnTo>
                  <a:pt x="1256" y="1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45320" y="2070000"/>
            <a:ext cx="166680" cy="1328760"/>
          </a:xfrm>
          <a:custGeom>
            <a:avLst/>
            <a:gdLst/>
            <a:ahLst/>
            <a:rect l="l" t="t" r="r" b="b"/>
            <a:pathLst>
              <a:path w="105" h="837">
                <a:moveTo>
                  <a:pt x="105" y="837"/>
                </a:moveTo>
                <a:lnTo>
                  <a:pt x="38" y="0"/>
                </a:lnTo>
                <a:lnTo>
                  <a:pt x="0" y="8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896000" y="4768920"/>
            <a:ext cx="426960" cy="3906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564160" y="2428920"/>
            <a:ext cx="804960" cy="7272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852720" y="3736800"/>
            <a:ext cx="804960" cy="7272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684440" y="2419200"/>
            <a:ext cx="804600" cy="7272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012680" y="1343160"/>
            <a:ext cx="804960" cy="72684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488280" y="1343160"/>
            <a:ext cx="804600" cy="72684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4768920"/>
            <a:ext cx="427320" cy="3906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52720" y="4768920"/>
            <a:ext cx="426960" cy="390600"/>
          </a:xfrm>
          <a:prstGeom prst="ellipse">
            <a:avLst/>
          </a:prstGeom>
          <a:solidFill>
            <a:srgbClr val="ff8d1b">
              <a:alpha val="50000"/>
            </a:srgbClr>
          </a:solidFill>
          <a:ln w="19080">
            <a:solidFill>
              <a:srgbClr val="ffcc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67640" y="3387600"/>
            <a:ext cx="15372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58672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324840" cy="510552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Black Holing the DoS Traffic</a:t>
            </a: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-Directing Traffic to the Victi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8381880" y="2449440"/>
            <a:ext cx="685080" cy="958680"/>
            <a:chOff x="8381880" y="2449440"/>
            <a:chExt cx="685080" cy="958680"/>
          </a:xfrm>
        </p:grpSpPr>
        <p:grpSp>
          <p:nvGrpSpPr>
            <p:cNvPr id="1084" name=""/>
            <p:cNvGrpSpPr/>
            <p:nvPr/>
          </p:nvGrpSpPr>
          <p:grpSpPr>
            <a:xfrm>
              <a:off x="8390880" y="2459880"/>
              <a:ext cx="676080" cy="948240"/>
              <a:chOff x="8390880" y="2459880"/>
              <a:chExt cx="676080" cy="948240"/>
            </a:xfrm>
          </p:grpSpPr>
          <p:sp>
            <p:nvSpPr>
              <p:cNvPr id="1085" name=""/>
              <p:cNvSpPr/>
              <p:nvPr/>
            </p:nvSpPr>
            <p:spPr>
              <a:xfrm>
                <a:off x="8390880" y="332604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30840" y="327348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446320" y="3227400"/>
                <a:ext cx="81720" cy="8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442720" y="3093840"/>
                <a:ext cx="18468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420400" y="286164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528400" y="2779200"/>
                <a:ext cx="370800" cy="340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420400" y="2608560"/>
                <a:ext cx="36936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89520" y="3233160"/>
                <a:ext cx="81720" cy="82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699040" y="2608560"/>
                <a:ext cx="367920" cy="3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592120" y="2459880"/>
                <a:ext cx="366840" cy="33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8381880" y="2449440"/>
              <a:ext cx="675000" cy="948240"/>
              <a:chOff x="8381880" y="2449440"/>
              <a:chExt cx="675000" cy="948240"/>
            </a:xfrm>
          </p:grpSpPr>
          <p:sp>
            <p:nvSpPr>
              <p:cNvPr id="1096" name=""/>
              <p:cNvSpPr/>
              <p:nvPr/>
            </p:nvSpPr>
            <p:spPr>
              <a:xfrm>
                <a:off x="8381880" y="331560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420760" y="3263400"/>
                <a:ext cx="8316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436240" y="3216960"/>
                <a:ext cx="81720" cy="835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30840" y="3083400"/>
                <a:ext cx="186120" cy="1544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411400" y="285120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18320" y="2768760"/>
                <a:ext cx="370800" cy="3412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11400" y="2598120"/>
                <a:ext cx="36936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78000" y="3222720"/>
                <a:ext cx="81720" cy="8208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688960" y="2598120"/>
                <a:ext cx="367920" cy="33984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582040" y="2449440"/>
                <a:ext cx="366480" cy="339120"/>
              </a:xfrm>
              <a:prstGeom prst="ellips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"/>
          <p:cNvSpPr/>
          <p:nvPr/>
        </p:nvSpPr>
        <p:spPr>
          <a:xfrm>
            <a:off x="7772400" y="4057560"/>
            <a:ext cx="10782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569880" y="2209680"/>
            <a:ext cx="7394760" cy="3139920"/>
            <a:chOff x="569880" y="2209680"/>
            <a:chExt cx="7394760" cy="3139920"/>
          </a:xfrm>
        </p:grpSpPr>
        <p:sp>
          <p:nvSpPr>
            <p:cNvPr id="1108" name=""/>
            <p:cNvSpPr/>
            <p:nvPr/>
          </p:nvSpPr>
          <p:spPr>
            <a:xfrm>
              <a:off x="1298520" y="2209680"/>
              <a:ext cx="6558120" cy="1547640"/>
            </a:xfrm>
            <a:custGeom>
              <a:avLst/>
              <a:gdLst/>
              <a:ahLst/>
              <a:rect l="l" t="t" r="r" b="b"/>
              <a:pathLst>
                <a:path w="4131" h="975">
                  <a:moveTo>
                    <a:pt x="0" y="27"/>
                  </a:moveTo>
                  <a:cubicBezTo>
                    <a:pt x="102" y="44"/>
                    <a:pt x="276" y="0"/>
                    <a:pt x="618" y="136"/>
                  </a:cubicBezTo>
                  <a:cubicBezTo>
                    <a:pt x="960" y="272"/>
                    <a:pt x="1468" y="715"/>
                    <a:pt x="2053" y="845"/>
                  </a:cubicBezTo>
                  <a:cubicBezTo>
                    <a:pt x="2638" y="975"/>
                    <a:pt x="3697" y="900"/>
                    <a:pt x="4131" y="915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192320" y="2300040"/>
              <a:ext cx="6740280" cy="1525680"/>
            </a:xfrm>
            <a:custGeom>
              <a:avLst/>
              <a:gdLst/>
              <a:ahLst/>
              <a:rect l="l" t="t" r="r" b="b"/>
              <a:pathLst>
                <a:path w="4246" h="961">
                  <a:moveTo>
                    <a:pt x="0" y="96"/>
                  </a:moveTo>
                  <a:cubicBezTo>
                    <a:pt x="90" y="102"/>
                    <a:pt x="205" y="0"/>
                    <a:pt x="551" y="121"/>
                  </a:cubicBezTo>
                  <a:cubicBezTo>
                    <a:pt x="897" y="242"/>
                    <a:pt x="1463" y="689"/>
                    <a:pt x="2079" y="825"/>
                  </a:cubicBezTo>
                  <a:cubicBezTo>
                    <a:pt x="2695" y="961"/>
                    <a:pt x="3794" y="912"/>
                    <a:pt x="4246" y="935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69880" y="3723840"/>
              <a:ext cx="7242120" cy="1378080"/>
            </a:xfrm>
            <a:custGeom>
              <a:avLst/>
              <a:gdLst/>
              <a:ahLst/>
              <a:rect l="l" t="t" r="r" b="b"/>
              <a:pathLst>
                <a:path w="4562" h="868">
                  <a:moveTo>
                    <a:pt x="0" y="835"/>
                  </a:moveTo>
                  <a:cubicBezTo>
                    <a:pt x="334" y="843"/>
                    <a:pt x="342" y="868"/>
                    <a:pt x="543" y="860"/>
                  </a:cubicBezTo>
                  <a:cubicBezTo>
                    <a:pt x="744" y="852"/>
                    <a:pt x="2145" y="250"/>
                    <a:pt x="2815" y="125"/>
                  </a:cubicBezTo>
                  <a:cubicBezTo>
                    <a:pt x="3485" y="0"/>
                    <a:pt x="4198" y="114"/>
                    <a:pt x="4562" y="111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2480" y="3784320"/>
              <a:ext cx="7382160" cy="1514520"/>
            </a:xfrm>
            <a:custGeom>
              <a:avLst/>
              <a:gdLst/>
              <a:ahLst/>
              <a:rect l="l" t="t" r="r" b="b"/>
              <a:pathLst>
                <a:path w="4650" h="954">
                  <a:moveTo>
                    <a:pt x="0" y="864"/>
                  </a:moveTo>
                  <a:cubicBezTo>
                    <a:pt x="120" y="858"/>
                    <a:pt x="249" y="954"/>
                    <a:pt x="727" y="830"/>
                  </a:cubicBezTo>
                  <a:cubicBezTo>
                    <a:pt x="1205" y="706"/>
                    <a:pt x="2212" y="242"/>
                    <a:pt x="2866" y="121"/>
                  </a:cubicBezTo>
                  <a:cubicBezTo>
                    <a:pt x="3520" y="0"/>
                    <a:pt x="4278" y="108"/>
                    <a:pt x="4650" y="105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640" y="3879720"/>
              <a:ext cx="7000920" cy="1469880"/>
            </a:xfrm>
            <a:custGeom>
              <a:avLst/>
              <a:gdLst/>
              <a:ahLst/>
              <a:rect l="l" t="t" r="r" b="b"/>
              <a:pathLst>
                <a:path w="4410" h="926">
                  <a:moveTo>
                    <a:pt x="0" y="904"/>
                  </a:moveTo>
                  <a:cubicBezTo>
                    <a:pt x="125" y="885"/>
                    <a:pt x="292" y="926"/>
                    <a:pt x="759" y="795"/>
                  </a:cubicBezTo>
                  <a:cubicBezTo>
                    <a:pt x="1226" y="664"/>
                    <a:pt x="2194" y="232"/>
                    <a:pt x="2802" y="116"/>
                  </a:cubicBezTo>
                  <a:cubicBezTo>
                    <a:pt x="3410" y="0"/>
                    <a:pt x="4075" y="104"/>
                    <a:pt x="4410" y="101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711440" y="1371600"/>
            <a:ext cx="11098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gres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75800" y="1371600"/>
            <a:ext cx="8265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361760" y="5844960"/>
            <a:ext cx="579240" cy="860400"/>
            <a:chOff x="4361760" y="5844960"/>
            <a:chExt cx="579240" cy="860400"/>
          </a:xfrm>
        </p:grpSpPr>
        <p:sp>
          <p:nvSpPr>
            <p:cNvPr id="1116" name=""/>
            <p:cNvSpPr/>
            <p:nvPr/>
          </p:nvSpPr>
          <p:spPr>
            <a:xfrm rot="20040000">
              <a:off x="4518000" y="5863680"/>
              <a:ext cx="264600" cy="77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6" y="15888"/>
                  </a:moveTo>
                  <a:arcTo wR="10800" hR="10800" stAng="1686455" swAng="3583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6" y="15888"/>
                  </a:moveTo>
                  <a:arcTo wR="10800" hR="10800" stAng="1686455" swAng="35830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92080" y="6628680"/>
              <a:ext cx="302040" cy="766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19720" y="6261840"/>
              <a:ext cx="449280" cy="405000"/>
            </a:xfrm>
            <a:custGeom>
              <a:avLst/>
              <a:gdLst/>
              <a:ahLst/>
              <a:rect l="l" t="t" r="r" b="b"/>
              <a:pathLst>
                <a:path w="180" h="158">
                  <a:moveTo>
                    <a:pt x="0" y="1"/>
                  </a:moveTo>
                  <a:lnTo>
                    <a:pt x="26" y="157"/>
                  </a:lnTo>
                  <a:lnTo>
                    <a:pt x="153" y="157"/>
                  </a:lnTo>
                  <a:lnTo>
                    <a:pt x="179" y="0"/>
                  </a:lnTo>
                  <a:lnTo>
                    <a:pt x="0" y="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31960" y="6277680"/>
              <a:ext cx="4212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4794480" y="6274800"/>
              <a:ext cx="82080" cy="38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29800" y="6216120"/>
              <a:ext cx="426960" cy="968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20040000">
              <a:off x="4528800" y="5886360"/>
              <a:ext cx="258120" cy="7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57" y="20925"/>
                  </a:moveTo>
                  <a:arcTo wR="10800" hR="10800" stAng="4178536" swAng="6621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57" y="20925"/>
                  </a:moveTo>
                  <a:arcTo wR="10800" hR="10800" stAng="4178536" swAng="66214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930200" y="5638680"/>
            <a:ext cx="362916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 hole Router: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ounces route “target/3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gging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066680" y="2362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3200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4191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0880" y="5181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066680" y="6095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568440" y="2252520"/>
            <a:ext cx="4105080" cy="4002120"/>
            <a:chOff x="568440" y="2252520"/>
            <a:chExt cx="4105080" cy="4002120"/>
          </a:xfrm>
        </p:grpSpPr>
        <p:sp>
          <p:nvSpPr>
            <p:cNvPr id="1130" name=""/>
            <p:cNvSpPr/>
            <p:nvPr/>
          </p:nvSpPr>
          <p:spPr>
            <a:xfrm>
              <a:off x="1297080" y="2252520"/>
              <a:ext cx="3125520" cy="3221280"/>
            </a:xfrm>
            <a:custGeom>
              <a:avLst/>
              <a:gdLst/>
              <a:ahLst/>
              <a:rect l="l" t="t" r="r" b="b"/>
              <a:pathLst>
                <a:path w="1969" h="2029">
                  <a:moveTo>
                    <a:pt x="0" y="0"/>
                  </a:moveTo>
                  <a:cubicBezTo>
                    <a:pt x="276" y="61"/>
                    <a:pt x="1339" y="29"/>
                    <a:pt x="1654" y="367"/>
                  </a:cubicBezTo>
                  <a:cubicBezTo>
                    <a:pt x="1969" y="705"/>
                    <a:pt x="1839" y="1683"/>
                    <a:pt x="1888" y="2029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190520" y="2324160"/>
              <a:ext cx="3113280" cy="3360600"/>
            </a:xfrm>
            <a:custGeom>
              <a:avLst/>
              <a:gdLst/>
              <a:ahLst/>
              <a:rect l="l" t="t" r="r" b="b"/>
              <a:pathLst>
                <a:path w="1961" h="2117">
                  <a:moveTo>
                    <a:pt x="0" y="81"/>
                  </a:moveTo>
                  <a:cubicBezTo>
                    <a:pt x="274" y="124"/>
                    <a:pt x="1331" y="0"/>
                    <a:pt x="1646" y="339"/>
                  </a:cubicBezTo>
                  <a:cubicBezTo>
                    <a:pt x="1961" y="678"/>
                    <a:pt x="1838" y="1747"/>
                    <a:pt x="1888" y="2117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8440" y="4319640"/>
              <a:ext cx="3473280" cy="1087560"/>
            </a:xfrm>
            <a:custGeom>
              <a:avLst/>
              <a:gdLst/>
              <a:ahLst/>
              <a:rect l="l" t="t" r="r" b="b"/>
              <a:pathLst>
                <a:path w="2188" h="685">
                  <a:moveTo>
                    <a:pt x="0" y="460"/>
                  </a:moveTo>
                  <a:cubicBezTo>
                    <a:pt x="334" y="468"/>
                    <a:pt x="342" y="493"/>
                    <a:pt x="543" y="485"/>
                  </a:cubicBezTo>
                  <a:cubicBezTo>
                    <a:pt x="744" y="477"/>
                    <a:pt x="1184" y="125"/>
                    <a:pt x="1854" y="0"/>
                  </a:cubicBezTo>
                  <a:cubicBezTo>
                    <a:pt x="2128" y="33"/>
                    <a:pt x="2180" y="435"/>
                    <a:pt x="2188" y="685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81040" y="4387680"/>
              <a:ext cx="3408480" cy="1177920"/>
            </a:xfrm>
            <a:custGeom>
              <a:avLst/>
              <a:gdLst/>
              <a:ahLst/>
              <a:rect l="l" t="t" r="r" b="b"/>
              <a:pathLst>
                <a:path w="2147" h="742">
                  <a:moveTo>
                    <a:pt x="0" y="484"/>
                  </a:moveTo>
                  <a:cubicBezTo>
                    <a:pt x="120" y="478"/>
                    <a:pt x="432" y="522"/>
                    <a:pt x="727" y="450"/>
                  </a:cubicBezTo>
                  <a:cubicBezTo>
                    <a:pt x="1022" y="378"/>
                    <a:pt x="1534" y="0"/>
                    <a:pt x="1771" y="49"/>
                  </a:cubicBezTo>
                  <a:cubicBezTo>
                    <a:pt x="2008" y="98"/>
                    <a:pt x="2069" y="598"/>
                    <a:pt x="2147" y="742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6880" y="4500720"/>
              <a:ext cx="3352680" cy="1211040"/>
            </a:xfrm>
            <a:custGeom>
              <a:avLst/>
              <a:gdLst/>
              <a:ahLst/>
              <a:rect l="l" t="t" r="r" b="b"/>
              <a:pathLst>
                <a:path w="2112" h="763">
                  <a:moveTo>
                    <a:pt x="0" y="496"/>
                  </a:moveTo>
                  <a:cubicBezTo>
                    <a:pt x="120" y="489"/>
                    <a:pt x="429" y="520"/>
                    <a:pt x="718" y="446"/>
                  </a:cubicBezTo>
                  <a:cubicBezTo>
                    <a:pt x="1007" y="372"/>
                    <a:pt x="1504" y="0"/>
                    <a:pt x="1736" y="53"/>
                  </a:cubicBezTo>
                  <a:cubicBezTo>
                    <a:pt x="1968" y="106"/>
                    <a:pt x="2034" y="615"/>
                    <a:pt x="2112" y="763"/>
                  </a:cubicBezTo>
                </a:path>
              </a:pathLst>
            </a:custGeom>
            <a:noFill/>
            <a:ln w="57240">
              <a:solidFill>
                <a:srgbClr val="b92b38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80040" y="5848200"/>
              <a:ext cx="393480" cy="406440"/>
            </a:xfrm>
            <a:custGeom>
              <a:avLst/>
              <a:gdLst/>
              <a:ahLst/>
              <a:rect l="l" t="t" r="r" b="b"/>
              <a:pathLst>
                <a:path w="248" h="256">
                  <a:moveTo>
                    <a:pt x="0" y="22"/>
                  </a:moveTo>
                  <a:cubicBezTo>
                    <a:pt x="35" y="25"/>
                    <a:pt x="170" y="0"/>
                    <a:pt x="209" y="39"/>
                  </a:cubicBezTo>
                  <a:cubicBezTo>
                    <a:pt x="248" y="78"/>
                    <a:pt x="229" y="211"/>
                    <a:pt x="234" y="256"/>
                  </a:cubicBezTo>
                </a:path>
              </a:pathLst>
            </a:custGeom>
            <a:noFill/>
            <a:ln w="76320">
              <a:solidFill>
                <a:srgbClr val="b92b3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-228600" y="2133720"/>
            <a:ext cx="8871120" cy="4190760"/>
            <a:chOff x="-228600" y="2133720"/>
            <a:chExt cx="8871120" cy="4190760"/>
          </a:xfrm>
        </p:grpSpPr>
        <p:pic>
          <p:nvPicPr>
            <p:cNvPr id="1137" name="" descr=""/>
            <p:cNvPicPr/>
            <p:nvPr/>
          </p:nvPicPr>
          <p:blipFill>
            <a:blip r:embed="rId2"/>
            <a:stretch/>
          </p:blipFill>
          <p:spPr>
            <a:xfrm>
              <a:off x="3809880" y="571500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3"/>
            <a:stretch/>
          </p:blipFill>
          <p:spPr>
            <a:xfrm>
              <a:off x="7924680" y="3400560"/>
              <a:ext cx="717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60804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5"/>
            <a:stretch/>
          </p:blipFill>
          <p:spPr>
            <a:xfrm>
              <a:off x="1828800" y="21337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6"/>
            <a:stretch/>
          </p:blipFill>
          <p:spPr>
            <a:xfrm>
              <a:off x="1219320" y="297504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7"/>
            <a:stretch/>
          </p:blipFill>
          <p:spPr>
            <a:xfrm>
              <a:off x="611280" y="3962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8"/>
            <a:stretch/>
          </p:blipFill>
          <p:spPr>
            <a:xfrm>
              <a:off x="1828800" y="58705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9"/>
            <a:stretch/>
          </p:blipFill>
          <p:spPr>
            <a:xfrm>
              <a:off x="1219320" y="4956120"/>
              <a:ext cx="6080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10"/>
            <a:stretch/>
          </p:blipFill>
          <p:spPr>
            <a:xfrm>
              <a:off x="838080" y="2133720"/>
              <a:ext cx="60984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11"/>
            <a:stretch/>
          </p:blipFill>
          <p:spPr>
            <a:xfrm>
              <a:off x="304920" y="297324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2"/>
            <a:stretch/>
          </p:blipFill>
          <p:spPr>
            <a:xfrm>
              <a:off x="-228600" y="3963960"/>
              <a:ext cx="60948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13"/>
            <a:stretch/>
          </p:blipFill>
          <p:spPr>
            <a:xfrm>
              <a:off x="304920" y="4954680"/>
              <a:ext cx="6094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4"/>
            <a:stretch/>
          </p:blipFill>
          <p:spPr>
            <a:xfrm>
              <a:off x="838080" y="5869080"/>
              <a:ext cx="609840" cy="45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0" name=""/>
          <p:cNvSpPr/>
          <p:nvPr/>
        </p:nvSpPr>
        <p:spPr>
          <a:xfrm>
            <a:off x="8153280" y="2184480"/>
            <a:ext cx="11430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563720" y="1600200"/>
            <a:ext cx="4433400" cy="12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eps line to customer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cuts target host off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cuss with customer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t for analysis 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153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1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0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1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4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1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8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2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3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5378400" y="4175280"/>
            <a:ext cx="31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 (or Cisco IDS or third- party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184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1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1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5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1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9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2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889160" y="5083200"/>
            <a:ext cx="609480" cy="304920"/>
          </a:xfrm>
          <a:prstGeom prst="line">
            <a:avLst/>
          </a:prstGeom>
          <a:ln w="5724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97240" y="1638360"/>
            <a:ext cx="1503360" cy="923760"/>
          </a:xfrm>
          <a:custGeom>
            <a:avLst/>
            <a:gdLst/>
            <a:ahLst/>
            <a:rect l="l" t="t" r="r" b="b"/>
            <a:pathLst>
              <a:path w="768" h="576">
                <a:moveTo>
                  <a:pt x="768" y="0"/>
                </a:moveTo>
                <a:cubicBezTo>
                  <a:pt x="707" y="32"/>
                  <a:pt x="505" y="128"/>
                  <a:pt x="400" y="192"/>
                </a:cubicBezTo>
                <a:cubicBezTo>
                  <a:pt x="295" y="256"/>
                  <a:pt x="203" y="320"/>
                  <a:pt x="136" y="384"/>
                </a:cubicBezTo>
                <a:cubicBezTo>
                  <a:pt x="69" y="448"/>
                  <a:pt x="28" y="536"/>
                  <a:pt x="0" y="5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400480" y="1270080"/>
            <a:ext cx="0" cy="13557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422440" y="2525760"/>
            <a:ext cx="2362320" cy="3006720"/>
          </a:xfrm>
          <a:custGeom>
            <a:avLst/>
            <a:gdLst/>
            <a:ahLst/>
            <a:rect l="l" t="t" r="r" b="b"/>
            <a:pathLst>
              <a:path w="1206" h="1876">
                <a:moveTo>
                  <a:pt x="0" y="0"/>
                </a:moveTo>
                <a:cubicBezTo>
                  <a:pt x="5" y="43"/>
                  <a:pt x="8" y="164"/>
                  <a:pt x="31" y="257"/>
                </a:cubicBezTo>
                <a:cubicBezTo>
                  <a:pt x="54" y="350"/>
                  <a:pt x="47" y="407"/>
                  <a:pt x="140" y="560"/>
                </a:cubicBezTo>
                <a:cubicBezTo>
                  <a:pt x="233" y="713"/>
                  <a:pt x="414" y="956"/>
                  <a:pt x="592" y="1175"/>
                </a:cubicBezTo>
                <a:cubicBezTo>
                  <a:pt x="770" y="1394"/>
                  <a:pt x="1078" y="1730"/>
                  <a:pt x="1206" y="18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232160" y="5143680"/>
            <a:ext cx="752760" cy="944280"/>
          </a:xfrm>
          <a:prstGeom prst="ellipse">
            <a:avLst/>
          </a:prstGeom>
          <a:noFill/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222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2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9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2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3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2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7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12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249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889160" y="5083200"/>
            <a:ext cx="609480" cy="304920"/>
          </a:xfrm>
          <a:prstGeom prst="line">
            <a:avLst/>
          </a:prstGeom>
          <a:ln w="5724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397240" y="1638360"/>
            <a:ext cx="1503360" cy="923760"/>
          </a:xfrm>
          <a:custGeom>
            <a:avLst/>
            <a:gdLst/>
            <a:ahLst/>
            <a:rect l="l" t="t" r="r" b="b"/>
            <a:pathLst>
              <a:path w="768" h="576">
                <a:moveTo>
                  <a:pt x="768" y="0"/>
                </a:moveTo>
                <a:cubicBezTo>
                  <a:pt x="707" y="32"/>
                  <a:pt x="505" y="128"/>
                  <a:pt x="400" y="192"/>
                </a:cubicBezTo>
                <a:cubicBezTo>
                  <a:pt x="295" y="256"/>
                  <a:pt x="203" y="320"/>
                  <a:pt x="136" y="384"/>
                </a:cubicBezTo>
                <a:cubicBezTo>
                  <a:pt x="69" y="448"/>
                  <a:pt x="28" y="536"/>
                  <a:pt x="0" y="5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00480" y="1270080"/>
            <a:ext cx="0" cy="13557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22440" y="2525760"/>
            <a:ext cx="2362320" cy="3006720"/>
          </a:xfrm>
          <a:custGeom>
            <a:avLst/>
            <a:gdLst/>
            <a:ahLst/>
            <a:rect l="l" t="t" r="r" b="b"/>
            <a:pathLst>
              <a:path w="1206" h="1876">
                <a:moveTo>
                  <a:pt x="0" y="0"/>
                </a:moveTo>
                <a:cubicBezTo>
                  <a:pt x="5" y="43"/>
                  <a:pt x="8" y="164"/>
                  <a:pt x="31" y="257"/>
                </a:cubicBezTo>
                <a:cubicBezTo>
                  <a:pt x="54" y="350"/>
                  <a:pt x="47" y="407"/>
                  <a:pt x="140" y="560"/>
                </a:cubicBezTo>
                <a:cubicBezTo>
                  <a:pt x="233" y="713"/>
                  <a:pt x="414" y="956"/>
                  <a:pt x="592" y="1175"/>
                </a:cubicBezTo>
                <a:cubicBezTo>
                  <a:pt x="770" y="1394"/>
                  <a:pt x="1078" y="1730"/>
                  <a:pt x="1206" y="18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232160" y="5143680"/>
            <a:ext cx="752760" cy="944280"/>
          </a:xfrm>
          <a:prstGeom prst="ellipse">
            <a:avLst/>
          </a:prstGeom>
          <a:noFill/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064120" y="3836880"/>
            <a:ext cx="283536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ctivate: Auto/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4910040" y="3020760"/>
            <a:ext cx="0" cy="1447560"/>
          </a:xfrm>
          <a:prstGeom prst="line">
            <a:avLst/>
          </a:prstGeom>
          <a:ln cap="rnd" w="38160">
            <a:solidFill>
              <a:srgbClr val="99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13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262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2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9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3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27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7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2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889160" y="5083200"/>
            <a:ext cx="609480" cy="304920"/>
          </a:xfrm>
          <a:prstGeom prst="line">
            <a:avLst/>
          </a:prstGeom>
          <a:ln w="5724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97240" y="1638360"/>
            <a:ext cx="1503360" cy="923760"/>
          </a:xfrm>
          <a:custGeom>
            <a:avLst/>
            <a:gdLst/>
            <a:ahLst/>
            <a:rect l="l" t="t" r="r" b="b"/>
            <a:pathLst>
              <a:path w="768" h="576">
                <a:moveTo>
                  <a:pt x="768" y="0"/>
                </a:moveTo>
                <a:cubicBezTo>
                  <a:pt x="707" y="32"/>
                  <a:pt x="505" y="128"/>
                  <a:pt x="400" y="192"/>
                </a:cubicBezTo>
                <a:cubicBezTo>
                  <a:pt x="295" y="256"/>
                  <a:pt x="203" y="320"/>
                  <a:pt x="136" y="384"/>
                </a:cubicBezTo>
                <a:cubicBezTo>
                  <a:pt x="69" y="448"/>
                  <a:pt x="28" y="536"/>
                  <a:pt x="0" y="5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400480" y="1270080"/>
            <a:ext cx="0" cy="13557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422440" y="2525760"/>
            <a:ext cx="2362320" cy="3006720"/>
          </a:xfrm>
          <a:custGeom>
            <a:avLst/>
            <a:gdLst/>
            <a:ahLst/>
            <a:rect l="l" t="t" r="r" b="b"/>
            <a:pathLst>
              <a:path w="1206" h="1876">
                <a:moveTo>
                  <a:pt x="0" y="0"/>
                </a:moveTo>
                <a:cubicBezTo>
                  <a:pt x="5" y="43"/>
                  <a:pt x="8" y="164"/>
                  <a:pt x="31" y="257"/>
                </a:cubicBezTo>
                <a:cubicBezTo>
                  <a:pt x="54" y="350"/>
                  <a:pt x="47" y="407"/>
                  <a:pt x="140" y="560"/>
                </a:cubicBezTo>
                <a:cubicBezTo>
                  <a:pt x="233" y="713"/>
                  <a:pt x="414" y="956"/>
                  <a:pt x="592" y="1175"/>
                </a:cubicBezTo>
                <a:cubicBezTo>
                  <a:pt x="770" y="1394"/>
                  <a:pt x="1078" y="1730"/>
                  <a:pt x="1206" y="1876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232160" y="5143680"/>
            <a:ext cx="752760" cy="944280"/>
          </a:xfrm>
          <a:prstGeom prst="ellipse">
            <a:avLst/>
          </a:prstGeom>
          <a:noFill/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64120" y="3836880"/>
            <a:ext cx="283536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ctivate: Auto/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910040" y="3020760"/>
            <a:ext cx="0" cy="1447560"/>
          </a:xfrm>
          <a:prstGeom prst="line">
            <a:avLst/>
          </a:prstGeom>
          <a:ln cap="rnd" w="38160">
            <a:solidFill>
              <a:srgbClr val="99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13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2857680" y="1954080"/>
            <a:ext cx="1771560" cy="370080"/>
          </a:xfrm>
          <a:custGeom>
            <a:avLst/>
            <a:gdLst/>
            <a:ahLst/>
            <a:rect l="l" t="t" r="r" b="b"/>
            <a:pathLst>
              <a:path w="1248" h="240">
                <a:moveTo>
                  <a:pt x="1248" y="240"/>
                </a:moveTo>
                <a:cubicBezTo>
                  <a:pt x="1040" y="120"/>
                  <a:pt x="832" y="0"/>
                  <a:pt x="624" y="0"/>
                </a:cubicBezTo>
                <a:cubicBezTo>
                  <a:pt x="416" y="0"/>
                  <a:pt x="208" y="120"/>
                  <a:pt x="0" y="240"/>
                </a:cubicBezTo>
              </a:path>
            </a:pathLst>
          </a:custGeom>
          <a:noFill/>
          <a:ln cap="rnd" w="38160">
            <a:solidFill>
              <a:srgbClr val="eeb30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141960" y="1700280"/>
            <a:ext cx="2162160" cy="642600"/>
          </a:xfrm>
          <a:prstGeom prst="rect">
            <a:avLst/>
          </a:prstGeom>
          <a:solidFill>
            <a:srgbClr val="eeb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ivert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’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836800" y="1365120"/>
            <a:ext cx="3177000" cy="520200"/>
          </a:xfrm>
          <a:prstGeom prst="rect">
            <a:avLst/>
          </a:prstGeom>
          <a:solidFill>
            <a:srgbClr val="eeb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 upd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HI internal, or BGP/other exter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305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2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3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6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3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20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12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4889160" y="5083200"/>
            <a:ext cx="609480" cy="304920"/>
          </a:xfrm>
          <a:prstGeom prst="line">
            <a:avLst/>
          </a:prstGeom>
          <a:ln w="57240">
            <a:solidFill>
              <a:srgbClr val="b92b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232160" y="5143680"/>
            <a:ext cx="752760" cy="944280"/>
          </a:xfrm>
          <a:prstGeom prst="ellipse">
            <a:avLst/>
          </a:prstGeom>
          <a:noFill/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064120" y="3836880"/>
            <a:ext cx="283536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ctivate: Auto/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910040" y="3020760"/>
            <a:ext cx="0" cy="1447560"/>
          </a:xfrm>
          <a:prstGeom prst="line">
            <a:avLst/>
          </a:prstGeom>
          <a:ln cap="rnd" w="38160">
            <a:solidFill>
              <a:srgbClr val="99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3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sp>
        <p:nvSpPr>
          <p:cNvPr id="1341" name=""/>
          <p:cNvSpPr/>
          <p:nvPr/>
        </p:nvSpPr>
        <p:spPr>
          <a:xfrm>
            <a:off x="6141960" y="1700280"/>
            <a:ext cx="2162160" cy="642600"/>
          </a:xfrm>
          <a:prstGeom prst="rect">
            <a:avLst/>
          </a:prstGeom>
          <a:solidFill>
            <a:srgbClr val="eeb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ivert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’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730680" y="1422360"/>
            <a:ext cx="2346120" cy="60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Identify and filter malici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293920" y="2457360"/>
            <a:ext cx="2341440" cy="239760"/>
          </a:xfrm>
          <a:custGeom>
            <a:avLst/>
            <a:gdLst/>
            <a:ahLst/>
            <a:rect l="l" t="t" r="r" b="b"/>
            <a:pathLst>
              <a:path w="1475" h="95">
                <a:moveTo>
                  <a:pt x="67" y="0"/>
                </a:moveTo>
                <a:cubicBezTo>
                  <a:pt x="95" y="13"/>
                  <a:pt x="0" y="65"/>
                  <a:pt x="235" y="80"/>
                </a:cubicBezTo>
                <a:cubicBezTo>
                  <a:pt x="470" y="95"/>
                  <a:pt x="1217" y="86"/>
                  <a:pt x="1475" y="88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495520" y="211932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ffic Dest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06600" y="1233360"/>
            <a:ext cx="0" cy="13431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347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3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4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3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8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3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2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6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2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064120" y="3836880"/>
            <a:ext cx="283536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ctivate: Auto/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4910040" y="3020760"/>
            <a:ext cx="0" cy="1447560"/>
          </a:xfrm>
          <a:prstGeom prst="line">
            <a:avLst/>
          </a:prstGeom>
          <a:ln cap="rnd" w="38160">
            <a:solidFill>
              <a:srgbClr val="99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13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6141960" y="1700280"/>
            <a:ext cx="2162160" cy="642600"/>
          </a:xfrm>
          <a:prstGeom prst="rect">
            <a:avLst/>
          </a:prstGeom>
          <a:solidFill>
            <a:srgbClr val="eeb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ivert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’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730680" y="1422360"/>
            <a:ext cx="2346120" cy="60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Identify and filter malici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293920" y="2457360"/>
            <a:ext cx="2341440" cy="239760"/>
          </a:xfrm>
          <a:custGeom>
            <a:avLst/>
            <a:gdLst/>
            <a:ahLst/>
            <a:rect l="l" t="t" r="r" b="b"/>
            <a:pathLst>
              <a:path w="1475" h="95">
                <a:moveTo>
                  <a:pt x="67" y="0"/>
                </a:moveTo>
                <a:cubicBezTo>
                  <a:pt x="95" y="13"/>
                  <a:pt x="0" y="65"/>
                  <a:pt x="235" y="80"/>
                </a:cubicBezTo>
                <a:cubicBezTo>
                  <a:pt x="470" y="95"/>
                  <a:pt x="1217" y="86"/>
                  <a:pt x="1475" y="88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495520" y="211932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ffic Dest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406600" y="1233360"/>
            <a:ext cx="0" cy="13431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859200" y="5160960"/>
            <a:ext cx="1163520" cy="993600"/>
          </a:xfrm>
          <a:prstGeom prst="ellipse">
            <a:avLst/>
          </a:prstGeom>
          <a:noFill/>
          <a:ln w="76320">
            <a:solidFill>
              <a:srgbClr val="306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87760" y="294336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6774"/>
                </a:solidFill>
                <a:latin typeface="Arial"/>
              </a:rPr>
              <a:t>Legitimate Traffic to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3379680" y="4606920"/>
            <a:ext cx="3130560" cy="1316160"/>
          </a:xfrm>
          <a:prstGeom prst="line">
            <a:avLst/>
          </a:prstGeom>
          <a:ln w="38160">
            <a:solidFill>
              <a:srgbClr val="3067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332080" y="2860560"/>
            <a:ext cx="2190600" cy="2273400"/>
          </a:xfrm>
          <a:custGeom>
            <a:avLst/>
            <a:gdLst/>
            <a:ahLst/>
            <a:rect l="l" t="t" r="r" b="b"/>
            <a:pathLst>
              <a:path w="1380" h="1432">
                <a:moveTo>
                  <a:pt x="1380" y="21"/>
                </a:moveTo>
                <a:cubicBezTo>
                  <a:pt x="1190" y="24"/>
                  <a:pt x="467" y="0"/>
                  <a:pt x="241" y="33"/>
                </a:cubicBezTo>
                <a:cubicBezTo>
                  <a:pt x="15" y="66"/>
                  <a:pt x="36" y="119"/>
                  <a:pt x="22" y="220"/>
                </a:cubicBezTo>
                <a:cubicBezTo>
                  <a:pt x="7" y="321"/>
                  <a:pt x="0" y="437"/>
                  <a:pt x="153" y="639"/>
                </a:cubicBezTo>
                <a:cubicBezTo>
                  <a:pt x="306" y="841"/>
                  <a:pt x="624" y="1137"/>
                  <a:pt x="941" y="1432"/>
                </a:cubicBezTo>
              </a:path>
            </a:pathLst>
          </a:custGeom>
          <a:noFill/>
          <a:ln w="76320">
            <a:solidFill>
              <a:srgbClr val="30677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093000" y="5657760"/>
            <a:ext cx="2582640" cy="64260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. Forward legitimat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0680" y="2529000"/>
            <a:ext cx="4775040" cy="2950920"/>
          </a:xfrm>
          <a:custGeom>
            <a:avLst/>
            <a:gdLst/>
            <a:ahLst/>
            <a:rect l="l" t="t" r="r" b="b"/>
            <a:pathLst>
              <a:path w="581" h="385">
                <a:moveTo>
                  <a:pt x="532" y="229"/>
                </a:moveTo>
                <a:lnTo>
                  <a:pt x="544" y="241"/>
                </a:lnTo>
                <a:lnTo>
                  <a:pt x="552" y="254"/>
                </a:lnTo>
                <a:lnTo>
                  <a:pt x="560" y="278"/>
                </a:lnTo>
                <a:lnTo>
                  <a:pt x="556" y="294"/>
                </a:lnTo>
                <a:lnTo>
                  <a:pt x="552" y="311"/>
                </a:lnTo>
                <a:lnTo>
                  <a:pt x="540" y="323"/>
                </a:lnTo>
                <a:lnTo>
                  <a:pt x="523" y="335"/>
                </a:lnTo>
                <a:lnTo>
                  <a:pt x="483" y="352"/>
                </a:lnTo>
                <a:lnTo>
                  <a:pt x="434" y="360"/>
                </a:lnTo>
                <a:lnTo>
                  <a:pt x="384" y="356"/>
                </a:lnTo>
                <a:lnTo>
                  <a:pt x="364" y="348"/>
                </a:lnTo>
                <a:lnTo>
                  <a:pt x="348" y="340"/>
                </a:lnTo>
                <a:lnTo>
                  <a:pt x="319" y="360"/>
                </a:lnTo>
                <a:lnTo>
                  <a:pt x="282" y="372"/>
                </a:lnTo>
                <a:lnTo>
                  <a:pt x="237" y="380"/>
                </a:lnTo>
                <a:lnTo>
                  <a:pt x="192" y="385"/>
                </a:lnTo>
                <a:lnTo>
                  <a:pt x="156" y="380"/>
                </a:lnTo>
                <a:lnTo>
                  <a:pt x="119" y="376"/>
                </a:lnTo>
                <a:lnTo>
                  <a:pt x="86" y="364"/>
                </a:lnTo>
                <a:lnTo>
                  <a:pt x="58" y="352"/>
                </a:lnTo>
                <a:lnTo>
                  <a:pt x="33" y="335"/>
                </a:lnTo>
                <a:lnTo>
                  <a:pt x="17" y="319"/>
                </a:lnTo>
                <a:lnTo>
                  <a:pt x="5" y="294"/>
                </a:lnTo>
                <a:lnTo>
                  <a:pt x="0" y="274"/>
                </a:lnTo>
                <a:lnTo>
                  <a:pt x="5" y="249"/>
                </a:lnTo>
                <a:lnTo>
                  <a:pt x="21" y="225"/>
                </a:lnTo>
                <a:lnTo>
                  <a:pt x="45" y="204"/>
                </a:lnTo>
                <a:lnTo>
                  <a:pt x="74" y="188"/>
                </a:lnTo>
                <a:lnTo>
                  <a:pt x="58" y="163"/>
                </a:lnTo>
                <a:lnTo>
                  <a:pt x="54" y="135"/>
                </a:lnTo>
                <a:lnTo>
                  <a:pt x="58" y="118"/>
                </a:lnTo>
                <a:lnTo>
                  <a:pt x="62" y="102"/>
                </a:lnTo>
                <a:lnTo>
                  <a:pt x="74" y="86"/>
                </a:lnTo>
                <a:lnTo>
                  <a:pt x="90" y="73"/>
                </a:lnTo>
                <a:lnTo>
                  <a:pt x="131" y="53"/>
                </a:lnTo>
                <a:lnTo>
                  <a:pt x="180" y="45"/>
                </a:lnTo>
                <a:lnTo>
                  <a:pt x="184" y="45"/>
                </a:lnTo>
                <a:lnTo>
                  <a:pt x="188" y="45"/>
                </a:lnTo>
                <a:lnTo>
                  <a:pt x="209" y="24"/>
                </a:lnTo>
                <a:lnTo>
                  <a:pt x="233" y="12"/>
                </a:lnTo>
                <a:lnTo>
                  <a:pt x="262" y="4"/>
                </a:lnTo>
                <a:lnTo>
                  <a:pt x="299" y="0"/>
                </a:lnTo>
                <a:lnTo>
                  <a:pt x="344" y="4"/>
                </a:lnTo>
                <a:lnTo>
                  <a:pt x="384" y="20"/>
                </a:lnTo>
                <a:lnTo>
                  <a:pt x="413" y="45"/>
                </a:lnTo>
                <a:lnTo>
                  <a:pt x="421" y="61"/>
                </a:lnTo>
                <a:lnTo>
                  <a:pt x="425" y="77"/>
                </a:lnTo>
                <a:lnTo>
                  <a:pt x="446" y="73"/>
                </a:lnTo>
                <a:lnTo>
                  <a:pt x="470" y="73"/>
                </a:lnTo>
                <a:lnTo>
                  <a:pt x="515" y="81"/>
                </a:lnTo>
                <a:lnTo>
                  <a:pt x="548" y="98"/>
                </a:lnTo>
                <a:lnTo>
                  <a:pt x="572" y="127"/>
                </a:lnTo>
                <a:lnTo>
                  <a:pt x="576" y="143"/>
                </a:lnTo>
                <a:lnTo>
                  <a:pt x="581" y="159"/>
                </a:lnTo>
                <a:lnTo>
                  <a:pt x="576" y="180"/>
                </a:lnTo>
                <a:lnTo>
                  <a:pt x="568" y="200"/>
                </a:lnTo>
                <a:lnTo>
                  <a:pt x="552" y="217"/>
                </a:lnTo>
                <a:lnTo>
                  <a:pt x="532" y="229"/>
                </a:lnTo>
                <a:lnTo>
                  <a:pt x="532" y="229"/>
                </a:lnTo>
              </a:path>
            </a:pathLst>
          </a:custGeom>
          <a:solidFill>
            <a:srgbClr val="c0c0c0"/>
          </a:solidFill>
          <a:ln w="22320">
            <a:solidFill>
              <a:srgbClr val="0053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8280" y="4214880"/>
            <a:ext cx="2025720" cy="1712880"/>
          </a:xfrm>
          <a:prstGeom prst="irregularSeal1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4548240"/>
            <a:ext cx="1131840" cy="1046160"/>
          </a:xfrm>
          <a:prstGeom prst="irregularSeal1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1000" y="3084480"/>
            <a:ext cx="1365120" cy="1133640"/>
          </a:xfrm>
          <a:prstGeom prst="irregularSeal1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75400" y="2960640"/>
            <a:ext cx="1131840" cy="1046160"/>
          </a:xfrm>
          <a:prstGeom prst="irregularSeal1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32480" y="3166560"/>
            <a:ext cx="739800" cy="18756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2240" y="5022720"/>
            <a:ext cx="623880" cy="21924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3320" y="2846520"/>
            <a:ext cx="552600" cy="31896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13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DoS Vulnerabilities</a:t>
            </a:r>
            <a:br>
              <a:rPr sz="3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Threats &amp; Targ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6520" y="319104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0" y="257508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0240" y="4429080"/>
            <a:ext cx="3733920" cy="1231920"/>
          </a:xfrm>
          <a:custGeom>
            <a:avLst/>
            <a:gdLst/>
            <a:ahLst/>
            <a:rect l="l" t="t" r="r" b="b"/>
            <a:pathLst>
              <a:path w="2352" h="776">
                <a:moveTo>
                  <a:pt x="0" y="776"/>
                </a:moveTo>
                <a:cubicBezTo>
                  <a:pt x="64" y="648"/>
                  <a:pt x="128" y="520"/>
                  <a:pt x="288" y="392"/>
                </a:cubicBezTo>
                <a:cubicBezTo>
                  <a:pt x="448" y="264"/>
                  <a:pt x="736" y="16"/>
                  <a:pt x="960" y="8"/>
                </a:cubicBezTo>
                <a:cubicBezTo>
                  <a:pt x="1184" y="0"/>
                  <a:pt x="1400" y="264"/>
                  <a:pt x="1632" y="344"/>
                </a:cubicBezTo>
                <a:cubicBezTo>
                  <a:pt x="1864" y="424"/>
                  <a:pt x="2108" y="456"/>
                  <a:pt x="2352" y="48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05520" y="5083200"/>
            <a:ext cx="6048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6862680" y="1898640"/>
            <a:ext cx="1481040" cy="1434960"/>
            <a:chOff x="6862680" y="1898640"/>
            <a:chExt cx="1481040" cy="1434960"/>
          </a:xfrm>
        </p:grpSpPr>
        <p:grpSp>
          <p:nvGrpSpPr>
            <p:cNvPr id="117" name=""/>
            <p:cNvGrpSpPr/>
            <p:nvPr/>
          </p:nvGrpSpPr>
          <p:grpSpPr>
            <a:xfrm>
              <a:off x="7094520" y="1898640"/>
              <a:ext cx="1249200" cy="1201680"/>
              <a:chOff x="7094520" y="1898640"/>
              <a:chExt cx="1249200" cy="1201680"/>
            </a:xfrm>
          </p:grpSpPr>
          <p:sp>
            <p:nvSpPr>
              <p:cNvPr id="118" name=""/>
              <p:cNvSpPr/>
              <p:nvPr/>
            </p:nvSpPr>
            <p:spPr>
              <a:xfrm>
                <a:off x="7094520" y="2244600"/>
                <a:ext cx="1249200" cy="855720"/>
              </a:xfrm>
              <a:custGeom>
                <a:avLst/>
                <a:gdLst/>
                <a:ahLst/>
                <a:rect l="l" t="t" r="r" b="b"/>
                <a:pathLst>
                  <a:path w="581" h="385">
                    <a:moveTo>
                      <a:pt x="532" y="229"/>
                    </a:moveTo>
                    <a:lnTo>
                      <a:pt x="544" y="241"/>
                    </a:lnTo>
                    <a:lnTo>
                      <a:pt x="552" y="254"/>
                    </a:lnTo>
                    <a:lnTo>
                      <a:pt x="560" y="278"/>
                    </a:lnTo>
                    <a:lnTo>
                      <a:pt x="556" y="294"/>
                    </a:lnTo>
                    <a:lnTo>
                      <a:pt x="552" y="311"/>
                    </a:lnTo>
                    <a:lnTo>
                      <a:pt x="540" y="323"/>
                    </a:lnTo>
                    <a:lnTo>
                      <a:pt x="523" y="335"/>
                    </a:lnTo>
                    <a:lnTo>
                      <a:pt x="483" y="352"/>
                    </a:lnTo>
                    <a:lnTo>
                      <a:pt x="434" y="360"/>
                    </a:lnTo>
                    <a:lnTo>
                      <a:pt x="384" y="356"/>
                    </a:lnTo>
                    <a:lnTo>
                      <a:pt x="364" y="348"/>
                    </a:lnTo>
                    <a:lnTo>
                      <a:pt x="348" y="340"/>
                    </a:lnTo>
                    <a:lnTo>
                      <a:pt x="319" y="360"/>
                    </a:lnTo>
                    <a:lnTo>
                      <a:pt x="282" y="372"/>
                    </a:lnTo>
                    <a:lnTo>
                      <a:pt x="237" y="380"/>
                    </a:lnTo>
                    <a:lnTo>
                      <a:pt x="192" y="385"/>
                    </a:lnTo>
                    <a:lnTo>
                      <a:pt x="156" y="380"/>
                    </a:lnTo>
                    <a:lnTo>
                      <a:pt x="119" y="376"/>
                    </a:lnTo>
                    <a:lnTo>
                      <a:pt x="86" y="364"/>
                    </a:lnTo>
                    <a:lnTo>
                      <a:pt x="58" y="352"/>
                    </a:lnTo>
                    <a:lnTo>
                      <a:pt x="33" y="335"/>
                    </a:lnTo>
                    <a:lnTo>
                      <a:pt x="17" y="319"/>
                    </a:lnTo>
                    <a:lnTo>
                      <a:pt x="5" y="294"/>
                    </a:lnTo>
                    <a:lnTo>
                      <a:pt x="0" y="274"/>
                    </a:lnTo>
                    <a:lnTo>
                      <a:pt x="5" y="249"/>
                    </a:lnTo>
                    <a:lnTo>
                      <a:pt x="21" y="225"/>
                    </a:lnTo>
                    <a:lnTo>
                      <a:pt x="45" y="204"/>
                    </a:lnTo>
                    <a:lnTo>
                      <a:pt x="74" y="188"/>
                    </a:lnTo>
                    <a:lnTo>
                      <a:pt x="58" y="163"/>
                    </a:lnTo>
                    <a:lnTo>
                      <a:pt x="54" y="135"/>
                    </a:lnTo>
                    <a:lnTo>
                      <a:pt x="58" y="118"/>
                    </a:lnTo>
                    <a:lnTo>
                      <a:pt x="62" y="102"/>
                    </a:lnTo>
                    <a:lnTo>
                      <a:pt x="74" y="86"/>
                    </a:lnTo>
                    <a:lnTo>
                      <a:pt x="90" y="73"/>
                    </a:lnTo>
                    <a:lnTo>
                      <a:pt x="131" y="53"/>
                    </a:lnTo>
                    <a:lnTo>
                      <a:pt x="180" y="45"/>
                    </a:lnTo>
                    <a:lnTo>
                      <a:pt x="184" y="45"/>
                    </a:lnTo>
                    <a:lnTo>
                      <a:pt x="188" y="45"/>
                    </a:lnTo>
                    <a:lnTo>
                      <a:pt x="209" y="24"/>
                    </a:lnTo>
                    <a:lnTo>
                      <a:pt x="233" y="12"/>
                    </a:lnTo>
                    <a:lnTo>
                      <a:pt x="262" y="4"/>
                    </a:lnTo>
                    <a:lnTo>
                      <a:pt x="299" y="0"/>
                    </a:lnTo>
                    <a:lnTo>
                      <a:pt x="344" y="4"/>
                    </a:lnTo>
                    <a:lnTo>
                      <a:pt x="384" y="20"/>
                    </a:lnTo>
                    <a:lnTo>
                      <a:pt x="413" y="45"/>
                    </a:lnTo>
                    <a:lnTo>
                      <a:pt x="421" y="61"/>
                    </a:lnTo>
                    <a:lnTo>
                      <a:pt x="425" y="77"/>
                    </a:lnTo>
                    <a:lnTo>
                      <a:pt x="446" y="73"/>
                    </a:lnTo>
                    <a:lnTo>
                      <a:pt x="470" y="73"/>
                    </a:lnTo>
                    <a:lnTo>
                      <a:pt x="515" y="81"/>
                    </a:lnTo>
                    <a:lnTo>
                      <a:pt x="548" y="98"/>
                    </a:lnTo>
                    <a:lnTo>
                      <a:pt x="572" y="127"/>
                    </a:lnTo>
                    <a:lnTo>
                      <a:pt x="576" y="143"/>
                    </a:lnTo>
                    <a:lnTo>
                      <a:pt x="581" y="159"/>
                    </a:lnTo>
                    <a:lnTo>
                      <a:pt x="576" y="180"/>
                    </a:lnTo>
                    <a:lnTo>
                      <a:pt x="568" y="200"/>
                    </a:lnTo>
                    <a:lnTo>
                      <a:pt x="552" y="217"/>
                    </a:lnTo>
                    <a:lnTo>
                      <a:pt x="532" y="229"/>
                    </a:lnTo>
                    <a:lnTo>
                      <a:pt x="532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53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353000" y="1898640"/>
                <a:ext cx="897120" cy="1116000"/>
                <a:chOff x="7353000" y="1898640"/>
                <a:chExt cx="897120" cy="11160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15240" y="1898640"/>
                  <a:ext cx="434880" cy="701640"/>
                  <a:chOff x="7815240" y="1898640"/>
                  <a:chExt cx="434880" cy="7016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7815240" y="2003400"/>
                    <a:ext cx="29808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76">
                        <a:moveTo>
                          <a:pt x="188" y="37"/>
                        </a:moveTo>
                        <a:lnTo>
                          <a:pt x="0" y="0"/>
                        </a:lnTo>
                        <a:lnTo>
                          <a:pt x="0" y="340"/>
                        </a:lnTo>
                        <a:lnTo>
                          <a:pt x="188" y="376"/>
                        </a:lnTo>
                        <a:lnTo>
                          <a:pt x="188" y="37"/>
                        </a:lnTo>
                        <a:lnTo>
                          <a:pt x="188" y="37"/>
                        </a:lnTo>
                        <a:close/>
                      </a:path>
                    </a:pathLst>
                  </a:custGeom>
                  <a:solidFill>
                    <a:srgbClr val="6366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8113320" y="1957320"/>
                    <a:ext cx="13644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5">
                        <a:moveTo>
                          <a:pt x="0" y="66"/>
                        </a:moveTo>
                        <a:lnTo>
                          <a:pt x="86" y="0"/>
                        </a:lnTo>
                        <a:lnTo>
                          <a:pt x="86" y="340"/>
                        </a:lnTo>
                        <a:lnTo>
                          <a:pt x="0" y="405"/>
                        </a:lnTo>
                        <a:lnTo>
                          <a:pt x="0" y="66"/>
                        </a:lnTo>
                        <a:lnTo>
                          <a:pt x="0" y="66"/>
                        </a:lnTo>
                        <a:close/>
                      </a:path>
                    </a:pathLst>
                  </a:custGeom>
                  <a:solidFill>
                    <a:srgbClr val="a8a8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815240" y="1898640"/>
                    <a:ext cx="4348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103">
                        <a:moveTo>
                          <a:pt x="188" y="103"/>
                        </a:moveTo>
                        <a:lnTo>
                          <a:pt x="0" y="66"/>
                        </a:lnTo>
                        <a:lnTo>
                          <a:pt x="86" y="0"/>
                        </a:lnTo>
                        <a:lnTo>
                          <a:pt x="274" y="37"/>
                        </a:lnTo>
                        <a:lnTo>
                          <a:pt x="188" y="103"/>
                        </a:lnTo>
                        <a:lnTo>
                          <a:pt x="188" y="103"/>
                        </a:lnTo>
                        <a:close/>
                      </a:path>
                    </a:pathLst>
                  </a:custGeom>
                  <a:solidFill>
                    <a:srgbClr val="c8c7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840440" y="2035080"/>
                    <a:ext cx="2347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62">
                        <a:moveTo>
                          <a:pt x="148" y="29"/>
                        </a:moveTo>
                        <a:lnTo>
                          <a:pt x="0" y="0"/>
                        </a:lnTo>
                        <a:lnTo>
                          <a:pt x="0" y="33"/>
                        </a:lnTo>
                        <a:lnTo>
                          <a:pt x="148" y="62"/>
                        </a:lnTo>
                        <a:lnTo>
                          <a:pt x="148" y="29"/>
                        </a:lnTo>
                        <a:lnTo>
                          <a:pt x="14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93000" y="2094120"/>
                    <a:ext cx="3042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9">
                        <a:moveTo>
                          <a:pt x="0" y="176"/>
                        </a:moveTo>
                        <a:lnTo>
                          <a:pt x="135" y="209"/>
                        </a:lnTo>
                        <a:lnTo>
                          <a:pt x="160" y="193"/>
                        </a:lnTo>
                        <a:lnTo>
                          <a:pt x="160" y="21"/>
                        </a:lnTo>
                        <a:lnTo>
                          <a:pt x="192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184960" y="2075040"/>
                    <a:ext cx="457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5" y="4"/>
                        </a:lnTo>
                        <a:lnTo>
                          <a:pt x="29" y="12"/>
                        </a:lnTo>
                        <a:lnTo>
                          <a:pt x="25" y="24"/>
                        </a:lnTo>
                        <a:lnTo>
                          <a:pt x="16" y="28"/>
                        </a:lnTo>
                        <a:lnTo>
                          <a:pt x="4" y="24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191440" y="2171880"/>
                    <a:ext cx="4536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7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5" y="4"/>
                        </a:lnTo>
                        <a:lnTo>
                          <a:pt x="29" y="17"/>
                        </a:lnTo>
                        <a:lnTo>
                          <a:pt x="25" y="25"/>
                        </a:lnTo>
                        <a:lnTo>
                          <a:pt x="16" y="29"/>
                        </a:lnTo>
                        <a:lnTo>
                          <a:pt x="4" y="25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893000" y="2184480"/>
                    <a:ext cx="31680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09">
                        <a:moveTo>
                          <a:pt x="0" y="181"/>
                        </a:moveTo>
                        <a:lnTo>
                          <a:pt x="135" y="209"/>
                        </a:lnTo>
                        <a:lnTo>
                          <a:pt x="200" y="168"/>
                        </a:lnTo>
                        <a:lnTo>
                          <a:pt x="200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67440" y="2444760"/>
                    <a:ext cx="518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3">
                        <a:moveTo>
                          <a:pt x="0" y="17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33" y="17"/>
                        </a:lnTo>
                        <a:lnTo>
                          <a:pt x="28" y="29"/>
                        </a:lnTo>
                        <a:lnTo>
                          <a:pt x="16" y="33"/>
                        </a:lnTo>
                        <a:lnTo>
                          <a:pt x="4" y="29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867440" y="2347920"/>
                    <a:ext cx="51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0" y="20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33" y="20"/>
                        </a:lnTo>
                        <a:lnTo>
                          <a:pt x="28" y="33"/>
                        </a:lnTo>
                        <a:lnTo>
                          <a:pt x="16" y="37"/>
                        </a:lnTo>
                        <a:lnTo>
                          <a:pt x="4" y="33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7586640" y="2098440"/>
                  <a:ext cx="434880" cy="707760"/>
                  <a:chOff x="7586640" y="2098440"/>
                  <a:chExt cx="434880" cy="7077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7586640" y="2203200"/>
                    <a:ext cx="298080" cy="60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80">
                        <a:moveTo>
                          <a:pt x="188" y="40"/>
                        </a:moveTo>
                        <a:lnTo>
                          <a:pt x="0" y="0"/>
                        </a:lnTo>
                        <a:lnTo>
                          <a:pt x="0" y="339"/>
                        </a:lnTo>
                        <a:lnTo>
                          <a:pt x="188" y="380"/>
                        </a:lnTo>
                        <a:lnTo>
                          <a:pt x="188" y="40"/>
                        </a:lnTo>
                        <a:lnTo>
                          <a:pt x="188" y="40"/>
                        </a:lnTo>
                        <a:close/>
                      </a:path>
                    </a:pathLst>
                  </a:custGeom>
                  <a:solidFill>
                    <a:srgbClr val="065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4720" y="2157120"/>
                    <a:ext cx="136440" cy="64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9">
                        <a:moveTo>
                          <a:pt x="0" y="69"/>
                        </a:moveTo>
                        <a:lnTo>
                          <a:pt x="86" y="0"/>
                        </a:lnTo>
                        <a:lnTo>
                          <a:pt x="86" y="340"/>
                        </a:lnTo>
                        <a:lnTo>
                          <a:pt x="0" y="40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769c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586640" y="2098440"/>
                    <a:ext cx="4348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106">
                        <a:moveTo>
                          <a:pt x="188" y="106"/>
                        </a:moveTo>
                        <a:lnTo>
                          <a:pt x="0" y="66"/>
                        </a:lnTo>
                        <a:lnTo>
                          <a:pt x="86" y="0"/>
                        </a:lnTo>
                        <a:lnTo>
                          <a:pt x="274" y="37"/>
                        </a:lnTo>
                        <a:lnTo>
                          <a:pt x="188" y="106"/>
                        </a:lnTo>
                        <a:lnTo>
                          <a:pt x="188" y="106"/>
                        </a:lnTo>
                        <a:close/>
                      </a:path>
                    </a:pathLst>
                  </a:custGeom>
                  <a:solidFill>
                    <a:srgbClr val="abc0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611840" y="2241360"/>
                    <a:ext cx="2347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62">
                        <a:moveTo>
                          <a:pt x="148" y="29"/>
                        </a:moveTo>
                        <a:lnTo>
                          <a:pt x="0" y="0"/>
                        </a:lnTo>
                        <a:lnTo>
                          <a:pt x="0" y="33"/>
                        </a:lnTo>
                        <a:lnTo>
                          <a:pt x="148" y="62"/>
                        </a:lnTo>
                        <a:lnTo>
                          <a:pt x="148" y="29"/>
                        </a:lnTo>
                        <a:lnTo>
                          <a:pt x="14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664400" y="2300040"/>
                    <a:ext cx="30420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5">
                        <a:moveTo>
                          <a:pt x="0" y="176"/>
                        </a:moveTo>
                        <a:lnTo>
                          <a:pt x="135" y="205"/>
                        </a:lnTo>
                        <a:lnTo>
                          <a:pt x="160" y="192"/>
                        </a:lnTo>
                        <a:lnTo>
                          <a:pt x="160" y="20"/>
                        </a:lnTo>
                        <a:lnTo>
                          <a:pt x="192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56360" y="2280960"/>
                    <a:ext cx="457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5" y="4"/>
                        </a:lnTo>
                        <a:lnTo>
                          <a:pt x="29" y="12"/>
                        </a:lnTo>
                        <a:lnTo>
                          <a:pt x="25" y="24"/>
                        </a:lnTo>
                        <a:lnTo>
                          <a:pt x="16" y="28"/>
                        </a:lnTo>
                        <a:lnTo>
                          <a:pt x="4" y="24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962840" y="2377800"/>
                    <a:ext cx="453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6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5" y="4"/>
                        </a:lnTo>
                        <a:lnTo>
                          <a:pt x="29" y="16"/>
                        </a:lnTo>
                        <a:lnTo>
                          <a:pt x="25" y="25"/>
                        </a:lnTo>
                        <a:lnTo>
                          <a:pt x="16" y="29"/>
                        </a:lnTo>
                        <a:lnTo>
                          <a:pt x="4" y="25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664400" y="2383920"/>
                    <a:ext cx="3168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13">
                        <a:moveTo>
                          <a:pt x="0" y="184"/>
                        </a:moveTo>
                        <a:lnTo>
                          <a:pt x="135" y="213"/>
                        </a:lnTo>
                        <a:lnTo>
                          <a:pt x="200" y="168"/>
                        </a:lnTo>
                        <a:lnTo>
                          <a:pt x="200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638840" y="2650680"/>
                    <a:ext cx="518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3">
                        <a:moveTo>
                          <a:pt x="0" y="16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33" y="16"/>
                        </a:lnTo>
                        <a:lnTo>
                          <a:pt x="28" y="29"/>
                        </a:lnTo>
                        <a:lnTo>
                          <a:pt x="16" y="33"/>
                        </a:lnTo>
                        <a:lnTo>
                          <a:pt x="4" y="29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638840" y="2553840"/>
                    <a:ext cx="51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2">
                        <a:moveTo>
                          <a:pt x="0" y="16"/>
                        </a:move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33" y="16"/>
                        </a:lnTo>
                        <a:lnTo>
                          <a:pt x="28" y="28"/>
                        </a:lnTo>
                        <a:lnTo>
                          <a:pt x="16" y="32"/>
                        </a:lnTo>
                        <a:lnTo>
                          <a:pt x="4" y="2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353000" y="2313000"/>
                  <a:ext cx="441000" cy="701640"/>
                  <a:chOff x="7353000" y="2313000"/>
                  <a:chExt cx="441000" cy="7016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7353000" y="2417760"/>
                    <a:ext cx="304560" cy="59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76">
                        <a:moveTo>
                          <a:pt x="192" y="37"/>
                        </a:moveTo>
                        <a:lnTo>
                          <a:pt x="0" y="0"/>
                        </a:lnTo>
                        <a:lnTo>
                          <a:pt x="0" y="340"/>
                        </a:lnTo>
                        <a:lnTo>
                          <a:pt x="192" y="376"/>
                        </a:lnTo>
                        <a:lnTo>
                          <a:pt x="192" y="37"/>
                        </a:lnTo>
                        <a:lnTo>
                          <a:pt x="192" y="37"/>
                        </a:lnTo>
                        <a:close/>
                      </a:path>
                    </a:pathLst>
                  </a:custGeom>
                  <a:solidFill>
                    <a:srgbClr val="6a9a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657560" y="2371680"/>
                    <a:ext cx="13644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5">
                        <a:moveTo>
                          <a:pt x="0" y="66"/>
                        </a:moveTo>
                        <a:lnTo>
                          <a:pt x="86" y="0"/>
                        </a:lnTo>
                        <a:lnTo>
                          <a:pt x="86" y="340"/>
                        </a:lnTo>
                        <a:lnTo>
                          <a:pt x="0" y="405"/>
                        </a:lnTo>
                        <a:lnTo>
                          <a:pt x="0" y="66"/>
                        </a:lnTo>
                        <a:lnTo>
                          <a:pt x="0" y="66"/>
                        </a:lnTo>
                        <a:close/>
                      </a:path>
                    </a:pathLst>
                  </a:custGeom>
                  <a:solidFill>
                    <a:srgbClr val="adc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53000" y="2313000"/>
                    <a:ext cx="4410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03">
                        <a:moveTo>
                          <a:pt x="192" y="103"/>
                        </a:moveTo>
                        <a:lnTo>
                          <a:pt x="0" y="66"/>
                        </a:lnTo>
                        <a:lnTo>
                          <a:pt x="90" y="0"/>
                        </a:lnTo>
                        <a:lnTo>
                          <a:pt x="278" y="37"/>
                        </a:lnTo>
                        <a:lnTo>
                          <a:pt x="192" y="103"/>
                        </a:lnTo>
                        <a:lnTo>
                          <a:pt x="192" y="103"/>
                        </a:lnTo>
                        <a:close/>
                      </a:path>
                    </a:pathLst>
                  </a:custGeom>
                  <a:solidFill>
                    <a:srgbClr val="ccde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386120" y="2449440"/>
                    <a:ext cx="2332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147" y="29"/>
                        </a:moveTo>
                        <a:lnTo>
                          <a:pt x="0" y="0"/>
                        </a:lnTo>
                        <a:lnTo>
                          <a:pt x="0" y="33"/>
                        </a:lnTo>
                        <a:lnTo>
                          <a:pt x="147" y="62"/>
                        </a:lnTo>
                        <a:lnTo>
                          <a:pt x="147" y="29"/>
                        </a:lnTo>
                        <a:lnTo>
                          <a:pt x="147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438680" y="2508480"/>
                    <a:ext cx="30456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9">
                        <a:moveTo>
                          <a:pt x="0" y="176"/>
                        </a:moveTo>
                        <a:lnTo>
                          <a:pt x="134" y="209"/>
                        </a:lnTo>
                        <a:lnTo>
                          <a:pt x="159" y="193"/>
                        </a:lnTo>
                        <a:lnTo>
                          <a:pt x="159" y="21"/>
                        </a:lnTo>
                        <a:lnTo>
                          <a:pt x="192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729200" y="2489400"/>
                    <a:ext cx="460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17" y="0"/>
                        </a:lnTo>
                        <a:lnTo>
                          <a:pt x="25" y="4"/>
                        </a:lnTo>
                        <a:lnTo>
                          <a:pt x="29" y="12"/>
                        </a:lnTo>
                        <a:lnTo>
                          <a:pt x="25" y="24"/>
                        </a:lnTo>
                        <a:lnTo>
                          <a:pt x="17" y="28"/>
                        </a:lnTo>
                        <a:lnTo>
                          <a:pt x="4" y="24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735320" y="2586240"/>
                    <a:ext cx="460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7"/>
                        </a:moveTo>
                        <a:lnTo>
                          <a:pt x="5" y="4"/>
                        </a:lnTo>
                        <a:lnTo>
                          <a:pt x="17" y="0"/>
                        </a:lnTo>
                        <a:lnTo>
                          <a:pt x="25" y="4"/>
                        </a:lnTo>
                        <a:lnTo>
                          <a:pt x="29" y="17"/>
                        </a:lnTo>
                        <a:lnTo>
                          <a:pt x="25" y="25"/>
                        </a:lnTo>
                        <a:lnTo>
                          <a:pt x="17" y="29"/>
                        </a:lnTo>
                        <a:lnTo>
                          <a:pt x="5" y="25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438680" y="2598840"/>
                    <a:ext cx="31752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09">
                        <a:moveTo>
                          <a:pt x="0" y="181"/>
                        </a:moveTo>
                        <a:lnTo>
                          <a:pt x="134" y="209"/>
                        </a:lnTo>
                        <a:lnTo>
                          <a:pt x="200" y="168"/>
                        </a:lnTo>
                        <a:lnTo>
                          <a:pt x="200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411680" y="2859120"/>
                    <a:ext cx="522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3">
                        <a:moveTo>
                          <a:pt x="0" y="17"/>
                        </a:moveTo>
                        <a:lnTo>
                          <a:pt x="4" y="4"/>
                        </a:lnTo>
                        <a:lnTo>
                          <a:pt x="17" y="0"/>
                        </a:lnTo>
                        <a:lnTo>
                          <a:pt x="29" y="4"/>
                        </a:lnTo>
                        <a:lnTo>
                          <a:pt x="33" y="17"/>
                        </a:lnTo>
                        <a:lnTo>
                          <a:pt x="29" y="29"/>
                        </a:lnTo>
                        <a:lnTo>
                          <a:pt x="17" y="33"/>
                        </a:lnTo>
                        <a:lnTo>
                          <a:pt x="4" y="29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411680" y="2762280"/>
                    <a:ext cx="522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0" y="20"/>
                        </a:moveTo>
                        <a:lnTo>
                          <a:pt x="4" y="4"/>
                        </a:lnTo>
                        <a:lnTo>
                          <a:pt x="17" y="0"/>
                        </a:lnTo>
                        <a:lnTo>
                          <a:pt x="29" y="4"/>
                        </a:lnTo>
                        <a:lnTo>
                          <a:pt x="33" y="20"/>
                        </a:lnTo>
                        <a:lnTo>
                          <a:pt x="29" y="33"/>
                        </a:lnTo>
                        <a:lnTo>
                          <a:pt x="17" y="37"/>
                        </a:lnTo>
                        <a:lnTo>
                          <a:pt x="4" y="33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62680" y="2965320"/>
              <a:ext cx="6048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3678120" y="33415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P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52320" y="1819440"/>
            <a:ext cx="1479600" cy="1145520"/>
            <a:chOff x="652320" y="1819440"/>
            <a:chExt cx="1479600" cy="1145520"/>
          </a:xfrm>
        </p:grpSpPr>
        <p:sp>
          <p:nvSpPr>
            <p:cNvPr id="156" name=""/>
            <p:cNvSpPr/>
            <p:nvPr/>
          </p:nvSpPr>
          <p:spPr>
            <a:xfrm>
              <a:off x="652320" y="1990440"/>
              <a:ext cx="1249200" cy="855360"/>
            </a:xfrm>
            <a:custGeom>
              <a:avLst/>
              <a:gdLst/>
              <a:ahLst/>
              <a:rect l="l" t="t" r="r" b="b"/>
              <a:pathLst>
                <a:path w="581" h="385">
                  <a:moveTo>
                    <a:pt x="532" y="229"/>
                  </a:moveTo>
                  <a:lnTo>
                    <a:pt x="544" y="241"/>
                  </a:lnTo>
                  <a:lnTo>
                    <a:pt x="552" y="254"/>
                  </a:lnTo>
                  <a:lnTo>
                    <a:pt x="560" y="278"/>
                  </a:lnTo>
                  <a:lnTo>
                    <a:pt x="556" y="294"/>
                  </a:lnTo>
                  <a:lnTo>
                    <a:pt x="552" y="311"/>
                  </a:lnTo>
                  <a:lnTo>
                    <a:pt x="540" y="323"/>
                  </a:lnTo>
                  <a:lnTo>
                    <a:pt x="523" y="335"/>
                  </a:lnTo>
                  <a:lnTo>
                    <a:pt x="483" y="352"/>
                  </a:lnTo>
                  <a:lnTo>
                    <a:pt x="434" y="360"/>
                  </a:lnTo>
                  <a:lnTo>
                    <a:pt x="384" y="356"/>
                  </a:lnTo>
                  <a:lnTo>
                    <a:pt x="364" y="348"/>
                  </a:lnTo>
                  <a:lnTo>
                    <a:pt x="348" y="340"/>
                  </a:lnTo>
                  <a:lnTo>
                    <a:pt x="319" y="360"/>
                  </a:lnTo>
                  <a:lnTo>
                    <a:pt x="282" y="372"/>
                  </a:lnTo>
                  <a:lnTo>
                    <a:pt x="237" y="380"/>
                  </a:lnTo>
                  <a:lnTo>
                    <a:pt x="192" y="385"/>
                  </a:lnTo>
                  <a:lnTo>
                    <a:pt x="156" y="380"/>
                  </a:lnTo>
                  <a:lnTo>
                    <a:pt x="119" y="376"/>
                  </a:lnTo>
                  <a:lnTo>
                    <a:pt x="86" y="364"/>
                  </a:lnTo>
                  <a:lnTo>
                    <a:pt x="58" y="352"/>
                  </a:lnTo>
                  <a:lnTo>
                    <a:pt x="33" y="335"/>
                  </a:lnTo>
                  <a:lnTo>
                    <a:pt x="17" y="319"/>
                  </a:lnTo>
                  <a:lnTo>
                    <a:pt x="5" y="294"/>
                  </a:lnTo>
                  <a:lnTo>
                    <a:pt x="0" y="274"/>
                  </a:lnTo>
                  <a:lnTo>
                    <a:pt x="5" y="249"/>
                  </a:lnTo>
                  <a:lnTo>
                    <a:pt x="21" y="225"/>
                  </a:lnTo>
                  <a:lnTo>
                    <a:pt x="45" y="204"/>
                  </a:lnTo>
                  <a:lnTo>
                    <a:pt x="74" y="188"/>
                  </a:lnTo>
                  <a:lnTo>
                    <a:pt x="58" y="163"/>
                  </a:lnTo>
                  <a:lnTo>
                    <a:pt x="54" y="135"/>
                  </a:lnTo>
                  <a:lnTo>
                    <a:pt x="58" y="118"/>
                  </a:lnTo>
                  <a:lnTo>
                    <a:pt x="62" y="102"/>
                  </a:lnTo>
                  <a:lnTo>
                    <a:pt x="74" y="86"/>
                  </a:lnTo>
                  <a:lnTo>
                    <a:pt x="90" y="73"/>
                  </a:lnTo>
                  <a:lnTo>
                    <a:pt x="131" y="53"/>
                  </a:lnTo>
                  <a:lnTo>
                    <a:pt x="180" y="45"/>
                  </a:lnTo>
                  <a:lnTo>
                    <a:pt x="184" y="45"/>
                  </a:lnTo>
                  <a:lnTo>
                    <a:pt x="188" y="45"/>
                  </a:lnTo>
                  <a:lnTo>
                    <a:pt x="209" y="24"/>
                  </a:lnTo>
                  <a:lnTo>
                    <a:pt x="233" y="12"/>
                  </a:lnTo>
                  <a:lnTo>
                    <a:pt x="262" y="4"/>
                  </a:lnTo>
                  <a:lnTo>
                    <a:pt x="299" y="0"/>
                  </a:lnTo>
                  <a:lnTo>
                    <a:pt x="344" y="4"/>
                  </a:lnTo>
                  <a:lnTo>
                    <a:pt x="384" y="20"/>
                  </a:lnTo>
                  <a:lnTo>
                    <a:pt x="413" y="45"/>
                  </a:lnTo>
                  <a:lnTo>
                    <a:pt x="421" y="61"/>
                  </a:lnTo>
                  <a:lnTo>
                    <a:pt x="425" y="77"/>
                  </a:lnTo>
                  <a:lnTo>
                    <a:pt x="446" y="73"/>
                  </a:lnTo>
                  <a:lnTo>
                    <a:pt x="470" y="73"/>
                  </a:lnTo>
                  <a:lnTo>
                    <a:pt x="515" y="81"/>
                  </a:lnTo>
                  <a:lnTo>
                    <a:pt x="548" y="98"/>
                  </a:lnTo>
                  <a:lnTo>
                    <a:pt x="572" y="127"/>
                  </a:lnTo>
                  <a:lnTo>
                    <a:pt x="576" y="143"/>
                  </a:lnTo>
                  <a:lnTo>
                    <a:pt x="581" y="159"/>
                  </a:lnTo>
                  <a:lnTo>
                    <a:pt x="576" y="180"/>
                  </a:lnTo>
                  <a:lnTo>
                    <a:pt x="568" y="200"/>
                  </a:lnTo>
                  <a:lnTo>
                    <a:pt x="552" y="217"/>
                  </a:lnTo>
                  <a:lnTo>
                    <a:pt x="532" y="229"/>
                  </a:lnTo>
                  <a:lnTo>
                    <a:pt x="532" y="22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536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822240" y="1819440"/>
              <a:ext cx="896400" cy="1114920"/>
              <a:chOff x="822240" y="1819440"/>
              <a:chExt cx="896400" cy="1114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284120" y="1819440"/>
                <a:ext cx="434520" cy="700920"/>
                <a:chOff x="1284120" y="1819440"/>
                <a:chExt cx="434520" cy="7009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284120" y="1923840"/>
                  <a:ext cx="297720" cy="596520"/>
                </a:xfrm>
                <a:custGeom>
                  <a:avLst/>
                  <a:gdLst/>
                  <a:ahLst/>
                  <a:rect l="l" t="t" r="r" b="b"/>
                  <a:pathLst>
                    <a:path w="188" h="376">
                      <a:moveTo>
                        <a:pt x="188" y="37"/>
                      </a:moveTo>
                      <a:lnTo>
                        <a:pt x="0" y="0"/>
                      </a:lnTo>
                      <a:lnTo>
                        <a:pt x="0" y="340"/>
                      </a:lnTo>
                      <a:lnTo>
                        <a:pt x="188" y="376"/>
                      </a:lnTo>
                      <a:lnTo>
                        <a:pt x="188" y="37"/>
                      </a:lnTo>
                      <a:lnTo>
                        <a:pt x="188" y="37"/>
                      </a:lnTo>
                      <a:close/>
                    </a:path>
                  </a:pathLst>
                </a:custGeom>
                <a:solidFill>
                  <a:srgbClr val="6366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581840" y="1877760"/>
                  <a:ext cx="136440" cy="642600"/>
                </a:xfrm>
                <a:custGeom>
                  <a:avLst/>
                  <a:gdLst/>
                  <a:ahLst/>
                  <a:rect l="l" t="t" r="r" b="b"/>
                  <a:pathLst>
                    <a:path w="86" h="405">
                      <a:moveTo>
                        <a:pt x="0" y="66"/>
                      </a:moveTo>
                      <a:lnTo>
                        <a:pt x="86" y="0"/>
                      </a:lnTo>
                      <a:lnTo>
                        <a:pt x="86" y="340"/>
                      </a:lnTo>
                      <a:lnTo>
                        <a:pt x="0" y="405"/>
                      </a:lnTo>
                      <a:lnTo>
                        <a:pt x="0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a8a8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84120" y="1819440"/>
                  <a:ext cx="434520" cy="163080"/>
                </a:xfrm>
                <a:custGeom>
                  <a:avLst/>
                  <a:gdLst/>
                  <a:ahLst/>
                  <a:rect l="l" t="t" r="r" b="b"/>
                  <a:pathLst>
                    <a:path w="274" h="103">
                      <a:moveTo>
                        <a:pt x="188" y="103"/>
                      </a:moveTo>
                      <a:lnTo>
                        <a:pt x="0" y="66"/>
                      </a:lnTo>
                      <a:lnTo>
                        <a:pt x="86" y="0"/>
                      </a:lnTo>
                      <a:lnTo>
                        <a:pt x="274" y="37"/>
                      </a:lnTo>
                      <a:lnTo>
                        <a:pt x="188" y="103"/>
                      </a:lnTo>
                      <a:lnTo>
                        <a:pt x="188" y="103"/>
                      </a:lnTo>
                      <a:close/>
                    </a:path>
                  </a:pathLst>
                </a:custGeom>
                <a:solidFill>
                  <a:srgbClr val="c8c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9320" y="1955520"/>
                  <a:ext cx="234360" cy="98280"/>
                </a:xfrm>
                <a:custGeom>
                  <a:avLst/>
                  <a:gdLst/>
                  <a:ahLst/>
                  <a:rect l="l" t="t" r="r" b="b"/>
                  <a:pathLst>
                    <a:path w="148" h="62">
                      <a:moveTo>
                        <a:pt x="148" y="29"/>
                      </a:move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148" y="62"/>
                      </a:lnTo>
                      <a:lnTo>
                        <a:pt x="148" y="29"/>
                      </a:lnTo>
                      <a:lnTo>
                        <a:pt x="14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361880" y="2014560"/>
                  <a:ext cx="303840" cy="331200"/>
                </a:xfrm>
                <a:custGeom>
                  <a:avLst/>
                  <a:gdLst/>
                  <a:ahLst/>
                  <a:rect l="l" t="t" r="r" b="b"/>
                  <a:pathLst>
                    <a:path w="192" h="209">
                      <a:moveTo>
                        <a:pt x="0" y="176"/>
                      </a:moveTo>
                      <a:lnTo>
                        <a:pt x="135" y="209"/>
                      </a:lnTo>
                      <a:lnTo>
                        <a:pt x="160" y="193"/>
                      </a:lnTo>
                      <a:lnTo>
                        <a:pt x="160" y="21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3480" y="199548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5" y="4"/>
                      </a:lnTo>
                      <a:lnTo>
                        <a:pt x="29" y="12"/>
                      </a:lnTo>
                      <a:lnTo>
                        <a:pt x="25" y="24"/>
                      </a:lnTo>
                      <a:lnTo>
                        <a:pt x="16" y="28"/>
                      </a:lnTo>
                      <a:lnTo>
                        <a:pt x="4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9960" y="2092320"/>
                  <a:ext cx="45360" cy="453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17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5" y="4"/>
                      </a:lnTo>
                      <a:lnTo>
                        <a:pt x="29" y="17"/>
                      </a:lnTo>
                      <a:lnTo>
                        <a:pt x="25" y="25"/>
                      </a:lnTo>
                      <a:lnTo>
                        <a:pt x="16" y="29"/>
                      </a:lnTo>
                      <a:lnTo>
                        <a:pt x="4" y="25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361880" y="2104920"/>
                  <a:ext cx="316440" cy="331560"/>
                </a:xfrm>
                <a:custGeom>
                  <a:avLst/>
                  <a:gdLst/>
                  <a:ahLst/>
                  <a:rect l="l" t="t" r="r" b="b"/>
                  <a:pathLst>
                    <a:path w="200" h="209">
                      <a:moveTo>
                        <a:pt x="0" y="181"/>
                      </a:moveTo>
                      <a:lnTo>
                        <a:pt x="135" y="209"/>
                      </a:lnTo>
                      <a:lnTo>
                        <a:pt x="200" y="168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36320" y="2365200"/>
                  <a:ext cx="51840" cy="52200"/>
                </a:xfrm>
                <a:custGeom>
                  <a:avLst/>
                  <a:gdLst/>
                  <a:ahLst/>
                  <a:rect l="l" t="t" r="r" b="b"/>
                  <a:pathLst>
                    <a:path w="33" h="33">
                      <a:moveTo>
                        <a:pt x="0" y="17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33" y="17"/>
                      </a:lnTo>
                      <a:lnTo>
                        <a:pt x="28" y="29"/>
                      </a:lnTo>
                      <a:lnTo>
                        <a:pt x="16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336320" y="2268360"/>
                  <a:ext cx="51840" cy="58320"/>
                </a:xfrm>
                <a:custGeom>
                  <a:avLst/>
                  <a:gdLst/>
                  <a:ahLst/>
                  <a:rect l="l" t="t" r="r" b="b"/>
                  <a:pathLst>
                    <a:path w="33" h="37">
                      <a:moveTo>
                        <a:pt x="0" y="20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33" y="20"/>
                      </a:lnTo>
                      <a:lnTo>
                        <a:pt x="28" y="33"/>
                      </a:lnTo>
                      <a:lnTo>
                        <a:pt x="16" y="37"/>
                      </a:lnTo>
                      <a:lnTo>
                        <a:pt x="4" y="33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055520" y="2018880"/>
                <a:ext cx="434520" cy="707760"/>
                <a:chOff x="1055520" y="2018880"/>
                <a:chExt cx="434520" cy="707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55520" y="2123640"/>
                  <a:ext cx="297720" cy="603000"/>
                </a:xfrm>
                <a:custGeom>
                  <a:avLst/>
                  <a:gdLst/>
                  <a:ahLst/>
                  <a:rect l="l" t="t" r="r" b="b"/>
                  <a:pathLst>
                    <a:path w="188" h="380">
                      <a:moveTo>
                        <a:pt x="188" y="40"/>
                      </a:moveTo>
                      <a:lnTo>
                        <a:pt x="0" y="0"/>
                      </a:lnTo>
                      <a:lnTo>
                        <a:pt x="0" y="339"/>
                      </a:lnTo>
                      <a:lnTo>
                        <a:pt x="188" y="380"/>
                      </a:lnTo>
                      <a:lnTo>
                        <a:pt x="188" y="40"/>
                      </a:lnTo>
                      <a:lnTo>
                        <a:pt x="188" y="40"/>
                      </a:lnTo>
                      <a:close/>
                    </a:path>
                  </a:pathLst>
                </a:custGeom>
                <a:solidFill>
                  <a:srgbClr val="0655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53240" y="2077560"/>
                  <a:ext cx="136440" cy="649080"/>
                </a:xfrm>
                <a:custGeom>
                  <a:avLst/>
                  <a:gdLst/>
                  <a:ahLst/>
                  <a:rect l="l" t="t" r="r" b="b"/>
                  <a:pathLst>
                    <a:path w="86" h="409">
                      <a:moveTo>
                        <a:pt x="0" y="69"/>
                      </a:moveTo>
                      <a:lnTo>
                        <a:pt x="86" y="0"/>
                      </a:lnTo>
                      <a:lnTo>
                        <a:pt x="86" y="340"/>
                      </a:lnTo>
                      <a:lnTo>
                        <a:pt x="0" y="40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769c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5520" y="2018880"/>
                  <a:ext cx="434520" cy="168120"/>
                </a:xfrm>
                <a:custGeom>
                  <a:avLst/>
                  <a:gdLst/>
                  <a:ahLst/>
                  <a:rect l="l" t="t" r="r" b="b"/>
                  <a:pathLst>
                    <a:path w="274" h="106">
                      <a:moveTo>
                        <a:pt x="188" y="106"/>
                      </a:moveTo>
                      <a:lnTo>
                        <a:pt x="0" y="66"/>
                      </a:lnTo>
                      <a:lnTo>
                        <a:pt x="86" y="0"/>
                      </a:lnTo>
                      <a:lnTo>
                        <a:pt x="274" y="37"/>
                      </a:lnTo>
                      <a:lnTo>
                        <a:pt x="188" y="106"/>
                      </a:lnTo>
                      <a:lnTo>
                        <a:pt x="188" y="106"/>
                      </a:lnTo>
                      <a:close/>
                    </a:path>
                  </a:pathLst>
                </a:custGeom>
                <a:solidFill>
                  <a:srgbClr val="abc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080720" y="2161800"/>
                  <a:ext cx="234360" cy="98280"/>
                </a:xfrm>
                <a:custGeom>
                  <a:avLst/>
                  <a:gdLst/>
                  <a:ahLst/>
                  <a:rect l="l" t="t" r="r" b="b"/>
                  <a:pathLst>
                    <a:path w="148" h="62">
                      <a:moveTo>
                        <a:pt x="148" y="29"/>
                      </a:move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148" y="62"/>
                      </a:lnTo>
                      <a:lnTo>
                        <a:pt x="148" y="29"/>
                      </a:lnTo>
                      <a:lnTo>
                        <a:pt x="148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133280" y="2220480"/>
                  <a:ext cx="303840" cy="325440"/>
                </a:xfrm>
                <a:custGeom>
                  <a:avLst/>
                  <a:gdLst/>
                  <a:ahLst/>
                  <a:rect l="l" t="t" r="r" b="b"/>
                  <a:pathLst>
                    <a:path w="192" h="205">
                      <a:moveTo>
                        <a:pt x="0" y="176"/>
                      </a:moveTo>
                      <a:lnTo>
                        <a:pt x="135" y="205"/>
                      </a:lnTo>
                      <a:lnTo>
                        <a:pt x="160" y="192"/>
                      </a:lnTo>
                      <a:lnTo>
                        <a:pt x="160" y="20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24880" y="2201400"/>
                  <a:ext cx="45720" cy="4428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5" y="4"/>
                      </a:lnTo>
                      <a:lnTo>
                        <a:pt x="29" y="12"/>
                      </a:lnTo>
                      <a:lnTo>
                        <a:pt x="25" y="24"/>
                      </a:lnTo>
                      <a:lnTo>
                        <a:pt x="16" y="28"/>
                      </a:lnTo>
                      <a:lnTo>
                        <a:pt x="4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31360" y="2298240"/>
                  <a:ext cx="45360" cy="4608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16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5" y="4"/>
                      </a:lnTo>
                      <a:lnTo>
                        <a:pt x="29" y="16"/>
                      </a:lnTo>
                      <a:lnTo>
                        <a:pt x="25" y="25"/>
                      </a:lnTo>
                      <a:lnTo>
                        <a:pt x="16" y="29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133280" y="2304360"/>
                  <a:ext cx="316440" cy="338400"/>
                </a:xfrm>
                <a:custGeom>
                  <a:avLst/>
                  <a:gdLst/>
                  <a:ahLst/>
                  <a:rect l="l" t="t" r="r" b="b"/>
                  <a:pathLst>
                    <a:path w="200" h="213">
                      <a:moveTo>
                        <a:pt x="0" y="184"/>
                      </a:moveTo>
                      <a:lnTo>
                        <a:pt x="135" y="213"/>
                      </a:lnTo>
                      <a:lnTo>
                        <a:pt x="200" y="168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07720" y="2571120"/>
                  <a:ext cx="51840" cy="52560"/>
                </a:xfrm>
                <a:custGeom>
                  <a:avLst/>
                  <a:gdLst/>
                  <a:ahLst/>
                  <a:rect l="l" t="t" r="r" b="b"/>
                  <a:pathLst>
                    <a:path w="33" h="33">
                      <a:moveTo>
                        <a:pt x="0" y="16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33" y="16"/>
                      </a:lnTo>
                      <a:lnTo>
                        <a:pt x="28" y="29"/>
                      </a:lnTo>
                      <a:lnTo>
                        <a:pt x="16" y="33"/>
                      </a:lnTo>
                      <a:lnTo>
                        <a:pt x="4" y="29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107720" y="2474280"/>
                  <a:ext cx="51840" cy="5076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0" y="16"/>
                      </a:move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33" y="16"/>
                      </a:lnTo>
                      <a:lnTo>
                        <a:pt x="28" y="28"/>
                      </a:lnTo>
                      <a:lnTo>
                        <a:pt x="16" y="32"/>
                      </a:lnTo>
                      <a:lnTo>
                        <a:pt x="4" y="28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22240" y="2233440"/>
                <a:ext cx="441000" cy="700920"/>
                <a:chOff x="822240" y="2233440"/>
                <a:chExt cx="441000" cy="700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22240" y="2337840"/>
                  <a:ext cx="304560" cy="596520"/>
                </a:xfrm>
                <a:custGeom>
                  <a:avLst/>
                  <a:gdLst/>
                  <a:ahLst/>
                  <a:rect l="l" t="t" r="r" b="b"/>
                  <a:pathLst>
                    <a:path w="192" h="376">
                      <a:moveTo>
                        <a:pt x="192" y="37"/>
                      </a:moveTo>
                      <a:lnTo>
                        <a:pt x="0" y="0"/>
                      </a:lnTo>
                      <a:lnTo>
                        <a:pt x="0" y="340"/>
                      </a:lnTo>
                      <a:lnTo>
                        <a:pt x="192" y="376"/>
                      </a:lnTo>
                      <a:lnTo>
                        <a:pt x="192" y="37"/>
                      </a:lnTo>
                      <a:lnTo>
                        <a:pt x="192" y="37"/>
                      </a:lnTo>
                      <a:close/>
                    </a:path>
                  </a:pathLst>
                </a:custGeom>
                <a:solidFill>
                  <a:srgbClr val="6a9a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26800" y="2291760"/>
                  <a:ext cx="136440" cy="642600"/>
                </a:xfrm>
                <a:custGeom>
                  <a:avLst/>
                  <a:gdLst/>
                  <a:ahLst/>
                  <a:rect l="l" t="t" r="r" b="b"/>
                  <a:pathLst>
                    <a:path w="86" h="405">
                      <a:moveTo>
                        <a:pt x="0" y="66"/>
                      </a:moveTo>
                      <a:lnTo>
                        <a:pt x="86" y="0"/>
                      </a:lnTo>
                      <a:lnTo>
                        <a:pt x="86" y="340"/>
                      </a:lnTo>
                      <a:lnTo>
                        <a:pt x="0" y="405"/>
                      </a:lnTo>
                      <a:lnTo>
                        <a:pt x="0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adc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240" y="2233440"/>
                  <a:ext cx="441000" cy="163080"/>
                </a:xfrm>
                <a:custGeom>
                  <a:avLst/>
                  <a:gdLst/>
                  <a:ahLst/>
                  <a:rect l="l" t="t" r="r" b="b"/>
                  <a:pathLst>
                    <a:path w="278" h="103">
                      <a:moveTo>
                        <a:pt x="192" y="103"/>
                      </a:moveTo>
                      <a:lnTo>
                        <a:pt x="0" y="66"/>
                      </a:lnTo>
                      <a:lnTo>
                        <a:pt x="90" y="0"/>
                      </a:lnTo>
                      <a:lnTo>
                        <a:pt x="278" y="37"/>
                      </a:lnTo>
                      <a:lnTo>
                        <a:pt x="192" y="103"/>
                      </a:lnTo>
                      <a:lnTo>
                        <a:pt x="192" y="103"/>
                      </a:lnTo>
                      <a:close/>
                    </a:path>
                  </a:pathLst>
                </a:custGeom>
                <a:solidFill>
                  <a:srgbClr val="ccde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55360" y="2369520"/>
                  <a:ext cx="233280" cy="98280"/>
                </a:xfrm>
                <a:custGeom>
                  <a:avLst/>
                  <a:gdLst/>
                  <a:ahLst/>
                  <a:rect l="l" t="t" r="r" b="b"/>
                  <a:pathLst>
                    <a:path w="147" h="62">
                      <a:moveTo>
                        <a:pt x="147" y="29"/>
                      </a:move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147" y="62"/>
                      </a:lnTo>
                      <a:lnTo>
                        <a:pt x="147" y="29"/>
                      </a:lnTo>
                      <a:lnTo>
                        <a:pt x="147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907920" y="2428560"/>
                  <a:ext cx="304560" cy="331200"/>
                </a:xfrm>
                <a:custGeom>
                  <a:avLst/>
                  <a:gdLst/>
                  <a:ahLst/>
                  <a:rect l="l" t="t" r="r" b="b"/>
                  <a:pathLst>
                    <a:path w="192" h="209">
                      <a:moveTo>
                        <a:pt x="0" y="176"/>
                      </a:moveTo>
                      <a:lnTo>
                        <a:pt x="134" y="209"/>
                      </a:lnTo>
                      <a:lnTo>
                        <a:pt x="159" y="193"/>
                      </a:lnTo>
                      <a:lnTo>
                        <a:pt x="159" y="21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198440" y="2409480"/>
                  <a:ext cx="46080" cy="43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17" y="0"/>
                      </a:lnTo>
                      <a:lnTo>
                        <a:pt x="25" y="4"/>
                      </a:lnTo>
                      <a:lnTo>
                        <a:pt x="29" y="12"/>
                      </a:lnTo>
                      <a:lnTo>
                        <a:pt x="25" y="24"/>
                      </a:lnTo>
                      <a:lnTo>
                        <a:pt x="17" y="28"/>
                      </a:lnTo>
                      <a:lnTo>
                        <a:pt x="4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204560" y="2506320"/>
                  <a:ext cx="46080" cy="453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17"/>
                      </a:moveTo>
                      <a:lnTo>
                        <a:pt x="5" y="4"/>
                      </a:lnTo>
                      <a:lnTo>
                        <a:pt x="17" y="0"/>
                      </a:lnTo>
                      <a:lnTo>
                        <a:pt x="25" y="4"/>
                      </a:lnTo>
                      <a:lnTo>
                        <a:pt x="29" y="17"/>
                      </a:lnTo>
                      <a:lnTo>
                        <a:pt x="25" y="25"/>
                      </a:lnTo>
                      <a:lnTo>
                        <a:pt x="17" y="29"/>
                      </a:lnTo>
                      <a:lnTo>
                        <a:pt x="5" y="25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907920" y="2518920"/>
                  <a:ext cx="317520" cy="331560"/>
                </a:xfrm>
                <a:custGeom>
                  <a:avLst/>
                  <a:gdLst/>
                  <a:ahLst/>
                  <a:rect l="l" t="t" r="r" b="b"/>
                  <a:pathLst>
                    <a:path w="200" h="209">
                      <a:moveTo>
                        <a:pt x="0" y="181"/>
                      </a:moveTo>
                      <a:lnTo>
                        <a:pt x="134" y="209"/>
                      </a:lnTo>
                      <a:lnTo>
                        <a:pt x="200" y="168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80920" y="2779200"/>
                  <a:ext cx="52200" cy="52200"/>
                </a:xfrm>
                <a:custGeom>
                  <a:avLst/>
                  <a:gdLst/>
                  <a:ahLst/>
                  <a:rect l="l" t="t" r="r" b="b"/>
                  <a:pathLst>
                    <a:path w="33" h="33">
                      <a:moveTo>
                        <a:pt x="0" y="17"/>
                      </a:moveTo>
                      <a:lnTo>
                        <a:pt x="4" y="4"/>
                      </a:lnTo>
                      <a:lnTo>
                        <a:pt x="17" y="0"/>
                      </a:lnTo>
                      <a:lnTo>
                        <a:pt x="29" y="4"/>
                      </a:lnTo>
                      <a:lnTo>
                        <a:pt x="33" y="17"/>
                      </a:lnTo>
                      <a:lnTo>
                        <a:pt x="29" y="29"/>
                      </a:lnTo>
                      <a:lnTo>
                        <a:pt x="17" y="33"/>
                      </a:lnTo>
                      <a:lnTo>
                        <a:pt x="4" y="29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80920" y="2682360"/>
                  <a:ext cx="52200" cy="58320"/>
                </a:xfrm>
                <a:custGeom>
                  <a:avLst/>
                  <a:gdLst/>
                  <a:ahLst/>
                  <a:rect l="l" t="t" r="r" b="b"/>
                  <a:pathLst>
                    <a:path w="33" h="37">
                      <a:moveTo>
                        <a:pt x="0" y="20"/>
                      </a:moveTo>
                      <a:lnTo>
                        <a:pt x="4" y="4"/>
                      </a:lnTo>
                      <a:lnTo>
                        <a:pt x="17" y="0"/>
                      </a:lnTo>
                      <a:lnTo>
                        <a:pt x="29" y="4"/>
                      </a:lnTo>
                      <a:lnTo>
                        <a:pt x="33" y="20"/>
                      </a:lnTo>
                      <a:lnTo>
                        <a:pt x="29" y="33"/>
                      </a:lnTo>
                      <a:lnTo>
                        <a:pt x="17" y="37"/>
                      </a:lnTo>
                      <a:lnTo>
                        <a:pt x="4" y="33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1527120" y="2596680"/>
              <a:ext cx="60480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7547040" y="4538520"/>
            <a:ext cx="1231920" cy="971280"/>
            <a:chOff x="7547040" y="4538520"/>
            <a:chExt cx="1231920" cy="971280"/>
          </a:xfrm>
        </p:grpSpPr>
        <p:grpSp>
          <p:nvGrpSpPr>
            <p:cNvPr id="193" name=""/>
            <p:cNvGrpSpPr/>
            <p:nvPr/>
          </p:nvGrpSpPr>
          <p:grpSpPr>
            <a:xfrm>
              <a:off x="8344080" y="4619520"/>
              <a:ext cx="434880" cy="701640"/>
              <a:chOff x="8344080" y="4619520"/>
              <a:chExt cx="434880" cy="701640"/>
            </a:xfrm>
          </p:grpSpPr>
          <p:sp>
            <p:nvSpPr>
              <p:cNvPr id="194" name=""/>
              <p:cNvSpPr/>
              <p:nvPr/>
            </p:nvSpPr>
            <p:spPr>
              <a:xfrm>
                <a:off x="8344080" y="4724280"/>
                <a:ext cx="298080" cy="596880"/>
              </a:xfrm>
              <a:custGeom>
                <a:avLst/>
                <a:gdLst/>
                <a:ahLst/>
                <a:rect l="l" t="t" r="r" b="b"/>
                <a:pathLst>
                  <a:path w="188" h="376">
                    <a:moveTo>
                      <a:pt x="188" y="37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188" y="376"/>
                    </a:lnTo>
                    <a:lnTo>
                      <a:pt x="188" y="37"/>
                    </a:lnTo>
                    <a:lnTo>
                      <a:pt x="188" y="37"/>
                    </a:lnTo>
                    <a:close/>
                  </a:path>
                </a:pathLst>
              </a:custGeom>
              <a:solidFill>
                <a:srgbClr val="63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642160" y="4678200"/>
                <a:ext cx="136440" cy="642960"/>
              </a:xfrm>
              <a:custGeom>
                <a:avLst/>
                <a:gdLst/>
                <a:ahLst/>
                <a:rect l="l" t="t" r="r" b="b"/>
                <a:pathLst>
                  <a:path w="86" h="405">
                    <a:moveTo>
                      <a:pt x="0" y="66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5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8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344080" y="4619520"/>
                <a:ext cx="434880" cy="163440"/>
              </a:xfrm>
              <a:custGeom>
                <a:avLst/>
                <a:gdLst/>
                <a:ahLst/>
                <a:rect l="l" t="t" r="r" b="b"/>
                <a:pathLst>
                  <a:path w="274" h="103">
                    <a:moveTo>
                      <a:pt x="188" y="103"/>
                    </a:moveTo>
                    <a:lnTo>
                      <a:pt x="0" y="66"/>
                    </a:lnTo>
                    <a:lnTo>
                      <a:pt x="86" y="0"/>
                    </a:lnTo>
                    <a:lnTo>
                      <a:pt x="274" y="37"/>
                    </a:lnTo>
                    <a:lnTo>
                      <a:pt x="188" y="103"/>
                    </a:lnTo>
                    <a:lnTo>
                      <a:pt x="188" y="103"/>
                    </a:lnTo>
                    <a:close/>
                  </a:path>
                </a:pathLst>
              </a:custGeom>
              <a:solidFill>
                <a:srgbClr val="c8c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69280" y="4755960"/>
                <a:ext cx="234720" cy="98640"/>
              </a:xfrm>
              <a:custGeom>
                <a:avLst/>
                <a:gdLst/>
                <a:ahLst/>
                <a:rect l="l" t="t" r="r" b="b"/>
                <a:pathLst>
                  <a:path w="148" h="62">
                    <a:moveTo>
                      <a:pt x="148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8" y="62"/>
                    </a:lnTo>
                    <a:lnTo>
                      <a:pt x="148" y="29"/>
                    </a:lnTo>
                    <a:lnTo>
                      <a:pt x="14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421840" y="4815000"/>
                <a:ext cx="304200" cy="331560"/>
              </a:xfrm>
              <a:custGeom>
                <a:avLst/>
                <a:gdLst/>
                <a:ahLst/>
                <a:rect l="l" t="t" r="r" b="b"/>
                <a:pathLst>
                  <a:path w="192" h="209">
                    <a:moveTo>
                      <a:pt x="0" y="176"/>
                    </a:moveTo>
                    <a:lnTo>
                      <a:pt x="135" y="209"/>
                    </a:lnTo>
                    <a:lnTo>
                      <a:pt x="160" y="193"/>
                    </a:lnTo>
                    <a:lnTo>
                      <a:pt x="160" y="21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13800" y="479592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6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720280" y="4892760"/>
                <a:ext cx="4536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7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7"/>
                    </a:lnTo>
                    <a:lnTo>
                      <a:pt x="25" y="25"/>
                    </a:lnTo>
                    <a:lnTo>
                      <a:pt x="16" y="29"/>
                    </a:lnTo>
                    <a:lnTo>
                      <a:pt x="4" y="2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21840" y="4905360"/>
                <a:ext cx="316800" cy="331920"/>
              </a:xfrm>
              <a:custGeom>
                <a:avLst/>
                <a:gdLst/>
                <a:ahLst/>
                <a:rect l="l" t="t" r="r" b="b"/>
                <a:pathLst>
                  <a:path w="200" h="209">
                    <a:moveTo>
                      <a:pt x="0" y="181"/>
                    </a:moveTo>
                    <a:lnTo>
                      <a:pt x="135" y="209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96280" y="516564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7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7"/>
                    </a:lnTo>
                    <a:lnTo>
                      <a:pt x="28" y="29"/>
                    </a:lnTo>
                    <a:lnTo>
                      <a:pt x="16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96280" y="5068800"/>
                <a:ext cx="5184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20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20"/>
                    </a:lnTo>
                    <a:lnTo>
                      <a:pt x="28" y="33"/>
                    </a:lnTo>
                    <a:lnTo>
                      <a:pt x="16" y="37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851960" y="4538520"/>
              <a:ext cx="434880" cy="707760"/>
              <a:chOff x="7851960" y="4538520"/>
              <a:chExt cx="434880" cy="707760"/>
            </a:xfrm>
          </p:grpSpPr>
          <p:sp>
            <p:nvSpPr>
              <p:cNvPr id="205" name=""/>
              <p:cNvSpPr/>
              <p:nvPr/>
            </p:nvSpPr>
            <p:spPr>
              <a:xfrm>
                <a:off x="7851960" y="4643280"/>
                <a:ext cx="298080" cy="603000"/>
              </a:xfrm>
              <a:custGeom>
                <a:avLst/>
                <a:gdLst/>
                <a:ahLst/>
                <a:rect l="l" t="t" r="r" b="b"/>
                <a:pathLst>
                  <a:path w="188" h="380">
                    <a:moveTo>
                      <a:pt x="188" y="40"/>
                    </a:moveTo>
                    <a:lnTo>
                      <a:pt x="0" y="0"/>
                    </a:lnTo>
                    <a:lnTo>
                      <a:pt x="0" y="339"/>
                    </a:lnTo>
                    <a:lnTo>
                      <a:pt x="188" y="380"/>
                    </a:lnTo>
                    <a:lnTo>
                      <a:pt x="188" y="40"/>
                    </a:lnTo>
                    <a:lnTo>
                      <a:pt x="188" y="40"/>
                    </a:lnTo>
                    <a:close/>
                  </a:path>
                </a:pathLst>
              </a:custGeom>
              <a:solidFill>
                <a:srgbClr val="065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50040" y="4597200"/>
                <a:ext cx="136440" cy="649080"/>
              </a:xfrm>
              <a:custGeom>
                <a:avLst/>
                <a:gdLst/>
                <a:ahLst/>
                <a:rect l="l" t="t" r="r" b="b"/>
                <a:pathLst>
                  <a:path w="86" h="409">
                    <a:moveTo>
                      <a:pt x="0" y="69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9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769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1960" y="4538520"/>
                <a:ext cx="434880" cy="168120"/>
              </a:xfrm>
              <a:custGeom>
                <a:avLst/>
                <a:gdLst/>
                <a:ahLst/>
                <a:rect l="l" t="t" r="r" b="b"/>
                <a:pathLst>
                  <a:path w="274" h="106">
                    <a:moveTo>
                      <a:pt x="188" y="106"/>
                    </a:moveTo>
                    <a:lnTo>
                      <a:pt x="0" y="66"/>
                    </a:lnTo>
                    <a:lnTo>
                      <a:pt x="86" y="0"/>
                    </a:lnTo>
                    <a:lnTo>
                      <a:pt x="274" y="37"/>
                    </a:lnTo>
                    <a:lnTo>
                      <a:pt x="188" y="106"/>
                    </a:lnTo>
                    <a:lnTo>
                      <a:pt x="188" y="106"/>
                    </a:lnTo>
                    <a:close/>
                  </a:path>
                </a:pathLst>
              </a:custGeom>
              <a:solidFill>
                <a:srgbClr val="abc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77160" y="4681440"/>
                <a:ext cx="234720" cy="98280"/>
              </a:xfrm>
              <a:custGeom>
                <a:avLst/>
                <a:gdLst/>
                <a:ahLst/>
                <a:rect l="l" t="t" r="r" b="b"/>
                <a:pathLst>
                  <a:path w="148" h="62">
                    <a:moveTo>
                      <a:pt x="148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8" y="62"/>
                    </a:lnTo>
                    <a:lnTo>
                      <a:pt x="148" y="29"/>
                    </a:lnTo>
                    <a:lnTo>
                      <a:pt x="14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29720" y="4740120"/>
                <a:ext cx="304200" cy="325440"/>
              </a:xfrm>
              <a:custGeom>
                <a:avLst/>
                <a:gdLst/>
                <a:ahLst/>
                <a:rect l="l" t="t" r="r" b="b"/>
                <a:pathLst>
                  <a:path w="192" h="205">
                    <a:moveTo>
                      <a:pt x="0" y="176"/>
                    </a:moveTo>
                    <a:lnTo>
                      <a:pt x="135" y="205"/>
                    </a:lnTo>
                    <a:lnTo>
                      <a:pt x="160" y="192"/>
                    </a:lnTo>
                    <a:lnTo>
                      <a:pt x="160" y="20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21680" y="472104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6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28160" y="4817880"/>
                <a:ext cx="4536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6"/>
                    </a:lnTo>
                    <a:lnTo>
                      <a:pt x="25" y="25"/>
                    </a:lnTo>
                    <a:lnTo>
                      <a:pt x="16" y="29"/>
                    </a:lnTo>
                    <a:lnTo>
                      <a:pt x="4" y="2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29720" y="4824000"/>
                <a:ext cx="316800" cy="338400"/>
              </a:xfrm>
              <a:custGeom>
                <a:avLst/>
                <a:gdLst/>
                <a:ahLst/>
                <a:rect l="l" t="t" r="r" b="b"/>
                <a:pathLst>
                  <a:path w="200" h="213">
                    <a:moveTo>
                      <a:pt x="0" y="184"/>
                    </a:moveTo>
                    <a:lnTo>
                      <a:pt x="135" y="213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04160" y="50907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9"/>
                    </a:lnTo>
                    <a:lnTo>
                      <a:pt x="16" y="33"/>
                    </a:lnTo>
                    <a:lnTo>
                      <a:pt x="4" y="29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04160" y="4993920"/>
                <a:ext cx="5184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8"/>
                    </a:lnTo>
                    <a:lnTo>
                      <a:pt x="16" y="32"/>
                    </a:lnTo>
                    <a:lnTo>
                      <a:pt x="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547040" y="4690800"/>
              <a:ext cx="441000" cy="701640"/>
              <a:chOff x="7547040" y="4690800"/>
              <a:chExt cx="441000" cy="70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7547040" y="4795560"/>
                <a:ext cx="304560" cy="596880"/>
              </a:xfrm>
              <a:custGeom>
                <a:avLst/>
                <a:gdLst/>
                <a:ahLst/>
                <a:rect l="l" t="t" r="r" b="b"/>
                <a:pathLst>
                  <a:path w="192" h="376">
                    <a:moveTo>
                      <a:pt x="192" y="37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192" y="376"/>
                    </a:lnTo>
                    <a:lnTo>
                      <a:pt x="192" y="37"/>
                    </a:lnTo>
                    <a:lnTo>
                      <a:pt x="192" y="37"/>
                    </a:lnTo>
                    <a:close/>
                  </a:path>
                </a:pathLst>
              </a:custGeom>
              <a:solidFill>
                <a:srgbClr val="6a9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1600" y="4749480"/>
                <a:ext cx="136440" cy="642960"/>
              </a:xfrm>
              <a:custGeom>
                <a:avLst/>
                <a:gdLst/>
                <a:ahLst/>
                <a:rect l="l" t="t" r="r" b="b"/>
                <a:pathLst>
                  <a:path w="86" h="405">
                    <a:moveTo>
                      <a:pt x="0" y="66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5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dc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7040" y="4690800"/>
                <a:ext cx="441000" cy="163440"/>
              </a:xfrm>
              <a:custGeom>
                <a:avLst/>
                <a:gdLst/>
                <a:ahLst/>
                <a:rect l="l" t="t" r="r" b="b"/>
                <a:pathLst>
                  <a:path w="278" h="103">
                    <a:moveTo>
                      <a:pt x="192" y="103"/>
                    </a:moveTo>
                    <a:lnTo>
                      <a:pt x="0" y="66"/>
                    </a:lnTo>
                    <a:lnTo>
                      <a:pt x="90" y="0"/>
                    </a:lnTo>
                    <a:lnTo>
                      <a:pt x="278" y="37"/>
                    </a:lnTo>
                    <a:lnTo>
                      <a:pt x="192" y="103"/>
                    </a:lnTo>
                    <a:lnTo>
                      <a:pt x="192" y="103"/>
                    </a:lnTo>
                    <a:close/>
                  </a:path>
                </a:pathLst>
              </a:custGeom>
              <a:solidFill>
                <a:srgbClr val="ccd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80160" y="4827240"/>
                <a:ext cx="233280" cy="9864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147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7" y="62"/>
                    </a:lnTo>
                    <a:lnTo>
                      <a:pt x="147" y="29"/>
                    </a:lnTo>
                    <a:lnTo>
                      <a:pt x="14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32720" y="4886280"/>
                <a:ext cx="304560" cy="331560"/>
              </a:xfrm>
              <a:custGeom>
                <a:avLst/>
                <a:gdLst/>
                <a:ahLst/>
                <a:rect l="l" t="t" r="r" b="b"/>
                <a:pathLst>
                  <a:path w="192" h="209">
                    <a:moveTo>
                      <a:pt x="0" y="176"/>
                    </a:moveTo>
                    <a:lnTo>
                      <a:pt x="134" y="209"/>
                    </a:lnTo>
                    <a:lnTo>
                      <a:pt x="159" y="193"/>
                    </a:lnTo>
                    <a:lnTo>
                      <a:pt x="159" y="21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23240" y="486720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7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9360" y="4964040"/>
                <a:ext cx="4608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7"/>
                    </a:moveTo>
                    <a:lnTo>
                      <a:pt x="5" y="4"/>
                    </a:lnTo>
                    <a:lnTo>
                      <a:pt x="17" y="0"/>
                    </a:lnTo>
                    <a:lnTo>
                      <a:pt x="25" y="4"/>
                    </a:lnTo>
                    <a:lnTo>
                      <a:pt x="29" y="17"/>
                    </a:lnTo>
                    <a:lnTo>
                      <a:pt x="25" y="25"/>
                    </a:lnTo>
                    <a:lnTo>
                      <a:pt x="17" y="29"/>
                    </a:lnTo>
                    <a:lnTo>
                      <a:pt x="5" y="2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32720" y="4976640"/>
                <a:ext cx="317520" cy="331920"/>
              </a:xfrm>
              <a:custGeom>
                <a:avLst/>
                <a:gdLst/>
                <a:ahLst/>
                <a:rect l="l" t="t" r="r" b="b"/>
                <a:pathLst>
                  <a:path w="200" h="209">
                    <a:moveTo>
                      <a:pt x="0" y="181"/>
                    </a:moveTo>
                    <a:lnTo>
                      <a:pt x="134" y="209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5720" y="52369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7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9" y="4"/>
                    </a:lnTo>
                    <a:lnTo>
                      <a:pt x="33" y="17"/>
                    </a:lnTo>
                    <a:lnTo>
                      <a:pt x="29" y="29"/>
                    </a:lnTo>
                    <a:lnTo>
                      <a:pt x="17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05720" y="514008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20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9" y="4"/>
                    </a:lnTo>
                    <a:lnTo>
                      <a:pt x="33" y="20"/>
                    </a:lnTo>
                    <a:lnTo>
                      <a:pt x="29" y="33"/>
                    </a:lnTo>
                    <a:lnTo>
                      <a:pt x="17" y="37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8083800" y="4802040"/>
              <a:ext cx="434880" cy="707760"/>
              <a:chOff x="8083800" y="4802040"/>
              <a:chExt cx="434880" cy="707760"/>
            </a:xfrm>
          </p:grpSpPr>
          <p:sp>
            <p:nvSpPr>
              <p:cNvPr id="227" name=""/>
              <p:cNvSpPr/>
              <p:nvPr/>
            </p:nvSpPr>
            <p:spPr>
              <a:xfrm>
                <a:off x="8083800" y="4906800"/>
                <a:ext cx="298080" cy="603000"/>
              </a:xfrm>
              <a:custGeom>
                <a:avLst/>
                <a:gdLst/>
                <a:ahLst/>
                <a:rect l="l" t="t" r="r" b="b"/>
                <a:pathLst>
                  <a:path w="188" h="380">
                    <a:moveTo>
                      <a:pt x="188" y="40"/>
                    </a:moveTo>
                    <a:lnTo>
                      <a:pt x="0" y="0"/>
                    </a:lnTo>
                    <a:lnTo>
                      <a:pt x="0" y="339"/>
                    </a:lnTo>
                    <a:lnTo>
                      <a:pt x="188" y="380"/>
                    </a:lnTo>
                    <a:lnTo>
                      <a:pt x="188" y="40"/>
                    </a:lnTo>
                    <a:lnTo>
                      <a:pt x="188" y="40"/>
                    </a:lnTo>
                    <a:close/>
                  </a:path>
                </a:pathLst>
              </a:custGeom>
              <a:solidFill>
                <a:srgbClr val="065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81880" y="4860720"/>
                <a:ext cx="136440" cy="649080"/>
              </a:xfrm>
              <a:custGeom>
                <a:avLst/>
                <a:gdLst/>
                <a:ahLst/>
                <a:rect l="l" t="t" r="r" b="b"/>
                <a:pathLst>
                  <a:path w="86" h="409">
                    <a:moveTo>
                      <a:pt x="0" y="69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9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769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083800" y="4802040"/>
                <a:ext cx="434880" cy="168120"/>
              </a:xfrm>
              <a:custGeom>
                <a:avLst/>
                <a:gdLst/>
                <a:ahLst/>
                <a:rect l="l" t="t" r="r" b="b"/>
                <a:pathLst>
                  <a:path w="274" h="106">
                    <a:moveTo>
                      <a:pt x="188" y="106"/>
                    </a:moveTo>
                    <a:lnTo>
                      <a:pt x="0" y="66"/>
                    </a:lnTo>
                    <a:lnTo>
                      <a:pt x="86" y="0"/>
                    </a:lnTo>
                    <a:lnTo>
                      <a:pt x="274" y="37"/>
                    </a:lnTo>
                    <a:lnTo>
                      <a:pt x="188" y="106"/>
                    </a:lnTo>
                    <a:lnTo>
                      <a:pt x="188" y="106"/>
                    </a:lnTo>
                    <a:close/>
                  </a:path>
                </a:pathLst>
              </a:custGeom>
              <a:solidFill>
                <a:srgbClr val="abc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109000" y="4944960"/>
                <a:ext cx="234720" cy="98280"/>
              </a:xfrm>
              <a:custGeom>
                <a:avLst/>
                <a:gdLst/>
                <a:ahLst/>
                <a:rect l="l" t="t" r="r" b="b"/>
                <a:pathLst>
                  <a:path w="148" h="62">
                    <a:moveTo>
                      <a:pt x="148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8" y="62"/>
                    </a:lnTo>
                    <a:lnTo>
                      <a:pt x="148" y="29"/>
                    </a:lnTo>
                    <a:lnTo>
                      <a:pt x="14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61560" y="5003640"/>
                <a:ext cx="304200" cy="325440"/>
              </a:xfrm>
              <a:custGeom>
                <a:avLst/>
                <a:gdLst/>
                <a:ahLst/>
                <a:rect l="l" t="t" r="r" b="b"/>
                <a:pathLst>
                  <a:path w="192" h="205">
                    <a:moveTo>
                      <a:pt x="0" y="176"/>
                    </a:moveTo>
                    <a:lnTo>
                      <a:pt x="135" y="205"/>
                    </a:lnTo>
                    <a:lnTo>
                      <a:pt x="160" y="192"/>
                    </a:lnTo>
                    <a:lnTo>
                      <a:pt x="160" y="20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453520" y="498456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6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460000" y="5081400"/>
                <a:ext cx="4536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6"/>
                    </a:lnTo>
                    <a:lnTo>
                      <a:pt x="25" y="25"/>
                    </a:lnTo>
                    <a:lnTo>
                      <a:pt x="16" y="29"/>
                    </a:lnTo>
                    <a:lnTo>
                      <a:pt x="4" y="2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61560" y="5087520"/>
                <a:ext cx="316800" cy="338400"/>
              </a:xfrm>
              <a:custGeom>
                <a:avLst/>
                <a:gdLst/>
                <a:ahLst/>
                <a:rect l="l" t="t" r="r" b="b"/>
                <a:pathLst>
                  <a:path w="200" h="213">
                    <a:moveTo>
                      <a:pt x="0" y="184"/>
                    </a:moveTo>
                    <a:lnTo>
                      <a:pt x="135" y="213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36000" y="53542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9"/>
                    </a:lnTo>
                    <a:lnTo>
                      <a:pt x="16" y="33"/>
                    </a:lnTo>
                    <a:lnTo>
                      <a:pt x="4" y="29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36000" y="5257440"/>
                <a:ext cx="5184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8"/>
                    </a:lnTo>
                    <a:lnTo>
                      <a:pt x="16" y="32"/>
                    </a:lnTo>
                    <a:lnTo>
                      <a:pt x="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1795320" y="4881600"/>
            <a:ext cx="5968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89120" y="5068440"/>
            <a:ext cx="349200" cy="31932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360" y="5351400"/>
            <a:ext cx="1249560" cy="855720"/>
          </a:xfrm>
          <a:custGeom>
            <a:avLst/>
            <a:gdLst/>
            <a:ahLst/>
            <a:rect l="l" t="t" r="r" b="b"/>
            <a:pathLst>
              <a:path w="581" h="385">
                <a:moveTo>
                  <a:pt x="532" y="229"/>
                </a:moveTo>
                <a:lnTo>
                  <a:pt x="544" y="241"/>
                </a:lnTo>
                <a:lnTo>
                  <a:pt x="552" y="254"/>
                </a:lnTo>
                <a:lnTo>
                  <a:pt x="560" y="278"/>
                </a:lnTo>
                <a:lnTo>
                  <a:pt x="556" y="294"/>
                </a:lnTo>
                <a:lnTo>
                  <a:pt x="552" y="311"/>
                </a:lnTo>
                <a:lnTo>
                  <a:pt x="540" y="323"/>
                </a:lnTo>
                <a:lnTo>
                  <a:pt x="523" y="335"/>
                </a:lnTo>
                <a:lnTo>
                  <a:pt x="483" y="352"/>
                </a:lnTo>
                <a:lnTo>
                  <a:pt x="434" y="360"/>
                </a:lnTo>
                <a:lnTo>
                  <a:pt x="384" y="356"/>
                </a:lnTo>
                <a:lnTo>
                  <a:pt x="364" y="348"/>
                </a:lnTo>
                <a:lnTo>
                  <a:pt x="348" y="340"/>
                </a:lnTo>
                <a:lnTo>
                  <a:pt x="319" y="360"/>
                </a:lnTo>
                <a:lnTo>
                  <a:pt x="282" y="372"/>
                </a:lnTo>
                <a:lnTo>
                  <a:pt x="237" y="380"/>
                </a:lnTo>
                <a:lnTo>
                  <a:pt x="192" y="385"/>
                </a:lnTo>
                <a:lnTo>
                  <a:pt x="156" y="380"/>
                </a:lnTo>
                <a:lnTo>
                  <a:pt x="119" y="376"/>
                </a:lnTo>
                <a:lnTo>
                  <a:pt x="86" y="364"/>
                </a:lnTo>
                <a:lnTo>
                  <a:pt x="58" y="352"/>
                </a:lnTo>
                <a:lnTo>
                  <a:pt x="33" y="335"/>
                </a:lnTo>
                <a:lnTo>
                  <a:pt x="17" y="319"/>
                </a:lnTo>
                <a:lnTo>
                  <a:pt x="5" y="294"/>
                </a:lnTo>
                <a:lnTo>
                  <a:pt x="0" y="274"/>
                </a:lnTo>
                <a:lnTo>
                  <a:pt x="5" y="249"/>
                </a:lnTo>
                <a:lnTo>
                  <a:pt x="21" y="225"/>
                </a:lnTo>
                <a:lnTo>
                  <a:pt x="45" y="204"/>
                </a:lnTo>
                <a:lnTo>
                  <a:pt x="74" y="188"/>
                </a:lnTo>
                <a:lnTo>
                  <a:pt x="58" y="163"/>
                </a:lnTo>
                <a:lnTo>
                  <a:pt x="54" y="135"/>
                </a:lnTo>
                <a:lnTo>
                  <a:pt x="58" y="118"/>
                </a:lnTo>
                <a:lnTo>
                  <a:pt x="62" y="102"/>
                </a:lnTo>
                <a:lnTo>
                  <a:pt x="74" y="86"/>
                </a:lnTo>
                <a:lnTo>
                  <a:pt x="90" y="73"/>
                </a:lnTo>
                <a:lnTo>
                  <a:pt x="131" y="53"/>
                </a:lnTo>
                <a:lnTo>
                  <a:pt x="180" y="45"/>
                </a:lnTo>
                <a:lnTo>
                  <a:pt x="184" y="45"/>
                </a:lnTo>
                <a:lnTo>
                  <a:pt x="188" y="45"/>
                </a:lnTo>
                <a:lnTo>
                  <a:pt x="209" y="24"/>
                </a:lnTo>
                <a:lnTo>
                  <a:pt x="233" y="12"/>
                </a:lnTo>
                <a:lnTo>
                  <a:pt x="262" y="4"/>
                </a:lnTo>
                <a:lnTo>
                  <a:pt x="299" y="0"/>
                </a:lnTo>
                <a:lnTo>
                  <a:pt x="344" y="4"/>
                </a:lnTo>
                <a:lnTo>
                  <a:pt x="384" y="20"/>
                </a:lnTo>
                <a:lnTo>
                  <a:pt x="413" y="45"/>
                </a:lnTo>
                <a:lnTo>
                  <a:pt x="421" y="61"/>
                </a:lnTo>
                <a:lnTo>
                  <a:pt x="425" y="77"/>
                </a:lnTo>
                <a:lnTo>
                  <a:pt x="446" y="73"/>
                </a:lnTo>
                <a:lnTo>
                  <a:pt x="470" y="73"/>
                </a:lnTo>
                <a:lnTo>
                  <a:pt x="515" y="81"/>
                </a:lnTo>
                <a:lnTo>
                  <a:pt x="548" y="98"/>
                </a:lnTo>
                <a:lnTo>
                  <a:pt x="572" y="127"/>
                </a:lnTo>
                <a:lnTo>
                  <a:pt x="576" y="143"/>
                </a:lnTo>
                <a:lnTo>
                  <a:pt x="581" y="159"/>
                </a:lnTo>
                <a:lnTo>
                  <a:pt x="576" y="180"/>
                </a:lnTo>
                <a:lnTo>
                  <a:pt x="568" y="200"/>
                </a:lnTo>
                <a:lnTo>
                  <a:pt x="552" y="217"/>
                </a:lnTo>
                <a:lnTo>
                  <a:pt x="532" y="229"/>
                </a:lnTo>
                <a:lnTo>
                  <a:pt x="532" y="22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53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2600" y="5165640"/>
            <a:ext cx="896400" cy="1116000"/>
            <a:chOff x="282600" y="5165640"/>
            <a:chExt cx="896400" cy="1116000"/>
          </a:xfrm>
        </p:grpSpPr>
        <p:grpSp>
          <p:nvGrpSpPr>
            <p:cNvPr id="241" name=""/>
            <p:cNvGrpSpPr/>
            <p:nvPr/>
          </p:nvGrpSpPr>
          <p:grpSpPr>
            <a:xfrm>
              <a:off x="744480" y="5165640"/>
              <a:ext cx="434520" cy="701640"/>
              <a:chOff x="744480" y="5165640"/>
              <a:chExt cx="434520" cy="701640"/>
            </a:xfrm>
          </p:grpSpPr>
          <p:sp>
            <p:nvSpPr>
              <p:cNvPr id="242" name=""/>
              <p:cNvSpPr/>
              <p:nvPr/>
            </p:nvSpPr>
            <p:spPr>
              <a:xfrm>
                <a:off x="744480" y="5270400"/>
                <a:ext cx="297720" cy="596880"/>
              </a:xfrm>
              <a:custGeom>
                <a:avLst/>
                <a:gdLst/>
                <a:ahLst/>
                <a:rect l="l" t="t" r="r" b="b"/>
                <a:pathLst>
                  <a:path w="188" h="376">
                    <a:moveTo>
                      <a:pt x="188" y="37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188" y="376"/>
                    </a:lnTo>
                    <a:lnTo>
                      <a:pt x="188" y="37"/>
                    </a:lnTo>
                    <a:lnTo>
                      <a:pt x="188" y="37"/>
                    </a:lnTo>
                    <a:close/>
                  </a:path>
                </a:pathLst>
              </a:custGeom>
              <a:solidFill>
                <a:srgbClr val="63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42200" y="5224320"/>
                <a:ext cx="136440" cy="642960"/>
              </a:xfrm>
              <a:custGeom>
                <a:avLst/>
                <a:gdLst/>
                <a:ahLst/>
                <a:rect l="l" t="t" r="r" b="b"/>
                <a:pathLst>
                  <a:path w="86" h="405">
                    <a:moveTo>
                      <a:pt x="0" y="66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5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8a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4480" y="5165640"/>
                <a:ext cx="434520" cy="163440"/>
              </a:xfrm>
              <a:custGeom>
                <a:avLst/>
                <a:gdLst/>
                <a:ahLst/>
                <a:rect l="l" t="t" r="r" b="b"/>
                <a:pathLst>
                  <a:path w="274" h="103">
                    <a:moveTo>
                      <a:pt x="188" y="103"/>
                    </a:moveTo>
                    <a:lnTo>
                      <a:pt x="0" y="66"/>
                    </a:lnTo>
                    <a:lnTo>
                      <a:pt x="86" y="0"/>
                    </a:lnTo>
                    <a:lnTo>
                      <a:pt x="274" y="37"/>
                    </a:lnTo>
                    <a:lnTo>
                      <a:pt x="188" y="103"/>
                    </a:lnTo>
                    <a:lnTo>
                      <a:pt x="188" y="103"/>
                    </a:lnTo>
                    <a:close/>
                  </a:path>
                </a:pathLst>
              </a:custGeom>
              <a:solidFill>
                <a:srgbClr val="c8c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9680" y="5302080"/>
                <a:ext cx="234360" cy="98640"/>
              </a:xfrm>
              <a:custGeom>
                <a:avLst/>
                <a:gdLst/>
                <a:ahLst/>
                <a:rect l="l" t="t" r="r" b="b"/>
                <a:pathLst>
                  <a:path w="148" h="62">
                    <a:moveTo>
                      <a:pt x="148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8" y="62"/>
                    </a:lnTo>
                    <a:lnTo>
                      <a:pt x="148" y="29"/>
                    </a:lnTo>
                    <a:lnTo>
                      <a:pt x="14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22240" y="5361120"/>
                <a:ext cx="303840" cy="331560"/>
              </a:xfrm>
              <a:custGeom>
                <a:avLst/>
                <a:gdLst/>
                <a:ahLst/>
                <a:rect l="l" t="t" r="r" b="b"/>
                <a:pathLst>
                  <a:path w="192" h="209">
                    <a:moveTo>
                      <a:pt x="0" y="176"/>
                    </a:moveTo>
                    <a:lnTo>
                      <a:pt x="135" y="209"/>
                    </a:lnTo>
                    <a:lnTo>
                      <a:pt x="160" y="193"/>
                    </a:lnTo>
                    <a:lnTo>
                      <a:pt x="160" y="21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13840" y="534204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6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0320" y="5438880"/>
                <a:ext cx="4536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7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7"/>
                    </a:lnTo>
                    <a:lnTo>
                      <a:pt x="25" y="25"/>
                    </a:lnTo>
                    <a:lnTo>
                      <a:pt x="16" y="29"/>
                    </a:lnTo>
                    <a:lnTo>
                      <a:pt x="4" y="2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2240" y="5451480"/>
                <a:ext cx="316440" cy="331920"/>
              </a:xfrm>
              <a:custGeom>
                <a:avLst/>
                <a:gdLst/>
                <a:ahLst/>
                <a:rect l="l" t="t" r="r" b="b"/>
                <a:pathLst>
                  <a:path w="200" h="209">
                    <a:moveTo>
                      <a:pt x="0" y="181"/>
                    </a:moveTo>
                    <a:lnTo>
                      <a:pt x="135" y="209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6680" y="57117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7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7"/>
                    </a:lnTo>
                    <a:lnTo>
                      <a:pt x="28" y="29"/>
                    </a:lnTo>
                    <a:lnTo>
                      <a:pt x="16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6680" y="5614920"/>
                <a:ext cx="5184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20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20"/>
                    </a:lnTo>
                    <a:lnTo>
                      <a:pt x="28" y="33"/>
                    </a:lnTo>
                    <a:lnTo>
                      <a:pt x="16" y="37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15880" y="5365440"/>
              <a:ext cx="434520" cy="707760"/>
              <a:chOff x="515880" y="5365440"/>
              <a:chExt cx="434520" cy="707760"/>
            </a:xfrm>
          </p:grpSpPr>
          <p:sp>
            <p:nvSpPr>
              <p:cNvPr id="253" name=""/>
              <p:cNvSpPr/>
              <p:nvPr/>
            </p:nvSpPr>
            <p:spPr>
              <a:xfrm>
                <a:off x="515880" y="5470200"/>
                <a:ext cx="297720" cy="603000"/>
              </a:xfrm>
              <a:custGeom>
                <a:avLst/>
                <a:gdLst/>
                <a:ahLst/>
                <a:rect l="l" t="t" r="r" b="b"/>
                <a:pathLst>
                  <a:path w="188" h="380">
                    <a:moveTo>
                      <a:pt x="188" y="40"/>
                    </a:moveTo>
                    <a:lnTo>
                      <a:pt x="0" y="0"/>
                    </a:lnTo>
                    <a:lnTo>
                      <a:pt x="0" y="339"/>
                    </a:lnTo>
                    <a:lnTo>
                      <a:pt x="188" y="380"/>
                    </a:lnTo>
                    <a:lnTo>
                      <a:pt x="188" y="40"/>
                    </a:lnTo>
                    <a:lnTo>
                      <a:pt x="188" y="40"/>
                    </a:lnTo>
                    <a:close/>
                  </a:path>
                </a:pathLst>
              </a:custGeom>
              <a:solidFill>
                <a:srgbClr val="0655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13600" y="5424120"/>
                <a:ext cx="136440" cy="649080"/>
              </a:xfrm>
              <a:custGeom>
                <a:avLst/>
                <a:gdLst/>
                <a:ahLst/>
                <a:rect l="l" t="t" r="r" b="b"/>
                <a:pathLst>
                  <a:path w="86" h="409">
                    <a:moveTo>
                      <a:pt x="0" y="69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9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769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5880" y="5365440"/>
                <a:ext cx="434520" cy="168120"/>
              </a:xfrm>
              <a:custGeom>
                <a:avLst/>
                <a:gdLst/>
                <a:ahLst/>
                <a:rect l="l" t="t" r="r" b="b"/>
                <a:pathLst>
                  <a:path w="274" h="106">
                    <a:moveTo>
                      <a:pt x="188" y="106"/>
                    </a:moveTo>
                    <a:lnTo>
                      <a:pt x="0" y="66"/>
                    </a:lnTo>
                    <a:lnTo>
                      <a:pt x="86" y="0"/>
                    </a:lnTo>
                    <a:lnTo>
                      <a:pt x="274" y="37"/>
                    </a:lnTo>
                    <a:lnTo>
                      <a:pt x="188" y="106"/>
                    </a:lnTo>
                    <a:lnTo>
                      <a:pt x="188" y="106"/>
                    </a:lnTo>
                    <a:close/>
                  </a:path>
                </a:pathLst>
              </a:custGeom>
              <a:solidFill>
                <a:srgbClr val="abc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1080" y="5508360"/>
                <a:ext cx="234360" cy="98280"/>
              </a:xfrm>
              <a:custGeom>
                <a:avLst/>
                <a:gdLst/>
                <a:ahLst/>
                <a:rect l="l" t="t" r="r" b="b"/>
                <a:pathLst>
                  <a:path w="148" h="62">
                    <a:moveTo>
                      <a:pt x="148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8" y="62"/>
                    </a:lnTo>
                    <a:lnTo>
                      <a:pt x="148" y="29"/>
                    </a:lnTo>
                    <a:lnTo>
                      <a:pt x="148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3640" y="5567040"/>
                <a:ext cx="303840" cy="325440"/>
              </a:xfrm>
              <a:custGeom>
                <a:avLst/>
                <a:gdLst/>
                <a:ahLst/>
                <a:rect l="l" t="t" r="r" b="b"/>
                <a:pathLst>
                  <a:path w="192" h="205">
                    <a:moveTo>
                      <a:pt x="0" y="176"/>
                    </a:moveTo>
                    <a:lnTo>
                      <a:pt x="135" y="205"/>
                    </a:lnTo>
                    <a:lnTo>
                      <a:pt x="160" y="192"/>
                    </a:lnTo>
                    <a:lnTo>
                      <a:pt x="160" y="20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5240" y="554796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6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91720" y="5644800"/>
                <a:ext cx="4536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29" y="16"/>
                    </a:lnTo>
                    <a:lnTo>
                      <a:pt x="25" y="25"/>
                    </a:lnTo>
                    <a:lnTo>
                      <a:pt x="16" y="29"/>
                    </a:lnTo>
                    <a:lnTo>
                      <a:pt x="4" y="25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3640" y="5650920"/>
                <a:ext cx="316440" cy="338400"/>
              </a:xfrm>
              <a:custGeom>
                <a:avLst/>
                <a:gdLst/>
                <a:ahLst/>
                <a:rect l="l" t="t" r="r" b="b"/>
                <a:pathLst>
                  <a:path w="200" h="213">
                    <a:moveTo>
                      <a:pt x="0" y="184"/>
                    </a:moveTo>
                    <a:lnTo>
                      <a:pt x="135" y="213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8080" y="59176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9"/>
                    </a:lnTo>
                    <a:lnTo>
                      <a:pt x="16" y="33"/>
                    </a:lnTo>
                    <a:lnTo>
                      <a:pt x="4" y="29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68080" y="5820840"/>
                <a:ext cx="5184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16"/>
                    </a:moveTo>
                    <a:lnTo>
                      <a:pt x="4" y="4"/>
                    </a:lnTo>
                    <a:lnTo>
                      <a:pt x="16" y="0"/>
                    </a:lnTo>
                    <a:lnTo>
                      <a:pt x="28" y="4"/>
                    </a:lnTo>
                    <a:lnTo>
                      <a:pt x="33" y="16"/>
                    </a:lnTo>
                    <a:lnTo>
                      <a:pt x="28" y="28"/>
                    </a:lnTo>
                    <a:lnTo>
                      <a:pt x="16" y="32"/>
                    </a:lnTo>
                    <a:lnTo>
                      <a:pt x="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82600" y="5580000"/>
              <a:ext cx="441000" cy="701640"/>
              <a:chOff x="282600" y="5580000"/>
              <a:chExt cx="441000" cy="70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282600" y="5684760"/>
                <a:ext cx="304560" cy="596880"/>
              </a:xfrm>
              <a:custGeom>
                <a:avLst/>
                <a:gdLst/>
                <a:ahLst/>
                <a:rect l="l" t="t" r="r" b="b"/>
                <a:pathLst>
                  <a:path w="192" h="376">
                    <a:moveTo>
                      <a:pt x="192" y="37"/>
                    </a:moveTo>
                    <a:lnTo>
                      <a:pt x="0" y="0"/>
                    </a:lnTo>
                    <a:lnTo>
                      <a:pt x="0" y="340"/>
                    </a:lnTo>
                    <a:lnTo>
                      <a:pt x="192" y="376"/>
                    </a:lnTo>
                    <a:lnTo>
                      <a:pt x="192" y="37"/>
                    </a:lnTo>
                    <a:lnTo>
                      <a:pt x="192" y="37"/>
                    </a:lnTo>
                    <a:close/>
                  </a:path>
                </a:pathLst>
              </a:custGeom>
              <a:solidFill>
                <a:srgbClr val="6a9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7160" y="5638680"/>
                <a:ext cx="136440" cy="642960"/>
              </a:xfrm>
              <a:custGeom>
                <a:avLst/>
                <a:gdLst/>
                <a:ahLst/>
                <a:rect l="l" t="t" r="r" b="b"/>
                <a:pathLst>
                  <a:path w="86" h="405">
                    <a:moveTo>
                      <a:pt x="0" y="66"/>
                    </a:moveTo>
                    <a:lnTo>
                      <a:pt x="86" y="0"/>
                    </a:lnTo>
                    <a:lnTo>
                      <a:pt x="86" y="340"/>
                    </a:lnTo>
                    <a:lnTo>
                      <a:pt x="0" y="405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dc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600" y="5580000"/>
                <a:ext cx="441000" cy="163440"/>
              </a:xfrm>
              <a:custGeom>
                <a:avLst/>
                <a:gdLst/>
                <a:ahLst/>
                <a:rect l="l" t="t" r="r" b="b"/>
                <a:pathLst>
                  <a:path w="278" h="103">
                    <a:moveTo>
                      <a:pt x="192" y="103"/>
                    </a:moveTo>
                    <a:lnTo>
                      <a:pt x="0" y="66"/>
                    </a:lnTo>
                    <a:lnTo>
                      <a:pt x="90" y="0"/>
                    </a:lnTo>
                    <a:lnTo>
                      <a:pt x="278" y="37"/>
                    </a:lnTo>
                    <a:lnTo>
                      <a:pt x="192" y="103"/>
                    </a:lnTo>
                    <a:lnTo>
                      <a:pt x="192" y="103"/>
                    </a:lnTo>
                    <a:close/>
                  </a:path>
                </a:pathLst>
              </a:custGeom>
              <a:solidFill>
                <a:srgbClr val="ccd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720" y="5716440"/>
                <a:ext cx="233280" cy="9864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147" y="2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147" y="62"/>
                    </a:lnTo>
                    <a:lnTo>
                      <a:pt x="147" y="29"/>
                    </a:lnTo>
                    <a:lnTo>
                      <a:pt x="14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8280" y="5775480"/>
                <a:ext cx="304560" cy="331560"/>
              </a:xfrm>
              <a:custGeom>
                <a:avLst/>
                <a:gdLst/>
                <a:ahLst/>
                <a:rect l="l" t="t" r="r" b="b"/>
                <a:pathLst>
                  <a:path w="192" h="209">
                    <a:moveTo>
                      <a:pt x="0" y="176"/>
                    </a:moveTo>
                    <a:lnTo>
                      <a:pt x="134" y="209"/>
                    </a:lnTo>
                    <a:lnTo>
                      <a:pt x="159" y="193"/>
                    </a:lnTo>
                    <a:lnTo>
                      <a:pt x="159" y="21"/>
                    </a:lnTo>
                    <a:lnTo>
                      <a:pt x="192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8800" y="575640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12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5" y="4"/>
                    </a:lnTo>
                    <a:lnTo>
                      <a:pt x="29" y="12"/>
                    </a:lnTo>
                    <a:lnTo>
                      <a:pt x="25" y="24"/>
                    </a:lnTo>
                    <a:lnTo>
                      <a:pt x="17" y="28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4920" y="5853240"/>
                <a:ext cx="4608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7"/>
                    </a:moveTo>
                    <a:lnTo>
                      <a:pt x="5" y="4"/>
                    </a:lnTo>
                    <a:lnTo>
                      <a:pt x="17" y="0"/>
                    </a:lnTo>
                    <a:lnTo>
                      <a:pt x="25" y="4"/>
                    </a:lnTo>
                    <a:lnTo>
                      <a:pt x="29" y="17"/>
                    </a:lnTo>
                    <a:lnTo>
                      <a:pt x="25" y="25"/>
                    </a:lnTo>
                    <a:lnTo>
                      <a:pt x="17" y="29"/>
                    </a:lnTo>
                    <a:lnTo>
                      <a:pt x="5" y="2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8280" y="5865840"/>
                <a:ext cx="317520" cy="331920"/>
              </a:xfrm>
              <a:custGeom>
                <a:avLst/>
                <a:gdLst/>
                <a:ahLst/>
                <a:rect l="l" t="t" r="r" b="b"/>
                <a:pathLst>
                  <a:path w="200" h="209">
                    <a:moveTo>
                      <a:pt x="0" y="181"/>
                    </a:moveTo>
                    <a:lnTo>
                      <a:pt x="134" y="209"/>
                    </a:lnTo>
                    <a:lnTo>
                      <a:pt x="200" y="168"/>
                    </a:lnTo>
                    <a:lnTo>
                      <a:pt x="200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1280" y="61261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17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9" y="4"/>
                    </a:lnTo>
                    <a:lnTo>
                      <a:pt x="33" y="17"/>
                    </a:lnTo>
                    <a:lnTo>
                      <a:pt x="29" y="29"/>
                    </a:lnTo>
                    <a:lnTo>
                      <a:pt x="17" y="33"/>
                    </a:lnTo>
                    <a:lnTo>
                      <a:pt x="4" y="2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1280" y="602928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20"/>
                    </a:moveTo>
                    <a:lnTo>
                      <a:pt x="4" y="4"/>
                    </a:lnTo>
                    <a:lnTo>
                      <a:pt x="17" y="0"/>
                    </a:lnTo>
                    <a:lnTo>
                      <a:pt x="29" y="4"/>
                    </a:lnTo>
                    <a:lnTo>
                      <a:pt x="33" y="20"/>
                    </a:lnTo>
                    <a:lnTo>
                      <a:pt x="29" y="33"/>
                    </a:lnTo>
                    <a:lnTo>
                      <a:pt x="17" y="37"/>
                    </a:lnTo>
                    <a:lnTo>
                      <a:pt x="4" y="3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192320" y="5276880"/>
            <a:ext cx="604800" cy="368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flipV="1">
            <a:off x="2238480" y="3601800"/>
            <a:ext cx="2960640" cy="13777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7640" y="3282840"/>
            <a:ext cx="2351160" cy="13780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08160" y="3659040"/>
            <a:ext cx="2235240" cy="987480"/>
          </a:xfrm>
          <a:custGeom>
            <a:avLst/>
            <a:gdLst/>
            <a:ahLst/>
            <a:rect l="l" t="t" r="r" b="b"/>
            <a:pathLst>
              <a:path w="1408" h="622">
                <a:moveTo>
                  <a:pt x="173" y="19"/>
                </a:moveTo>
                <a:lnTo>
                  <a:pt x="0" y="595"/>
                </a:lnTo>
                <a:lnTo>
                  <a:pt x="1261" y="622"/>
                </a:lnTo>
                <a:lnTo>
                  <a:pt x="1408" y="0"/>
                </a:lnTo>
                <a:lnTo>
                  <a:pt x="173" y="19"/>
                </a:lnTo>
                <a:close/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286240" y="3412800"/>
            <a:ext cx="1103400" cy="174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54760" y="4660920"/>
            <a:ext cx="1015920" cy="2476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149560" y="2970360"/>
            <a:ext cx="604800" cy="368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3083040" y="348444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5997600" y="3214800"/>
            <a:ext cx="604800" cy="368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773680" y="4657680"/>
            <a:ext cx="604800" cy="368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1844640" y="4871880"/>
            <a:ext cx="604800" cy="368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2760840" y="4471920"/>
            <a:ext cx="510840" cy="311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4735440" y="448452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4954680" y="3498840"/>
            <a:ext cx="511200" cy="311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3881520" y="3954600"/>
            <a:ext cx="51120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232760" y="5370480"/>
            <a:ext cx="8254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tack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7680" y="4597560"/>
            <a:ext cx="3716280" cy="973080"/>
          </a:xfrm>
          <a:custGeom>
            <a:avLst/>
            <a:gdLst/>
            <a:ahLst/>
            <a:rect l="l" t="t" r="r" b="b"/>
            <a:pathLst>
              <a:path w="2341" h="613">
                <a:moveTo>
                  <a:pt x="0" y="613"/>
                </a:moveTo>
                <a:cubicBezTo>
                  <a:pt x="12" y="610"/>
                  <a:pt x="26" y="609"/>
                  <a:pt x="37" y="603"/>
                </a:cubicBezTo>
                <a:cubicBezTo>
                  <a:pt x="48" y="597"/>
                  <a:pt x="64" y="576"/>
                  <a:pt x="64" y="576"/>
                </a:cubicBezTo>
                <a:lnTo>
                  <a:pt x="659" y="229"/>
                </a:lnTo>
                <a:lnTo>
                  <a:pt x="1189" y="0"/>
                </a:lnTo>
                <a:lnTo>
                  <a:pt x="2341" y="18"/>
                </a:lnTo>
              </a:path>
            </a:pathLst>
          </a:custGeom>
          <a:noFill/>
          <a:ln w="1015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1720" y="2957400"/>
            <a:ext cx="2468520" cy="1800360"/>
          </a:xfrm>
          <a:custGeom>
            <a:avLst/>
            <a:gdLst/>
            <a:ahLst/>
            <a:rect l="l" t="t" r="r" b="b"/>
            <a:pathLst>
              <a:path w="1555" h="1134">
                <a:moveTo>
                  <a:pt x="1555" y="0"/>
                </a:moveTo>
                <a:lnTo>
                  <a:pt x="1226" y="100"/>
                </a:lnTo>
                <a:lnTo>
                  <a:pt x="778" y="265"/>
                </a:lnTo>
                <a:lnTo>
                  <a:pt x="0" y="430"/>
                </a:lnTo>
                <a:lnTo>
                  <a:pt x="567" y="1134"/>
                </a:lnTo>
              </a:path>
            </a:pathLst>
          </a:custGeom>
          <a:noFill/>
          <a:ln w="1015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3640" y="1554840"/>
            <a:ext cx="1060200" cy="1058760"/>
            <a:chOff x="503640" y="1554840"/>
            <a:chExt cx="1060200" cy="1058760"/>
          </a:xfrm>
        </p:grpSpPr>
        <p:sp>
          <p:nvSpPr>
            <p:cNvPr id="293" name=""/>
            <p:cNvSpPr txBox="1"/>
            <p:nvPr/>
          </p:nvSpPr>
          <p:spPr>
            <a:xfrm rot="501600">
              <a:off x="1184400" y="157788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 rot="501600">
              <a:off x="838440" y="182844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 rot="501600">
              <a:off x="533520" y="215244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40040" y="4820400"/>
            <a:ext cx="1060200" cy="1058760"/>
            <a:chOff x="140040" y="4820400"/>
            <a:chExt cx="1060200" cy="1058760"/>
          </a:xfrm>
        </p:grpSpPr>
        <p:sp>
          <p:nvSpPr>
            <p:cNvPr id="297" name=""/>
            <p:cNvSpPr txBox="1"/>
            <p:nvPr/>
          </p:nvSpPr>
          <p:spPr>
            <a:xfrm rot="501600">
              <a:off x="820800" y="484344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 rot="501600">
              <a:off x="474840" y="509400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501600">
              <a:off x="169920" y="541800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25120" y="1588320"/>
            <a:ext cx="1060200" cy="1058760"/>
            <a:chOff x="7125120" y="1588320"/>
            <a:chExt cx="1060200" cy="1058760"/>
          </a:xfrm>
        </p:grpSpPr>
        <p:sp>
          <p:nvSpPr>
            <p:cNvPr id="301" name=""/>
            <p:cNvSpPr txBox="1"/>
            <p:nvPr/>
          </p:nvSpPr>
          <p:spPr>
            <a:xfrm rot="501600">
              <a:off x="7805880" y="161136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 rot="501600">
              <a:off x="7459920" y="186192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501600">
              <a:off x="7155000" y="2185920"/>
              <a:ext cx="34920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Z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954160" y="1197000"/>
            <a:ext cx="291204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Attack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ombi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Use valid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Spoof source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Massively distrib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Variety of 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 rot="501600">
            <a:off x="4191120" y="1165320"/>
            <a:ext cx="3492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Z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/>
          <p:nvPr/>
        </p:nvSpPr>
        <p:spPr>
          <a:xfrm>
            <a:off x="5587920" y="5813280"/>
            <a:ext cx="3078360" cy="67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ntire data cen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rvers, security devices, 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E-commerce, web, DNS, email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91240" y="3800520"/>
            <a:ext cx="2338560" cy="489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ovider infrastruc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DNS, routers and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735520" y="3903480"/>
            <a:ext cx="857520" cy="1602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67360" y="5383080"/>
            <a:ext cx="1220760" cy="307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cces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400720" y="5312880"/>
            <a:ext cx="1174680" cy="18900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826400" y="5575320"/>
            <a:ext cx="144360" cy="23184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830240" y="1481040"/>
            <a:ext cx="1306800" cy="52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676840" y="1465200"/>
            <a:ext cx="1436760" cy="56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302160" y="3757320"/>
            <a:ext cx="290520" cy="29052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300720" y="4078440"/>
            <a:ext cx="27792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81040" y="2540160"/>
            <a:ext cx="6181920" cy="2728800"/>
          </a:xfrm>
          <a:custGeom>
            <a:avLst/>
            <a:gdLst/>
            <a:ahLst/>
            <a:rect l="l" t="t" r="r" b="b"/>
            <a:pathLst>
              <a:path w="3894" h="1719">
                <a:moveTo>
                  <a:pt x="0" y="0"/>
                </a:moveTo>
                <a:lnTo>
                  <a:pt x="722" y="421"/>
                </a:lnTo>
                <a:lnTo>
                  <a:pt x="1234" y="704"/>
                </a:lnTo>
                <a:lnTo>
                  <a:pt x="1755" y="987"/>
                </a:lnTo>
                <a:lnTo>
                  <a:pt x="2230" y="1326"/>
                </a:lnTo>
                <a:lnTo>
                  <a:pt x="3081" y="1509"/>
                </a:lnTo>
                <a:lnTo>
                  <a:pt x="3666" y="1710"/>
                </a:lnTo>
                <a:lnTo>
                  <a:pt x="3894" y="1719"/>
                </a:lnTo>
              </a:path>
            </a:pathLst>
          </a:custGeom>
          <a:noFill/>
          <a:ln w="1015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1" name=""/>
          <p:cNvGrpSpPr/>
          <p:nvPr/>
        </p:nvGrpSpPr>
        <p:grpSpPr>
          <a:xfrm>
            <a:off x="1100160" y="1270080"/>
            <a:ext cx="3655800" cy="4856040"/>
            <a:chOff x="1100160" y="1270080"/>
            <a:chExt cx="3655800" cy="4856040"/>
          </a:xfrm>
        </p:grpSpPr>
        <p:sp>
          <p:nvSpPr>
            <p:cNvPr id="1392" name=""/>
            <p:cNvSpPr/>
            <p:nvPr/>
          </p:nvSpPr>
          <p:spPr>
            <a:xfrm>
              <a:off x="1222200" y="1344600"/>
              <a:ext cx="1214640" cy="3494160"/>
            </a:xfrm>
            <a:custGeom>
              <a:avLst/>
              <a:gdLst/>
              <a:ahLst/>
              <a:rect l="l" t="t" r="r" b="b"/>
              <a:pathLst>
                <a:path w="824" h="1824">
                  <a:moveTo>
                    <a:pt x="0" y="0"/>
                  </a:moveTo>
                  <a:cubicBezTo>
                    <a:pt x="404" y="184"/>
                    <a:pt x="808" y="368"/>
                    <a:pt x="816" y="672"/>
                  </a:cubicBezTo>
                  <a:cubicBezTo>
                    <a:pt x="824" y="976"/>
                    <a:pt x="436" y="1400"/>
                    <a:pt x="48" y="1824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390760" y="1341360"/>
              <a:ext cx="1535040" cy="3187800"/>
            </a:xfrm>
            <a:custGeom>
              <a:avLst/>
              <a:gdLst/>
              <a:ahLst/>
              <a:rect l="l" t="t" r="r" b="b"/>
              <a:pathLst>
                <a:path w="640" h="1728">
                  <a:moveTo>
                    <a:pt x="640" y="0"/>
                  </a:moveTo>
                  <a:cubicBezTo>
                    <a:pt x="336" y="168"/>
                    <a:pt x="32" y="336"/>
                    <a:pt x="16" y="624"/>
                  </a:cubicBezTo>
                  <a:cubicBezTo>
                    <a:pt x="0" y="912"/>
                    <a:pt x="272" y="1320"/>
                    <a:pt x="544" y="1728"/>
                  </a:cubicBezTo>
                </a:path>
              </a:pathLst>
            </a:custGeom>
            <a:noFill/>
            <a:ln w="12708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16320" y="1270080"/>
              <a:ext cx="1440" cy="3500280"/>
            </a:xfrm>
            <a:prstGeom prst="line">
              <a:avLst/>
            </a:prstGeom>
            <a:ln w="127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1100160" y="4836960"/>
              <a:ext cx="695160" cy="909720"/>
              <a:chOff x="1100160" y="4836960"/>
              <a:chExt cx="695160" cy="909720"/>
            </a:xfrm>
          </p:grpSpPr>
          <p:pic>
            <p:nvPicPr>
              <p:cNvPr id="13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7040" y="48369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3600" y="49957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0160" y="51544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9" name=""/>
            <p:cNvGrpSpPr/>
            <p:nvPr/>
          </p:nvGrpSpPr>
          <p:grpSpPr>
            <a:xfrm>
              <a:off x="2266920" y="4954680"/>
              <a:ext cx="695160" cy="909720"/>
              <a:chOff x="2266920" y="4954680"/>
              <a:chExt cx="695160" cy="909720"/>
            </a:xfrm>
          </p:grpSpPr>
          <p:pic>
            <p:nvPicPr>
              <p:cNvPr id="14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3800" y="495468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0360" y="511344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6920" y="52722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3" name=""/>
            <p:cNvGrpSpPr/>
            <p:nvPr/>
          </p:nvGrpSpPr>
          <p:grpSpPr>
            <a:xfrm>
              <a:off x="4060800" y="5216400"/>
              <a:ext cx="695160" cy="909720"/>
              <a:chOff x="4060800" y="5216400"/>
              <a:chExt cx="695160" cy="909720"/>
            </a:xfrm>
          </p:grpSpPr>
          <p:pic>
            <p:nvPicPr>
              <p:cNvPr id="14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7680" y="521640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24240" y="537516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5533920"/>
                <a:ext cx="36828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07" name=""/>
          <p:cNvSpPr/>
          <p:nvPr/>
        </p:nvSpPr>
        <p:spPr>
          <a:xfrm>
            <a:off x="2300400" y="2776680"/>
            <a:ext cx="2350800" cy="1440"/>
          </a:xfrm>
          <a:prstGeom prst="line">
            <a:avLst/>
          </a:prstGeom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4920" bIns="-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" descr=""/>
          <p:cNvPicPr/>
          <p:nvPr/>
        </p:nvPicPr>
        <p:blipFill>
          <a:blip r:embed="rId10"/>
          <a:stretch/>
        </p:blipFill>
        <p:spPr>
          <a:xfrm>
            <a:off x="1920960" y="2465280"/>
            <a:ext cx="971640" cy="57168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dentifying and Dropping only DDoS Traffic/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3736800" y="5013360"/>
            <a:ext cx="378000" cy="315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84" y="0"/>
                  <a:pt x="192" y="312"/>
                  <a:pt x="0" y="624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3685320" y="4965840"/>
            <a:ext cx="119160" cy="52056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480" y="0"/>
                </a:moveTo>
                <a:cubicBezTo>
                  <a:pt x="480" y="0"/>
                  <a:pt x="240" y="264"/>
                  <a:pt x="0" y="528"/>
                </a:cubicBezTo>
              </a:path>
            </a:pathLst>
          </a:custGeom>
          <a:noFill/>
          <a:ln w="5724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11"/>
          <a:stretch/>
        </p:blipFill>
        <p:spPr>
          <a:xfrm>
            <a:off x="3316320" y="4714920"/>
            <a:ext cx="630360" cy="37620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603360" y="577836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1: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060640" y="5875200"/>
            <a:ext cx="1816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one 2: Name Serv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979800" y="6157800"/>
            <a:ext cx="28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ed Zone 3: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Commerce Appl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rot="20364000">
            <a:off x="3638160" y="5136840"/>
            <a:ext cx="455760" cy="139680"/>
          </a:xfrm>
          <a:prstGeom prst="ellipse">
            <a:avLst/>
          </a:prstGeom>
          <a:noFill/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776760" y="4605480"/>
            <a:ext cx="530280" cy="514080"/>
          </a:xfrm>
          <a:custGeom>
            <a:avLst/>
            <a:gdLst/>
            <a:ahLst/>
            <a:rect l="l" t="t" r="r" b="b"/>
            <a:pathLst>
              <a:path w="366" h="516">
                <a:moveTo>
                  <a:pt x="0" y="516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99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2"/>
          <a:stretch/>
        </p:blipFill>
        <p:spPr>
          <a:xfrm>
            <a:off x="4240080" y="2355840"/>
            <a:ext cx="1379520" cy="74772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>
            <a:off x="5378400" y="4175280"/>
            <a:ext cx="31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Traffic Anomaly Detecto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684760" y="2432160"/>
            <a:ext cx="1955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 Anomaly Guard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07200" y="4978440"/>
            <a:ext cx="1320480" cy="368280"/>
          </a:xfrm>
          <a:prstGeom prst="rect">
            <a:avLst/>
          </a:prstGeom>
          <a:solidFill>
            <a:srgbClr val="b9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052960" y="55897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064120" y="3836880"/>
            <a:ext cx="2835360" cy="3682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Activate: Auto/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10040" y="3020760"/>
            <a:ext cx="0" cy="1447560"/>
          </a:xfrm>
          <a:prstGeom prst="line">
            <a:avLst/>
          </a:prstGeom>
          <a:ln cap="rnd" w="38160">
            <a:solidFill>
              <a:srgbClr val="99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13"/>
          <a:stretch/>
        </p:blipFill>
        <p:spPr>
          <a:xfrm>
            <a:off x="4221000" y="4245120"/>
            <a:ext cx="1055880" cy="6760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6141960" y="1700280"/>
            <a:ext cx="2162160" cy="642600"/>
          </a:xfrm>
          <a:prstGeom prst="rect">
            <a:avLst/>
          </a:prstGeom>
          <a:solidFill>
            <a:srgbClr val="eeb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Divert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’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30680" y="1422360"/>
            <a:ext cx="2346120" cy="60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Identify and filter malici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293920" y="2457360"/>
            <a:ext cx="2341440" cy="239760"/>
          </a:xfrm>
          <a:custGeom>
            <a:avLst/>
            <a:gdLst/>
            <a:ahLst/>
            <a:rect l="l" t="t" r="r" b="b"/>
            <a:pathLst>
              <a:path w="1475" h="95">
                <a:moveTo>
                  <a:pt x="67" y="0"/>
                </a:moveTo>
                <a:cubicBezTo>
                  <a:pt x="95" y="13"/>
                  <a:pt x="0" y="65"/>
                  <a:pt x="235" y="80"/>
                </a:cubicBezTo>
                <a:cubicBezTo>
                  <a:pt x="470" y="95"/>
                  <a:pt x="1217" y="86"/>
                  <a:pt x="1475" y="88"/>
                </a:cubicBezTo>
              </a:path>
            </a:pathLst>
          </a:custGeom>
          <a:noFill/>
          <a:ln w="76320">
            <a:solidFill>
              <a:srgbClr val="b92b3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495520" y="211932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ffic Dest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406600" y="1233360"/>
            <a:ext cx="0" cy="1343160"/>
          </a:xfrm>
          <a:prstGeom prst="line">
            <a:avLst/>
          </a:prstGeom>
          <a:ln w="7632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859200" y="5160960"/>
            <a:ext cx="1163520" cy="993600"/>
          </a:xfrm>
          <a:prstGeom prst="ellipse">
            <a:avLst/>
          </a:prstGeom>
          <a:noFill/>
          <a:ln w="76320">
            <a:solidFill>
              <a:srgbClr val="306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687760" y="294336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6774"/>
                </a:solidFill>
                <a:latin typeface="Arial"/>
              </a:rPr>
              <a:t>Legitimate Traffic to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332080" y="2860560"/>
            <a:ext cx="2190600" cy="2273400"/>
          </a:xfrm>
          <a:custGeom>
            <a:avLst/>
            <a:gdLst/>
            <a:ahLst/>
            <a:rect l="l" t="t" r="r" b="b"/>
            <a:pathLst>
              <a:path w="1380" h="1432">
                <a:moveTo>
                  <a:pt x="1380" y="21"/>
                </a:moveTo>
                <a:cubicBezTo>
                  <a:pt x="1190" y="24"/>
                  <a:pt x="467" y="0"/>
                  <a:pt x="241" y="33"/>
                </a:cubicBezTo>
                <a:cubicBezTo>
                  <a:pt x="15" y="66"/>
                  <a:pt x="36" y="119"/>
                  <a:pt x="22" y="220"/>
                </a:cubicBezTo>
                <a:cubicBezTo>
                  <a:pt x="7" y="321"/>
                  <a:pt x="0" y="437"/>
                  <a:pt x="153" y="639"/>
                </a:cubicBezTo>
                <a:cubicBezTo>
                  <a:pt x="306" y="841"/>
                  <a:pt x="624" y="1137"/>
                  <a:pt x="941" y="1432"/>
                </a:cubicBezTo>
              </a:path>
            </a:pathLst>
          </a:custGeom>
          <a:noFill/>
          <a:ln w="76320">
            <a:solidFill>
              <a:srgbClr val="30677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3000" y="5657760"/>
            <a:ext cx="2582640" cy="64260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5. Forward legitimat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1905120" y="3669480"/>
            <a:ext cx="314280" cy="492120"/>
          </a:xfrm>
          <a:custGeom>
            <a:avLst/>
            <a:gdLst/>
            <a:ahLst/>
            <a:rect l="l" t="t" r="r" b="b"/>
            <a:pathLst>
              <a:path w="599" h="645">
                <a:moveTo>
                  <a:pt x="0" y="645"/>
                </a:moveTo>
                <a:lnTo>
                  <a:pt x="599" y="0"/>
                </a:lnTo>
              </a:path>
            </a:pathLst>
          </a:custGeom>
          <a:solidFill>
            <a:srgbClr val="4a92d4"/>
          </a:solidFill>
          <a:ln w="57240">
            <a:solidFill>
              <a:srgbClr val="4a92d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14320" y="2336760"/>
            <a:ext cx="1193760" cy="1413000"/>
          </a:xfrm>
          <a:prstGeom prst="rect">
            <a:avLst/>
          </a:prstGeom>
          <a:solidFill>
            <a:srgbClr val="4b8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. Non-targeted traffic flow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400" y="1384200"/>
            <a:ext cx="1604880" cy="3665520"/>
          </a:xfrm>
          <a:custGeom>
            <a:avLst/>
            <a:gdLst/>
            <a:ahLst/>
            <a:rect l="l" t="t" r="r" b="b"/>
            <a:pathLst>
              <a:path w="1000" h="2408">
                <a:moveTo>
                  <a:pt x="0" y="0"/>
                </a:moveTo>
                <a:cubicBezTo>
                  <a:pt x="104" y="53"/>
                  <a:pt x="475" y="216"/>
                  <a:pt x="624" y="320"/>
                </a:cubicBezTo>
                <a:cubicBezTo>
                  <a:pt x="773" y="424"/>
                  <a:pt x="841" y="468"/>
                  <a:pt x="896" y="624"/>
                </a:cubicBezTo>
                <a:cubicBezTo>
                  <a:pt x="951" y="780"/>
                  <a:pt x="943" y="999"/>
                  <a:pt x="952" y="1256"/>
                </a:cubicBezTo>
                <a:cubicBezTo>
                  <a:pt x="961" y="1513"/>
                  <a:pt x="944" y="1976"/>
                  <a:pt x="952" y="2168"/>
                </a:cubicBezTo>
                <a:cubicBezTo>
                  <a:pt x="960" y="2360"/>
                  <a:pt x="980" y="2384"/>
                  <a:pt x="1000" y="2408"/>
                </a:cubicBezTo>
              </a:path>
            </a:pathLst>
          </a:custGeom>
          <a:noFill/>
          <a:ln w="174600">
            <a:solidFill>
              <a:srgbClr val="4b87c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5335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8547120" y="3581280"/>
            <a:ext cx="442800" cy="952560"/>
            <a:chOff x="8547120" y="3581280"/>
            <a:chExt cx="442800" cy="952560"/>
          </a:xfrm>
        </p:grpSpPr>
        <p:sp>
          <p:nvSpPr>
            <p:cNvPr id="1440" name=""/>
            <p:cNvSpPr/>
            <p:nvPr/>
          </p:nvSpPr>
          <p:spPr>
            <a:xfrm>
              <a:off x="8553240" y="4124160"/>
              <a:ext cx="435240" cy="7164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548560" y="44607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547120" y="3581280"/>
              <a:ext cx="43488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556480" y="369252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548560" y="43401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550000" y="393372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556480" y="38163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553240" y="423540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 rot="16200000">
            <a:off x="6867720" y="3713040"/>
            <a:ext cx="2838240" cy="727200"/>
          </a:xfrm>
          <a:custGeom>
            <a:avLst/>
            <a:gdLst>
              <a:gd name="textAreaLeft" fmla="*/ 704160 w 2838240"/>
              <a:gd name="textAreaRight" fmla="*/ 2134080 w 2838240"/>
              <a:gd name="textAreaTop" fmla="*/ 180360 h 727200"/>
              <a:gd name="textAreaBottom" fmla="*/ 54684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104" y="21600"/>
                </a:lnTo>
                <a:lnTo>
                  <a:pt x="6496" y="21600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457200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4480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14800" y="52768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27520" y="249552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343400" y="28764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86320" y="5181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97980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702320" y="3486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2372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397400" y="25718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90384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132440" y="30765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960720" y="465768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34340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361040" y="32670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609588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19920" y="2914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867280" y="42861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7913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3219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019920" y="41338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43600" y="4591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4864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450040" y="3067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678640" y="3448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45004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6023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90724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9718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1460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533680" y="27432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743200" y="24573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971800" y="40194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9718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51460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152880" y="46101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20040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638440" y="294336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590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666880" y="53532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59092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038400" y="52387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971800" y="5448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743200" y="4495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0481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886120" y="2600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562120" y="386712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666880" y="46674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16002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8580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676520" y="4340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752480" y="31971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295280" y="44164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143000" y="48769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3120" y="36385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19320" y="4568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21932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990720" y="3502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19320" y="3730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990720" y="50259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143000" y="4264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09480" y="46450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143000" y="3349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71600" y="46832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371600" y="3371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295280" y="3616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219320" y="39974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143000" y="4454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066680" y="41878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19320" y="3828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258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47800" y="3968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219320" y="4302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103400" y="4724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973920" y="3298680"/>
            <a:ext cx="796680" cy="1299960"/>
            <a:chOff x="6973920" y="3298680"/>
            <a:chExt cx="796680" cy="1299960"/>
          </a:xfrm>
        </p:grpSpPr>
        <p:sp>
          <p:nvSpPr>
            <p:cNvPr id="1524" name=""/>
            <p:cNvSpPr/>
            <p:nvPr/>
          </p:nvSpPr>
          <p:spPr>
            <a:xfrm>
              <a:off x="7298280" y="415872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36080" y="432432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25560" y="329868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973920" y="344340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191000" y="36093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080840" y="452664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118640" y="39927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080840" y="379044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3111480" y="5735520"/>
            <a:ext cx="1162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ctiv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518000" y="5745240"/>
            <a:ext cx="156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Statis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315120" y="5743440"/>
            <a:ext cx="1049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Lay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2920" y="5742000"/>
            <a:ext cx="177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Rate Lim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38080" y="22035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33520" y="23814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066680" y="2419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219320" y="23050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62120" y="2314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62120" y="2476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33520" y="21654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300672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143000" y="2971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04920" y="3159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85800" y="38736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447920" y="3882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57200" y="3930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" y="44164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8478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00080" y="5257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573200" y="5315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30500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81000" y="155520"/>
            <a:ext cx="6039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Verification Process (MV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grated Defenses in the Guard 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454800" y="18288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00160" y="3349800"/>
            <a:ext cx="8737560" cy="1374480"/>
          </a:xfrm>
          <a:prstGeom prst="rightArrow">
            <a:avLst>
              <a:gd name="adj1" fmla="val 56139"/>
              <a:gd name="adj2" fmla="val 40997"/>
            </a:avLst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egitimate + attack traffic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523880" y="5673600"/>
            <a:ext cx="1017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Dynamic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Static Fil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338720" y="2165400"/>
            <a:ext cx="2958840" cy="404496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943600" y="1177920"/>
            <a:ext cx="2981160" cy="987480"/>
          </a:xfrm>
          <a:prstGeom prst="wedgeRectCallout">
            <a:avLst>
              <a:gd name="adj1" fmla="val -66398"/>
              <a:gd name="adj2" fmla="val 4983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etect anomalous behavior &amp; identify precise attack flows and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 flipH="1">
            <a:off x="2971800" y="1943280"/>
            <a:ext cx="868320" cy="3692520"/>
          </a:xfrm>
          <a:prstGeom prst="cube">
            <a:avLst>
              <a:gd name="adj" fmla="val 88472"/>
            </a:avLst>
          </a:prstGeom>
          <a:solidFill>
            <a:srgbClr val="cdc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335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8547120" y="3581280"/>
            <a:ext cx="442800" cy="952560"/>
            <a:chOff x="8547120" y="3581280"/>
            <a:chExt cx="442800" cy="952560"/>
          </a:xfrm>
        </p:grpSpPr>
        <p:sp>
          <p:nvSpPr>
            <p:cNvPr id="1563" name=""/>
            <p:cNvSpPr/>
            <p:nvPr/>
          </p:nvSpPr>
          <p:spPr>
            <a:xfrm>
              <a:off x="8553240" y="4124160"/>
              <a:ext cx="435240" cy="7164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548560" y="44607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547120" y="3581280"/>
              <a:ext cx="43488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556480" y="369252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548560" y="43401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550000" y="393372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556480" y="38163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553240" y="423540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 rot="16200000">
            <a:off x="6867720" y="3713040"/>
            <a:ext cx="2838240" cy="727200"/>
          </a:xfrm>
          <a:custGeom>
            <a:avLst/>
            <a:gdLst>
              <a:gd name="textAreaLeft" fmla="*/ 704160 w 2838240"/>
              <a:gd name="textAreaRight" fmla="*/ 2134080 w 2838240"/>
              <a:gd name="textAreaTop" fmla="*/ 180360 h 727200"/>
              <a:gd name="textAreaBottom" fmla="*/ 54684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104" y="21600"/>
                </a:lnTo>
                <a:lnTo>
                  <a:pt x="6496" y="21600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457200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4114800" y="34480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114800" y="52768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97980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702320" y="3486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2372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397400" y="25718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90384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4132440" y="30765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960720" y="465768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34340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361040" y="32670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609588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867280" y="42861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7913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943600" y="3219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019920" y="41338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943600" y="4591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4864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450040" y="3067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678640" y="3448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45004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6023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90724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9718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51460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33680" y="27432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743200" y="24573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971800" y="40194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9718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51460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152880" y="46101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20040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638440" y="294336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590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666880" y="53532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59092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038400" y="52387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971800" y="5448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743200" y="4495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0481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886120" y="2600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562120" y="386712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666880" y="46674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16002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676520" y="4340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752480" y="31971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295280" y="44164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143000" y="48769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73120" y="36385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219320" y="4568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21932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3502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219320" y="3730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990720" y="50259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143000" y="4264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09480" y="46450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143000" y="3349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371600" y="46832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371600" y="3371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295280" y="3616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219320" y="39974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143000" y="4454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066680" y="41878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219320" y="3828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258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47800" y="3968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219320" y="4302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103400" y="4724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6973920" y="3298680"/>
            <a:ext cx="796680" cy="1299960"/>
            <a:chOff x="6973920" y="3298680"/>
            <a:chExt cx="796680" cy="1299960"/>
          </a:xfrm>
        </p:grpSpPr>
        <p:sp>
          <p:nvSpPr>
            <p:cNvPr id="1643" name=""/>
            <p:cNvSpPr/>
            <p:nvPr/>
          </p:nvSpPr>
          <p:spPr>
            <a:xfrm>
              <a:off x="7298280" y="415872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336080" y="432432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25560" y="329868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973920" y="344340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191000" y="36093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80840" y="452664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118640" y="39927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080840" y="379044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3111480" y="5735520"/>
            <a:ext cx="1162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ctiv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518000" y="5745240"/>
            <a:ext cx="156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Statis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315120" y="5743440"/>
            <a:ext cx="1049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Lay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7162920" y="5742000"/>
            <a:ext cx="177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Rate Lim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838080" y="22035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33520" y="23814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066680" y="2419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219320" y="23050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62120" y="2314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762120" y="2476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33520" y="21654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09480" y="300672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143000" y="2971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04920" y="3159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85800" y="38736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447920" y="3882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57200" y="3930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57200" y="44164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478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000080" y="5257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573200" y="5315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30500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454800" y="18288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00160" y="3349800"/>
            <a:ext cx="8737560" cy="1374480"/>
          </a:xfrm>
          <a:prstGeom prst="rightArrow">
            <a:avLst>
              <a:gd name="adj1" fmla="val 56139"/>
              <a:gd name="adj2" fmla="val 40997"/>
            </a:avLst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egitimate + attack traffic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523880" y="5673600"/>
            <a:ext cx="1017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Dynamic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Static Fil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87480" y="1225440"/>
            <a:ext cx="2579400" cy="939960"/>
          </a:xfrm>
          <a:prstGeom prst="wedgeRectCallout">
            <a:avLst>
              <a:gd name="adj1" fmla="val 63171"/>
              <a:gd name="adj2" fmla="val -153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pply anti-spoo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o block maliciou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862520" y="1631880"/>
            <a:ext cx="360" cy="533520"/>
          </a:xfrm>
          <a:prstGeom prst="line">
            <a:avLst/>
          </a:prstGeom>
          <a:noFill/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236760" y="1574640"/>
            <a:ext cx="3164040" cy="615960"/>
          </a:xfrm>
          <a:custGeom>
            <a:avLst/>
            <a:gdLst/>
            <a:ahLst/>
            <a:rect l="l" t="t" r="r" b="b"/>
            <a:pathLst>
              <a:path w="1993" h="388">
                <a:moveTo>
                  <a:pt x="1993" y="388"/>
                </a:moveTo>
                <a:lnTo>
                  <a:pt x="1993" y="0"/>
                </a:lnTo>
                <a:lnTo>
                  <a:pt x="0" y="5"/>
                </a:lnTo>
                <a:lnTo>
                  <a:pt x="0" y="370"/>
                </a:lnTo>
              </a:path>
            </a:pathLst>
          </a:custGeom>
          <a:noFill/>
          <a:ln w="1015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12760" y="4425120"/>
            <a:ext cx="3614760" cy="1427400"/>
          </a:xfrm>
          <a:custGeom>
            <a:avLst/>
            <a:gdLst>
              <a:gd name="textAreaLeft" fmla="*/ 924840 w 3614760"/>
              <a:gd name="textAreaRight" fmla="*/ 3312720 w 3614760"/>
              <a:gd name="textAreaTop" fmla="*/ 1151640 h 1427400"/>
              <a:gd name="textAreaBottom" fmla="*/ 1307880 h 1427400"/>
            </a:gdLst>
            <a:ahLst/>
            <a:rect l="textAreaLeft" t="textAreaTop" r="textAreaRight" b="textAreaBottom"/>
            <a:pathLst>
              <a:path w="21600" h="21600">
                <a:moveTo>
                  <a:pt x="0" y="19237"/>
                </a:moveTo>
                <a:lnTo>
                  <a:pt x="17431" y="19237"/>
                </a:lnTo>
                <a:lnTo>
                  <a:pt x="17431" y="5526"/>
                </a:lnTo>
                <a:lnTo>
                  <a:pt x="15625" y="5526"/>
                </a:lnTo>
                <a:lnTo>
                  <a:pt x="18613" y="0"/>
                </a:lnTo>
                <a:lnTo>
                  <a:pt x="21600" y="5526"/>
                </a:lnTo>
                <a:lnTo>
                  <a:pt x="19794" y="5526"/>
                </a:lnTo>
                <a:lnTo>
                  <a:pt x="197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338720" y="2165400"/>
            <a:ext cx="2958840" cy="404496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1000" y="155520"/>
            <a:ext cx="6039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Verification Process (MV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grated Defenses in the Guard 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ti-Spoofing Example – http/TCP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914400" y="13716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-27720" y="11430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rcIP, Sourc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581280" y="16765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083400" y="12193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914400" y="1371600"/>
            <a:ext cx="2666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992600" y="152388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n(c#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914400" y="23623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894240" y="54100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nack(c#’,s#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914400" y="3200400"/>
            <a:ext cx="2666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615480" y="2617920"/>
            <a:ext cx="34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Hash-function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rc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,port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2197080" y="2647800"/>
            <a:ext cx="1722600" cy="262080"/>
          </a:xfrm>
          <a:custGeom>
            <a:avLst/>
            <a:gdLst/>
            <a:ahLst/>
            <a:rect l="l" t="t" r="r" b="b"/>
            <a:pathLst>
              <a:path w="1085" h="165">
                <a:moveTo>
                  <a:pt x="0" y="0"/>
                </a:moveTo>
                <a:lnTo>
                  <a:pt x="0" y="165"/>
                </a:lnTo>
                <a:lnTo>
                  <a:pt x="1085" y="16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2403720" y="35053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ck(c#,s#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952880" y="3505320"/>
            <a:ext cx="1828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rcI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,port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95288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95288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301920" y="3384720"/>
            <a:ext cx="843120" cy="249120"/>
          </a:xfrm>
          <a:custGeom>
            <a:avLst/>
            <a:gdLst/>
            <a:ahLst/>
            <a:rect l="l" t="t" r="r" b="b"/>
            <a:pathLst>
              <a:path w="531" h="157">
                <a:moveTo>
                  <a:pt x="0" y="157"/>
                </a:moveTo>
                <a:lnTo>
                  <a:pt x="0" y="0"/>
                </a:lnTo>
                <a:lnTo>
                  <a:pt x="53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18750600">
            <a:off x="4145040" y="3200040"/>
            <a:ext cx="426960" cy="43344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381560" y="3716280"/>
            <a:ext cx="576360" cy="227160"/>
          </a:xfrm>
          <a:custGeom>
            <a:avLst/>
            <a:gdLst/>
            <a:ahLst/>
            <a:rect l="l" t="t" r="r" b="b"/>
            <a:pathLst>
              <a:path w="363" h="143">
                <a:moveTo>
                  <a:pt x="0" y="0"/>
                </a:moveTo>
                <a:lnTo>
                  <a:pt x="0" y="143"/>
                </a:lnTo>
                <a:lnTo>
                  <a:pt x="363" y="14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343400" y="297036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191480" y="3200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914400" y="41911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862200" y="42051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edirect(c#,s#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14400" y="5029200"/>
            <a:ext cx="5178600" cy="539640"/>
          </a:xfrm>
          <a:custGeom>
            <a:avLst/>
            <a:gdLst/>
            <a:ahLst/>
            <a:rect l="l" t="t" r="r" b="b"/>
            <a:pathLst>
              <a:path w="3262" h="340">
                <a:moveTo>
                  <a:pt x="0" y="0"/>
                </a:moveTo>
                <a:lnTo>
                  <a:pt x="3262" y="3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093000" y="4678200"/>
            <a:ext cx="4680" cy="2103480"/>
          </a:xfrm>
          <a:custGeom>
            <a:avLst/>
            <a:gdLst/>
            <a:ahLst/>
            <a:rect l="l" t="t" r="r" b="b"/>
            <a:pathLst>
              <a:path w="3" h="1325">
                <a:moveTo>
                  <a:pt x="0" y="0"/>
                </a:moveTo>
                <a:lnTo>
                  <a:pt x="3" y="132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562200" y="4017960"/>
            <a:ext cx="1390680" cy="1230480"/>
          </a:xfrm>
          <a:custGeom>
            <a:avLst/>
            <a:gdLst/>
            <a:ahLst/>
            <a:rect l="l" t="t" r="r" b="b"/>
            <a:pathLst>
              <a:path w="876" h="775">
                <a:moveTo>
                  <a:pt x="0" y="775"/>
                </a:moveTo>
                <a:lnTo>
                  <a:pt x="345" y="0"/>
                </a:lnTo>
                <a:lnTo>
                  <a:pt x="87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914040" y="5562720"/>
            <a:ext cx="5181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914400" y="5867280"/>
            <a:ext cx="5178600" cy="540000"/>
          </a:xfrm>
          <a:custGeom>
            <a:avLst/>
            <a:gdLst/>
            <a:ahLst/>
            <a:rect l="l" t="t" r="r" b="b"/>
            <a:pathLst>
              <a:path w="3262" h="340">
                <a:moveTo>
                  <a:pt x="0" y="0"/>
                </a:moveTo>
                <a:lnTo>
                  <a:pt x="3262" y="3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353680" y="489096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n(c#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792240" y="58816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equest(c#’,s#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530320" y="42670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896000" y="310824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Verified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928440" y="23763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ynack(c#,s#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 flipH="1">
            <a:off x="1598760" y="1919160"/>
            <a:ext cx="868320" cy="3692520"/>
          </a:xfrm>
          <a:prstGeom prst="cube">
            <a:avLst>
              <a:gd name="adj" fmla="val 88472"/>
            </a:avLst>
          </a:prstGeom>
          <a:solidFill>
            <a:srgbClr val="cdc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971800" y="1943280"/>
            <a:ext cx="868320" cy="3692520"/>
          </a:xfrm>
          <a:prstGeom prst="cube">
            <a:avLst>
              <a:gd name="adj" fmla="val 88472"/>
            </a:avLst>
          </a:prstGeom>
          <a:solidFill>
            <a:srgbClr val="cdc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335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8547120" y="3581280"/>
            <a:ext cx="442800" cy="952560"/>
            <a:chOff x="8547120" y="3581280"/>
            <a:chExt cx="442800" cy="952560"/>
          </a:xfrm>
        </p:grpSpPr>
        <p:sp>
          <p:nvSpPr>
            <p:cNvPr id="1719" name=""/>
            <p:cNvSpPr/>
            <p:nvPr/>
          </p:nvSpPr>
          <p:spPr>
            <a:xfrm>
              <a:off x="8553240" y="4124160"/>
              <a:ext cx="435240" cy="7164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548560" y="44607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547120" y="3581280"/>
              <a:ext cx="43488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556480" y="369252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548560" y="43401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550000" y="393372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556480" y="3816360"/>
              <a:ext cx="4334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553240" y="4235400"/>
              <a:ext cx="435240" cy="730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7" name=""/>
          <p:cNvSpPr/>
          <p:nvPr/>
        </p:nvSpPr>
        <p:spPr>
          <a:xfrm rot="16200000">
            <a:off x="6867720" y="3713040"/>
            <a:ext cx="2838240" cy="727200"/>
          </a:xfrm>
          <a:custGeom>
            <a:avLst/>
            <a:gdLst>
              <a:gd name="textAreaLeft" fmla="*/ 704160 w 2838240"/>
              <a:gd name="textAreaRight" fmla="*/ 2134080 w 2838240"/>
              <a:gd name="textAreaTop" fmla="*/ 180360 h 727200"/>
              <a:gd name="textAreaBottom" fmla="*/ 54684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104" y="21600"/>
                </a:lnTo>
                <a:lnTo>
                  <a:pt x="6496" y="21600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457200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827520" y="249552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702320" y="3486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2372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397400" y="25718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90384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32440" y="30765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960720" y="465768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34340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361040" y="32670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6095880" y="1924200"/>
            <a:ext cx="868320" cy="3692520"/>
          </a:xfrm>
          <a:prstGeom prst="cube">
            <a:avLst>
              <a:gd name="adj" fmla="val 88472"/>
            </a:avLst>
          </a:prstGeom>
          <a:gradFill rotWithShape="0">
            <a:gsLst>
              <a:gs pos="0">
                <a:srgbClr val="ffffff"/>
              </a:gs>
              <a:gs pos="100000">
                <a:srgbClr val="cdc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019920" y="2914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7913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943600" y="3219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019920" y="41338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943600" y="4591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4864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450040" y="3067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78640" y="3448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45004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60232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907240" y="36003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9718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514600" y="37530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533680" y="27432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2743200" y="24573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971800" y="40194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2971800" y="28386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514600" y="4438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152880" y="46101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200400" y="27241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638440" y="294336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590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666880" y="53532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59092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38400" y="52387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971800" y="54482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743200" y="4495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048120" y="39052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886120" y="2600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562120" y="386712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666880" y="4667400"/>
            <a:ext cx="43524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600200" y="1924200"/>
            <a:ext cx="868320" cy="3692520"/>
          </a:xfrm>
          <a:prstGeom prst="cube">
            <a:avLst>
              <a:gd name="adj" fmla="val 88472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8580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76520" y="4340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31971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295280" y="44164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1143000" y="48769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73120" y="363852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219320" y="4568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219320" y="31971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990720" y="35020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219320" y="37306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990720" y="50259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3000" y="4264200"/>
            <a:ext cx="434880" cy="727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09480" y="46450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143000" y="33498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371600" y="46832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371600" y="33717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295280" y="3616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219320" y="39974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143000" y="4454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066680" y="418788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219320" y="3828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258920" y="3083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47800" y="39686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219320" y="4302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103400" y="47242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6973920" y="3298680"/>
            <a:ext cx="796680" cy="1299960"/>
            <a:chOff x="6973920" y="3298680"/>
            <a:chExt cx="796680" cy="1299960"/>
          </a:xfrm>
        </p:grpSpPr>
        <p:sp>
          <p:nvSpPr>
            <p:cNvPr id="1797" name=""/>
            <p:cNvSpPr/>
            <p:nvPr/>
          </p:nvSpPr>
          <p:spPr>
            <a:xfrm>
              <a:off x="7298280" y="415872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336080" y="432432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225560" y="329868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73920" y="344340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91000" y="36093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80840" y="452664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118640" y="3992760"/>
              <a:ext cx="434520" cy="7200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080840" y="3790440"/>
              <a:ext cx="434520" cy="7236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3111480" y="5735520"/>
            <a:ext cx="1162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ctiv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518000" y="5745240"/>
            <a:ext cx="156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Statis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315120" y="5743440"/>
            <a:ext cx="1049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Lay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7162920" y="5742000"/>
            <a:ext cx="177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Rate Lim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838080" y="220356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33520" y="2381400"/>
            <a:ext cx="434880" cy="72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066680" y="2419200"/>
            <a:ext cx="43524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219320" y="23050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62120" y="2314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62120" y="247644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33520" y="216540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09480" y="3006720"/>
            <a:ext cx="43524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143000" y="2971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04920" y="31590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5800" y="38736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8829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57200" y="393048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57200" y="441648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847800" y="4514760"/>
            <a:ext cx="434880" cy="7308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00080" y="525780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73200" y="531504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305000" y="5200560"/>
            <a:ext cx="434880" cy="730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454800" y="18288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523880" y="5673600"/>
            <a:ext cx="1017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Dynamic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Static Fil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212760" y="4425120"/>
            <a:ext cx="3614760" cy="1427400"/>
          </a:xfrm>
          <a:custGeom>
            <a:avLst/>
            <a:gdLst>
              <a:gd name="textAreaLeft" fmla="*/ 924840 w 3614760"/>
              <a:gd name="textAreaRight" fmla="*/ 3312720 w 3614760"/>
              <a:gd name="textAreaTop" fmla="*/ 1151640 h 1427400"/>
              <a:gd name="textAreaBottom" fmla="*/ 1307880 h 1427400"/>
            </a:gdLst>
            <a:ahLst/>
            <a:rect l="textAreaLeft" t="textAreaTop" r="textAreaRight" b="textAreaBottom"/>
            <a:pathLst>
              <a:path w="21600" h="21600">
                <a:moveTo>
                  <a:pt x="0" y="19237"/>
                </a:moveTo>
                <a:lnTo>
                  <a:pt x="17431" y="19237"/>
                </a:lnTo>
                <a:lnTo>
                  <a:pt x="17431" y="5526"/>
                </a:lnTo>
                <a:lnTo>
                  <a:pt x="15625" y="5526"/>
                </a:lnTo>
                <a:lnTo>
                  <a:pt x="18613" y="0"/>
                </a:lnTo>
                <a:lnTo>
                  <a:pt x="21600" y="5526"/>
                </a:lnTo>
                <a:lnTo>
                  <a:pt x="19794" y="5526"/>
                </a:lnTo>
                <a:lnTo>
                  <a:pt x="197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295280" y="1600200"/>
            <a:ext cx="5113080" cy="803160"/>
            <a:chOff x="1295280" y="1600200"/>
            <a:chExt cx="5113080" cy="803160"/>
          </a:xfrm>
        </p:grpSpPr>
        <p:sp>
          <p:nvSpPr>
            <p:cNvPr id="1831" name=""/>
            <p:cNvSpPr/>
            <p:nvPr/>
          </p:nvSpPr>
          <p:spPr>
            <a:xfrm>
              <a:off x="1295280" y="2330280"/>
              <a:ext cx="429480" cy="7308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892040" y="1666800"/>
              <a:ext cx="360" cy="533520"/>
            </a:xfrm>
            <a:prstGeom prst="line">
              <a:avLst/>
            </a:prstGeom>
            <a:noFill/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4880" y="1600200"/>
              <a:ext cx="4533480" cy="615960"/>
            </a:xfrm>
            <a:custGeom>
              <a:avLst/>
              <a:gdLst/>
              <a:ahLst/>
              <a:rect l="l" t="t" r="r" b="b"/>
              <a:pathLst>
                <a:path w="2951" h="408">
                  <a:moveTo>
                    <a:pt x="2951" y="408"/>
                  </a:moveTo>
                  <a:lnTo>
                    <a:pt x="2951" y="0"/>
                  </a:lnTo>
                  <a:lnTo>
                    <a:pt x="0" y="0"/>
                  </a:lnTo>
                  <a:lnTo>
                    <a:pt x="0" y="384"/>
                  </a:lnTo>
                </a:path>
              </a:pathLst>
            </a:custGeom>
            <a:noFill/>
            <a:ln w="10152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 flipV="1">
            <a:off x="212760" y="4591080"/>
            <a:ext cx="1882800" cy="1130400"/>
          </a:xfrm>
          <a:custGeom>
            <a:avLst/>
            <a:gdLst>
              <a:gd name="textAreaLeft" fmla="*/ 526680 w 1882800"/>
              <a:gd name="textAreaRight" fmla="*/ 1757160 w 1882800"/>
              <a:gd name="textAreaTop" fmla="*/ 791640 h 1130400"/>
              <a:gd name="textAreaBottom" fmla="*/ 105516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6571"/>
                </a:moveTo>
                <a:lnTo>
                  <a:pt x="15128" y="16571"/>
                </a:lnTo>
                <a:lnTo>
                  <a:pt x="15128" y="6044"/>
                </a:lnTo>
                <a:lnTo>
                  <a:pt x="13685" y="6044"/>
                </a:lnTo>
                <a:lnTo>
                  <a:pt x="17643" y="0"/>
                </a:lnTo>
                <a:lnTo>
                  <a:pt x="21600" y="6044"/>
                </a:lnTo>
                <a:lnTo>
                  <a:pt x="20157" y="6044"/>
                </a:lnTo>
                <a:lnTo>
                  <a:pt x="201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5172120" y="1962000"/>
            <a:ext cx="2907720" cy="777960"/>
            <a:chOff x="5172120" y="1962000"/>
            <a:chExt cx="2907720" cy="777960"/>
          </a:xfrm>
        </p:grpSpPr>
        <p:sp>
          <p:nvSpPr>
            <p:cNvPr id="1836" name=""/>
            <p:cNvSpPr/>
            <p:nvPr/>
          </p:nvSpPr>
          <p:spPr>
            <a:xfrm>
              <a:off x="6581520" y="1984320"/>
              <a:ext cx="360" cy="372600"/>
            </a:xfrm>
            <a:prstGeom prst="line">
              <a:avLst/>
            </a:prstGeom>
            <a:noFill/>
            <a:ln w="1015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72120" y="1962000"/>
              <a:ext cx="2907720" cy="777960"/>
            </a:xfrm>
            <a:custGeom>
              <a:avLst/>
              <a:gdLst/>
              <a:ahLst/>
              <a:rect l="l" t="t" r="r" b="b"/>
              <a:pathLst>
                <a:path w="2096" h="616">
                  <a:moveTo>
                    <a:pt x="0" y="408"/>
                  </a:moveTo>
                  <a:lnTo>
                    <a:pt x="0" y="0"/>
                  </a:lnTo>
                  <a:lnTo>
                    <a:pt x="2088" y="0"/>
                  </a:lnTo>
                  <a:lnTo>
                    <a:pt x="2096" y="616"/>
                  </a:lnTo>
                </a:path>
              </a:pathLst>
            </a:custGeom>
            <a:noFill/>
            <a:ln w="10152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4338720" y="2165400"/>
            <a:ext cx="2958840" cy="404496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00160" y="3638520"/>
            <a:ext cx="8737560" cy="779400"/>
          </a:xfrm>
          <a:prstGeom prst="rightArrow">
            <a:avLst>
              <a:gd name="adj1" fmla="val 56139"/>
              <a:gd name="adj2" fmla="val 722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Legitimat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81000" y="155520"/>
            <a:ext cx="6039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ulti-Verification Process (MV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33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grated Defenses in the Guard 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090880" y="1946160"/>
            <a:ext cx="2579400" cy="879480"/>
          </a:xfrm>
          <a:prstGeom prst="wedgeRectCallout">
            <a:avLst>
              <a:gd name="adj1" fmla="val 9138"/>
              <a:gd name="adj2" fmla="val -9548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ynamically insert specific filters to block attack flows &amp;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176800" y="2730600"/>
            <a:ext cx="2579760" cy="698400"/>
          </a:xfrm>
          <a:prstGeom prst="wedgeRectCallout">
            <a:avLst>
              <a:gd name="adj1" fmla="val 40893"/>
              <a:gd name="adj2" fmla="val -1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pply rat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asured Respon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571680" y="4857480"/>
            <a:ext cx="8040600" cy="822240"/>
          </a:xfrm>
          <a:custGeom>
            <a:avLst/>
            <a:gdLst>
              <a:gd name="textAreaLeft" fmla="*/ 825840 w 8040600"/>
              <a:gd name="textAreaRight" fmla="*/ 7214760 w 8040600"/>
              <a:gd name="textAreaTop" fmla="*/ 84240 h 822240"/>
              <a:gd name="textAreaBottom" fmla="*/ 738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756" y="21600"/>
                </a:lnTo>
                <a:lnTo>
                  <a:pt x="844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assive copy of traffic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909720" y="3455640"/>
            <a:ext cx="7346880" cy="1301760"/>
          </a:xfrm>
          <a:custGeom>
            <a:avLst/>
            <a:gdLst>
              <a:gd name="textAreaLeft" fmla="*/ 883080 w 7346880"/>
              <a:gd name="textAreaRight" fmla="*/ 6463800 w 7346880"/>
              <a:gd name="textAreaTop" fmla="*/ 156240 h 1301760"/>
              <a:gd name="textAreaBottom" fmla="*/ 11455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6" y="21600"/>
                </a:lnTo>
                <a:lnTo>
                  <a:pt x="1524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iversion for more granular in-lin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lex filters, static filters and bypass in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ll flows forwarded but analyzed for anoma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1469880" y="2518200"/>
            <a:ext cx="6216840" cy="838440"/>
          </a:xfrm>
          <a:custGeom>
            <a:avLst/>
            <a:gdLst>
              <a:gd name="textAreaLeft" fmla="*/ 693720 w 6216840"/>
              <a:gd name="textAreaRight" fmla="*/ 5523120 w 6216840"/>
              <a:gd name="textAreaTop" fmla="*/ 93600 h 838440"/>
              <a:gd name="textAreaBottom" fmla="*/ 744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10" y="21600"/>
                </a:lnTo>
                <a:lnTo>
                  <a:pt x="119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Basic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Basic anti-spoofing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nalysis for continuing anoma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1847880" y="1521360"/>
            <a:ext cx="5449680" cy="896760"/>
          </a:xfrm>
          <a:custGeom>
            <a:avLst/>
            <a:gdLst>
              <a:gd name="textAreaLeft" fmla="*/ 641520 w 5449680"/>
              <a:gd name="textAreaRight" fmla="*/ 4808160 w 5449680"/>
              <a:gd name="textAreaTop" fmla="*/ 105480 h 896760"/>
              <a:gd name="textAreaBottom" fmla="*/ 791280 h 89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71" y="21600"/>
                </a:lnTo>
                <a:lnTo>
                  <a:pt x="1429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trong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Strong anti-spoofing (proxy) if appropr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Dynamic filters deployed for zombie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880400" y="256068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Anom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Ver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236520" y="5780520"/>
            <a:ext cx="8690040" cy="747720"/>
          </a:xfrm>
          <a:custGeom>
            <a:avLst/>
            <a:gdLst>
              <a:gd name="textAreaLeft" fmla="*/ 867240 w 8690040"/>
              <a:gd name="textAreaRight" fmla="*/ 7822800 w 8690040"/>
              <a:gd name="textAreaTop" fmla="*/ 74520 h 747720"/>
              <a:gd name="textAreaBottom" fmla="*/ 673200 h 7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870" y="21600"/>
                </a:lnTo>
                <a:lnTo>
                  <a:pt x="73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eriodic observation of patterns to update baseline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972480" y="4924440"/>
            <a:ext cx="137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rot="10800000">
            <a:off x="8186760" y="4079520"/>
            <a:ext cx="581040" cy="1204920"/>
          </a:xfrm>
          <a:custGeom>
            <a:avLst/>
            <a:gdLst>
              <a:gd name="textAreaLeft" fmla="*/ 77760 w 581040"/>
              <a:gd name="textAreaRight" fmla="*/ 503280 w 581040"/>
              <a:gd name="textAreaTop" fmla="*/ 210600 h 1204920"/>
              <a:gd name="textAreaBottom" fmla="*/ 87372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rot="10800000">
            <a:off x="7719840" y="2827080"/>
            <a:ext cx="581040" cy="1204920"/>
          </a:xfrm>
          <a:custGeom>
            <a:avLst/>
            <a:gdLst>
              <a:gd name="textAreaLeft" fmla="*/ 77760 w 581040"/>
              <a:gd name="textAreaRight" fmla="*/ 503280 w 581040"/>
              <a:gd name="textAreaTop" fmla="*/ 210600 h 1204920"/>
              <a:gd name="textAreaBottom" fmla="*/ 87372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rot="10800000">
            <a:off x="7183440" y="1688760"/>
            <a:ext cx="581040" cy="1204920"/>
          </a:xfrm>
          <a:custGeom>
            <a:avLst/>
            <a:gdLst>
              <a:gd name="textAreaLeft" fmla="*/ 77760 w 581040"/>
              <a:gd name="textAreaRight" fmla="*/ 503280 w 581040"/>
              <a:gd name="textAreaTop" fmla="*/ 210600 h 1204920"/>
              <a:gd name="textAreaBottom" fmla="*/ 87372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456320" y="1581120"/>
            <a:ext cx="177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Anom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3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oS Reality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cting th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ree Planes, Defin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224920" cy="4724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ypically consists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/forwarding Plane: the useful traffic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: routing protocols, ARP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Plane: SSH, SNMP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001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se slides Control Plane refers to all the Control/Management plane traffic destined to the dev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010280" y="2133720"/>
            <a:ext cx="533520" cy="53316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06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7010280" y="3048120"/>
            <a:ext cx="533520" cy="1218960"/>
          </a:xfrm>
          <a:custGeom>
            <a:avLst/>
            <a:gdLst>
              <a:gd name="textAreaLeft" fmla="*/ 0 w 533520"/>
              <a:gd name="textAreaRight" fmla="*/ 192600 w 5335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06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7584480" y="2209680"/>
            <a:ext cx="1553400" cy="411480"/>
          </a:xfrm>
          <a:prstGeom prst="rect">
            <a:avLst/>
          </a:prstGeom>
          <a:solidFill>
            <a:srgbClr val="eeb3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686720" y="3429000"/>
            <a:ext cx="1452600" cy="411480"/>
          </a:xfrm>
          <a:prstGeom prst="rect">
            <a:avLst/>
          </a:prstGeom>
          <a:solidFill>
            <a:srgbClr val="eeb3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trol Plane Overru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marL="239760" indent="-239760">
              <a:lnSpc>
                <a:spcPct val="75000"/>
              </a:lnSpc>
              <a:spcBef>
                <a:spcPts val="17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of protocol keep-aliv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go dow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fl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network transi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75000"/>
              </a:lnSpc>
              <a:spcBef>
                <a:spcPts val="17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of routing protocol upda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fl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network transi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75000"/>
              </a:lnSpc>
              <a:spcBef>
                <a:spcPts val="17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 100% CPU uti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2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prevent other high priority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ed for Control Plane Polic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all Control Plane traffic in multiple clas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ass is capped to a certain am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r share for each classes or each source in each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lass cannot overflow the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an ICMP flood to the router won’t affect ro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840" y="1219320"/>
            <a:ext cx="912816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2057400"/>
            <a:ext cx="9067680" cy="1981080"/>
          </a:xfrm>
          <a:prstGeom prst="rect">
            <a:avLst/>
          </a:prstGeom>
          <a:solidFill>
            <a:srgbClr val="66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volutio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180040" y="1220760"/>
            <a:ext cx="0" cy="502776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86080" y="1219320"/>
            <a:ext cx="0" cy="50292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396200" y="1219320"/>
            <a:ext cx="0" cy="487656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101160" y="55958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(hack to serv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61400" y="5902200"/>
            <a:ext cx="213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Non critical Protoc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eg IC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6840" y="1463760"/>
            <a:ext cx="33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istribution      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8480" y="12952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#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ttac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9040" y="17287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(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12320" y="139392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ype of at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21560" y="139392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840" y="5334120"/>
            <a:ext cx="9128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76120" y="558000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poofed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5413320"/>
            <a:ext cx="214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nterpris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irewall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CL access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65200" y="5580000"/>
            <a:ext cx="17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X0-X00 attack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X0 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095560"/>
            <a:ext cx="2036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Email 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Download from  questionable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via “chat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CQ, AIM, I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W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2057400"/>
            <a:ext cx="9128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46880" y="4267080"/>
            <a:ext cx="118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~X00-X,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ttack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X00 M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80640" y="26668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ia bot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97000" y="4191120"/>
            <a:ext cx="158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SP/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Black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DoS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0880" y="4267080"/>
            <a:ext cx="198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ll type of applicatios (HTTP, DNS, 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poofed 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752480" y="1219320"/>
            <a:ext cx="0" cy="50292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72360" y="559584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71640" y="44179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20" y="4251240"/>
            <a:ext cx="1427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Email 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via “chat” ICQ, AIM, IR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14880" y="266688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~X00,000 attack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X-X0 Gb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2800" y="2562120"/>
            <a:ext cx="198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egitimate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nfrastructure elements (DNS, SMTP, HTTP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09600" y="2241720"/>
            <a:ext cx="158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Blackhole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CL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DoS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nycast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2082" t="2776" r="3127" b="54166"/>
          <a:stretch/>
        </p:blipFill>
        <p:spPr>
          <a:xfrm>
            <a:off x="4343400" y="-17640"/>
            <a:ext cx="4492800" cy="12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7920" y="2297160"/>
            <a:ext cx="3152880" cy="227340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3086280" y="2279520"/>
            <a:ext cx="6057720" cy="2286000"/>
          </a:xfrm>
          <a:prstGeom prst="rect">
            <a:avLst/>
          </a:prstGeom>
          <a:ln w="0">
            <a:noFill/>
          </a:ln>
        </p:spPr>
      </p:pic>
      <p:sp>
        <p:nvSpPr>
          <p:cNvPr id="1869" name=""/>
          <p:cNvSpPr/>
          <p:nvPr/>
        </p:nvSpPr>
        <p:spPr>
          <a:xfrm>
            <a:off x="674640" y="3098880"/>
            <a:ext cx="4533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0C98118-40D3-4AD5-9380-E524A166D83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90A2F86-B89E-42EA-9383-F761A2D9BE3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DFFFEA-C6F7-4023-BCE0-282526C75A5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" descr=""/>
          <p:cNvPicPr/>
          <p:nvPr/>
        </p:nvPicPr>
        <p:blipFill>
          <a:blip r:embed="rId1"/>
          <a:srcRect l="24169" t="24446" r="23335" b="36667"/>
          <a:stretch/>
        </p:blipFill>
        <p:spPr>
          <a:xfrm>
            <a:off x="2844720" y="2332080"/>
            <a:ext cx="3619440" cy="201132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2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87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5502C9B-9CA5-4BAF-AEE9-6D377ECD647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B2B249B-EBA5-4281-8ECE-1510DC677EC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2A38453-E4F7-402D-BE2A-1E8BCB3C6A7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urity Challenges</a:t>
            </a:r>
            <a:br>
              <a:rPr sz="3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Cost of Thre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5240" y="132084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5932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llar Amount of Loss By Type of Attack   - CSI/FBI 2004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5264" r="0" b="0"/>
          <a:stretch/>
        </p:blipFill>
        <p:spPr>
          <a:xfrm>
            <a:off x="166680" y="1622520"/>
            <a:ext cx="87915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P Security Incident Respon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’s Operations Team response to a security incident can typically be broken down into six pha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Mor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k Hole Routers (for ISP mainl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36520" indent="-236520">
              <a:lnSpc>
                <a:spcPct val="95000"/>
              </a:lnSpc>
              <a:spcBef>
                <a:spcPts val="1624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unallocated addr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lot of them on the Internet… 10.0.0.0/8, 96.0.0.0/4,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624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k hole Router locally advertises these addr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624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ected hosts will seek to contact th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624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 will provide list of locally infected hos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624"/>
              </a:spcBef>
              <a:buClr>
                <a:srgbClr val="306774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ll be useful for other tri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6680" y="3276720"/>
            <a:ext cx="762120" cy="304560"/>
          </a:xfrm>
          <a:prstGeom prst="line">
            <a:avLst/>
          </a:prstGeom>
          <a:ln w="1260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nk Hole (aka Network Honey Pot) Set-U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71600" y="2286000"/>
            <a:ext cx="4343040" cy="3123720"/>
            <a:chOff x="1371600" y="2286000"/>
            <a:chExt cx="4343040" cy="3123720"/>
          </a:xfrm>
        </p:grpSpPr>
        <p:grpSp>
          <p:nvGrpSpPr>
            <p:cNvPr id="359" name=""/>
            <p:cNvGrpSpPr/>
            <p:nvPr/>
          </p:nvGrpSpPr>
          <p:grpSpPr>
            <a:xfrm>
              <a:off x="1371600" y="2298600"/>
              <a:ext cx="4330800" cy="3098880"/>
              <a:chOff x="1371600" y="2298600"/>
              <a:chExt cx="4330800" cy="3098880"/>
            </a:xfrm>
          </p:grpSpPr>
          <p:sp>
            <p:nvSpPr>
              <p:cNvPr id="360" name=""/>
              <p:cNvSpPr/>
              <p:nvPr/>
            </p:nvSpPr>
            <p:spPr>
              <a:xfrm>
                <a:off x="2849400" y="2298600"/>
                <a:ext cx="1889280" cy="1281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11160" y="2633760"/>
                <a:ext cx="1446480" cy="1284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71600" y="3405240"/>
                <a:ext cx="974880" cy="10461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65360" y="3867120"/>
                <a:ext cx="1466640" cy="1133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03600" y="4056120"/>
                <a:ext cx="2192400" cy="13413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95720" y="2670120"/>
                <a:ext cx="1406520" cy="10098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07040" y="3321000"/>
                <a:ext cx="1395360" cy="10065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81400" y="3530520"/>
                <a:ext cx="1384200" cy="16560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57480" y="3033720"/>
                <a:ext cx="2809800" cy="1655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371600" y="2286000"/>
              <a:ext cx="4343040" cy="3123720"/>
              <a:chOff x="1371600" y="2286000"/>
              <a:chExt cx="4343040" cy="3123720"/>
            </a:xfrm>
          </p:grpSpPr>
          <p:sp>
            <p:nvSpPr>
              <p:cNvPr id="370" name=""/>
              <p:cNvSpPr/>
              <p:nvPr/>
            </p:nvSpPr>
            <p:spPr>
              <a:xfrm>
                <a:off x="2853360" y="2286000"/>
                <a:ext cx="1905480" cy="12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7" y="7438"/>
                    </a:moveTo>
                    <a:arcTo wR="10800" hR="10800" stAng="-9711714" swAng="8467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7" y="7438"/>
                    </a:moveTo>
                    <a:arcTo wR="10800" hR="10800" stAng="-9711714" swAng="846715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62720" y="2301840"/>
                <a:ext cx="1884960" cy="126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2" y="7421"/>
                    </a:moveTo>
                    <a:arcTo wR="10800" hR="10800" stAng="-9706201" swAng="84550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2" y="7421"/>
                    </a:moveTo>
                    <a:arcTo wR="10800" hR="10800" stAng="-9706201" swAng="8455096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812960" y="2620800"/>
                <a:ext cx="14569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" y="12938"/>
                    </a:moveTo>
                    <a:arcTo wR="10800" hR="10800" stAng="10114779" swAng="7985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" y="12938"/>
                    </a:moveTo>
                    <a:arcTo wR="10800" hR="10800" stAng="10114779" swAng="798592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22320" y="2633760"/>
                <a:ext cx="1434600" cy="12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8" y="12959"/>
                    </a:moveTo>
                    <a:arcTo wR="10800" hR="10800" stAng="10107984" swAng="799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8" y="12959"/>
                    </a:moveTo>
                    <a:arcTo wR="10800" hR="10800" stAng="10107984" swAng="7998632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52760" y="3848400"/>
                <a:ext cx="1509480" cy="116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1" y="20238"/>
                    </a:moveTo>
                    <a:arcTo wR="10800" hR="10800" stAng="3654639" swAng="72854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1" y="20238"/>
                    </a:moveTo>
                    <a:arcTo wR="10800" hR="10800" stAng="3654639" swAng="728541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63560" y="3862800"/>
                <a:ext cx="1490760" cy="113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07" y="20262"/>
                    </a:moveTo>
                    <a:arcTo wR="10800" hR="10800" stAng="3670433" swAng="727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07" y="20262"/>
                    </a:moveTo>
                    <a:arcTo wR="10800" hR="10800" stAng="3670433" swAng="7272969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107960" y="2660760"/>
                <a:ext cx="140976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2" y="228"/>
                    </a:moveTo>
                    <a:arcTo wR="10800" hR="10800" stAng="-6107953" swAng="78343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2" y="228"/>
                    </a:moveTo>
                    <a:arcTo wR="10800" hR="10800" stAng="-6107953" swAng="783437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18760" y="2670120"/>
                <a:ext cx="1387800" cy="9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10" y="224"/>
                    </a:moveTo>
                    <a:arcTo wR="10800" hR="10800" stAng="-6102023" swAng="78431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10" y="224"/>
                    </a:moveTo>
                    <a:arcTo wR="10800" hR="10800" stAng="-6102023" swAng="7843133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95720" y="3283560"/>
                <a:ext cx="1618920" cy="1096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90" y="2401"/>
                    </a:moveTo>
                    <a:arcTo wR="10800" hR="10800" stAng="-3062859" swAng="51524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90" y="2401"/>
                    </a:moveTo>
                    <a:arcTo wR="10800" hR="10800" stAng="-3062859" swAng="5152402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5080" y="3297240"/>
                <a:ext cx="1600200" cy="10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7"/>
                    </a:moveTo>
                    <a:arcTo wR="10800" hR="10800" stAng="-3080014" swAng="51844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7"/>
                    </a:moveTo>
                    <a:arcTo wR="10800" hR="10800" stAng="-3080014" swAng="5184448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61960" y="3546000"/>
                <a:ext cx="1427400" cy="167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87" y="7841"/>
                    </a:moveTo>
                    <a:arcTo wR="10800" hR="10800" stAng="-954136" swAng="75088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87" y="7841"/>
                    </a:moveTo>
                    <a:arcTo wR="10800" hR="10800" stAng="-954136" swAng="7508821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72400" y="3556080"/>
                <a:ext cx="1405800" cy="164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88" y="7844"/>
                    </a:moveTo>
                    <a:arcTo wR="10800" hR="10800" stAng="-952931" swAng="75170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88" y="7844"/>
                    </a:moveTo>
                    <a:arcTo wR="10800" hR="10800" stAng="-952931" swAng="7517024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71600" y="3397320"/>
                <a:ext cx="1028160" cy="106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29" y="20631"/>
                    </a:moveTo>
                    <a:arcTo wR="10800" hR="10800" stAng="6867372" swAng="9078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29" y="20631"/>
                    </a:moveTo>
                    <a:arcTo wR="10800" hR="10800" stAng="6867372" swAng="907882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80960" y="3409920"/>
                <a:ext cx="1009800" cy="10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77" y="20653"/>
                    </a:moveTo>
                    <a:arcTo wR="10800" hR="10800" stAng="6850434" swAng="9090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77" y="20653"/>
                    </a:moveTo>
                    <a:arcTo wR="10800" hR="10800" stAng="6850434" swAng="9090993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19800" y="4165920"/>
                <a:ext cx="2150640" cy="12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30" y="16874"/>
                    </a:moveTo>
                    <a:arcTo wR="10800" hR="10800" stAng="2053403" swAng="81029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30" y="16874"/>
                    </a:moveTo>
                    <a:arcTo wR="10800" hR="10800" stAng="2053403" swAng="81029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25920" y="4178520"/>
                <a:ext cx="21297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02" y="16915"/>
                    </a:moveTo>
                    <a:arcTo wR="10800" hR="10800" stAng="2069179" swAng="8082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02" y="16915"/>
                    </a:moveTo>
                    <a:arcTo wR="10800" hR="10800" stAng="2069179" swAng="8082310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2819520" y="3051000"/>
            <a:ext cx="531720" cy="230400"/>
            <a:chOff x="2819520" y="3051000"/>
            <a:chExt cx="531720" cy="230400"/>
          </a:xfrm>
        </p:grpSpPr>
        <p:sp>
          <p:nvSpPr>
            <p:cNvPr id="387" name=""/>
            <p:cNvSpPr/>
            <p:nvPr/>
          </p:nvSpPr>
          <p:spPr>
            <a:xfrm>
              <a:off x="2824200" y="3149640"/>
              <a:ext cx="52560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1179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19520" y="31179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24200" y="3051000"/>
              <a:ext cx="52560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900520" y="3063960"/>
              <a:ext cx="371160" cy="108000"/>
              <a:chOff x="2900520" y="3063960"/>
              <a:chExt cx="371160" cy="1080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900520" y="3063960"/>
                <a:ext cx="368280" cy="104760"/>
                <a:chOff x="2900520" y="3063960"/>
                <a:chExt cx="368280" cy="104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092400" y="30672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092400" y="30672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900520" y="31179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00520" y="31179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9880" y="30639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909880" y="30639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084480" y="31226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084480" y="31226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903400" y="3067200"/>
                <a:ext cx="368280" cy="104760"/>
                <a:chOff x="2903400" y="3067200"/>
                <a:chExt cx="368280" cy="104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095640" y="30686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095640" y="30686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03400" y="31212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903400" y="31212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13120" y="30672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913120" y="30672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089160" y="31258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089160" y="31258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>
              <a:off x="2819520" y="31161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51240" y="31161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733920" y="3508200"/>
            <a:ext cx="531720" cy="230400"/>
            <a:chOff x="3733920" y="3508200"/>
            <a:chExt cx="531720" cy="230400"/>
          </a:xfrm>
        </p:grpSpPr>
        <p:sp>
          <p:nvSpPr>
            <p:cNvPr id="413" name=""/>
            <p:cNvSpPr/>
            <p:nvPr/>
          </p:nvSpPr>
          <p:spPr>
            <a:xfrm>
              <a:off x="3738600" y="3606840"/>
              <a:ext cx="52560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33920" y="35751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33920" y="35751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38600" y="3508200"/>
              <a:ext cx="52560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14920" y="3521160"/>
              <a:ext cx="371160" cy="108000"/>
              <a:chOff x="3814920" y="3521160"/>
              <a:chExt cx="371160" cy="10800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3814920" y="3521160"/>
                <a:ext cx="368280" cy="104760"/>
                <a:chOff x="3814920" y="3521160"/>
                <a:chExt cx="368280" cy="10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006800" y="35244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006800" y="35244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814920" y="35751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14920" y="35751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824280" y="35211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824280" y="35211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998880" y="35798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98880" y="35798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817800" y="3524400"/>
                <a:ext cx="368280" cy="104760"/>
                <a:chOff x="3817800" y="3524400"/>
                <a:chExt cx="368280" cy="104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10040" y="35258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010040" y="35258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17800" y="35784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817800" y="35784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27520" y="35244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827520" y="35244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003560" y="35830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003560" y="35830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"/>
            <p:cNvSpPr/>
            <p:nvPr/>
          </p:nvSpPr>
          <p:spPr>
            <a:xfrm>
              <a:off x="3733920" y="35733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65640" y="35733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267080" y="2898720"/>
            <a:ext cx="532080" cy="230400"/>
            <a:chOff x="4267080" y="2898720"/>
            <a:chExt cx="532080" cy="230400"/>
          </a:xfrm>
        </p:grpSpPr>
        <p:sp>
          <p:nvSpPr>
            <p:cNvPr id="439" name=""/>
            <p:cNvSpPr/>
            <p:nvPr/>
          </p:nvSpPr>
          <p:spPr>
            <a:xfrm>
              <a:off x="4272120" y="2997360"/>
              <a:ext cx="52524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67080" y="29653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7080" y="29653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72120" y="2898720"/>
              <a:ext cx="52524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348080" y="2911320"/>
              <a:ext cx="371520" cy="108000"/>
              <a:chOff x="4348080" y="2911320"/>
              <a:chExt cx="371520" cy="1080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4348080" y="2911320"/>
                <a:ext cx="368280" cy="104760"/>
                <a:chOff x="4348080" y="2911320"/>
                <a:chExt cx="368280" cy="104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540320" y="29145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40320" y="29145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48080" y="29653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48080" y="29653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57800" y="29113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57800" y="29113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532400" y="29703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532400" y="29703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351320" y="2914560"/>
                <a:ext cx="368280" cy="104760"/>
                <a:chOff x="4351320" y="2914560"/>
                <a:chExt cx="368280" cy="104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543560" y="29163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43560" y="29163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51320" y="29685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351320" y="29685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61040" y="29145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61040" y="29145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080" y="29732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37080" y="29732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4267080" y="29638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160" y="29638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81280" y="4498920"/>
            <a:ext cx="532080" cy="230400"/>
            <a:chOff x="3581280" y="4498920"/>
            <a:chExt cx="532080" cy="230400"/>
          </a:xfrm>
        </p:grpSpPr>
        <p:sp>
          <p:nvSpPr>
            <p:cNvPr id="465" name=""/>
            <p:cNvSpPr/>
            <p:nvPr/>
          </p:nvSpPr>
          <p:spPr>
            <a:xfrm>
              <a:off x="3586320" y="4597560"/>
              <a:ext cx="52524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1280" y="45655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81280" y="45655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6320" y="4498920"/>
              <a:ext cx="52524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662280" y="4511520"/>
              <a:ext cx="371520" cy="108000"/>
              <a:chOff x="3662280" y="4511520"/>
              <a:chExt cx="371520" cy="1080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3662280" y="4511520"/>
                <a:ext cx="368280" cy="104760"/>
                <a:chOff x="3662280" y="4511520"/>
                <a:chExt cx="368280" cy="104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854520" y="45147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854520" y="45147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62280" y="45655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662280" y="45655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672000" y="45115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672000" y="45115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846600" y="45705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46600" y="45705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665520" y="4514760"/>
                <a:ext cx="368280" cy="104760"/>
                <a:chOff x="3665520" y="4514760"/>
                <a:chExt cx="368280" cy="104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857760" y="45165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857760" y="45165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65520" y="45687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65520" y="45687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675240" y="45147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675240" y="45147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851280" y="45734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851280" y="45734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"/>
            <p:cNvSpPr/>
            <p:nvPr/>
          </p:nvSpPr>
          <p:spPr>
            <a:xfrm>
              <a:off x="3581280" y="45640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3360" y="45640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209680" y="3889440"/>
            <a:ext cx="532080" cy="222120"/>
            <a:chOff x="2209680" y="3889440"/>
            <a:chExt cx="532080" cy="222120"/>
          </a:xfrm>
        </p:grpSpPr>
        <p:sp>
          <p:nvSpPr>
            <p:cNvPr id="491" name=""/>
            <p:cNvSpPr/>
            <p:nvPr/>
          </p:nvSpPr>
          <p:spPr>
            <a:xfrm>
              <a:off x="2214720" y="3984480"/>
              <a:ext cx="525240" cy="12708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3954600"/>
              <a:ext cx="532080" cy="95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9680" y="3954600"/>
              <a:ext cx="532080" cy="95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14720" y="3889440"/>
              <a:ext cx="525240" cy="12708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290680" y="3902040"/>
              <a:ext cx="371520" cy="103320"/>
              <a:chOff x="2290680" y="3902040"/>
              <a:chExt cx="371520" cy="10332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290680" y="3902040"/>
                <a:ext cx="368280" cy="100080"/>
                <a:chOff x="2290680" y="3902040"/>
                <a:chExt cx="368280" cy="1000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482920" y="3905280"/>
                  <a:ext cx="176040" cy="42840"/>
                </a:xfrm>
                <a:custGeom>
                  <a:avLst/>
                  <a:gdLst/>
                  <a:ahLst/>
                  <a:rect l="l" t="t" r="r" b="b"/>
                  <a:pathLst>
                    <a:path w="111" h="27">
                      <a:moveTo>
                        <a:pt x="0" y="21"/>
                      </a:moveTo>
                      <a:lnTo>
                        <a:pt x="24" y="26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82920" y="3905280"/>
                  <a:ext cx="176040" cy="42840"/>
                </a:xfrm>
                <a:custGeom>
                  <a:avLst/>
                  <a:gdLst/>
                  <a:ahLst/>
                  <a:rect l="l" t="t" r="r" b="b"/>
                  <a:pathLst>
                    <a:path w="111" h="27">
                      <a:moveTo>
                        <a:pt x="0" y="21"/>
                      </a:moveTo>
                      <a:lnTo>
                        <a:pt x="24" y="26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290680" y="395460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290680" y="395460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00400" y="390204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2"/>
                      </a:lnTo>
                      <a:lnTo>
                        <a:pt x="96" y="27"/>
                      </a:lnTo>
                      <a:lnTo>
                        <a:pt x="26" y="27"/>
                      </a:lnTo>
                      <a:lnTo>
                        <a:pt x="55" y="2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300400" y="390204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2"/>
                      </a:lnTo>
                      <a:lnTo>
                        <a:pt x="96" y="27"/>
                      </a:lnTo>
                      <a:lnTo>
                        <a:pt x="26" y="27"/>
                      </a:lnTo>
                      <a:lnTo>
                        <a:pt x="55" y="2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5000" y="3959280"/>
                  <a:ext cx="17784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111" y="20"/>
                      </a:moveTo>
                      <a:lnTo>
                        <a:pt x="86" y="26"/>
                      </a:lnTo>
                      <a:lnTo>
                        <a:pt x="29" y="9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475000" y="3959280"/>
                  <a:ext cx="17784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111" y="20"/>
                      </a:moveTo>
                      <a:lnTo>
                        <a:pt x="86" y="26"/>
                      </a:lnTo>
                      <a:lnTo>
                        <a:pt x="29" y="9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2293920" y="3905280"/>
                <a:ext cx="368280" cy="100080"/>
                <a:chOff x="2293920" y="3905280"/>
                <a:chExt cx="368280" cy="1000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486160" y="3906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86160" y="3906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293920" y="395604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93920" y="395604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303640" y="3905280"/>
                  <a:ext cx="17748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6"/>
                      </a:lnTo>
                      <a:lnTo>
                        <a:pt x="111" y="12"/>
                      </a:lnTo>
                      <a:lnTo>
                        <a:pt x="97" y="26"/>
                      </a:lnTo>
                      <a:lnTo>
                        <a:pt x="27" y="26"/>
                      </a:lnTo>
                      <a:lnTo>
                        <a:pt x="55" y="2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303640" y="3905280"/>
                  <a:ext cx="17748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6"/>
                      </a:lnTo>
                      <a:lnTo>
                        <a:pt x="111" y="12"/>
                      </a:lnTo>
                      <a:lnTo>
                        <a:pt x="97" y="26"/>
                      </a:lnTo>
                      <a:lnTo>
                        <a:pt x="27" y="26"/>
                      </a:lnTo>
                      <a:lnTo>
                        <a:pt x="55" y="2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479680" y="3960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110" y="21"/>
                      </a:moveTo>
                      <a:lnTo>
                        <a:pt x="85" y="27"/>
                      </a:lnTo>
                      <a:lnTo>
                        <a:pt x="28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79680" y="3960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110" y="21"/>
                      </a:moveTo>
                      <a:lnTo>
                        <a:pt x="85" y="27"/>
                      </a:lnTo>
                      <a:lnTo>
                        <a:pt x="28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4" name=""/>
            <p:cNvSpPr/>
            <p:nvPr/>
          </p:nvSpPr>
          <p:spPr>
            <a:xfrm>
              <a:off x="2209680" y="3951360"/>
              <a:ext cx="0" cy="950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41760" y="3951360"/>
              <a:ext cx="0" cy="950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541080" cy="847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028480" y="304812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Hole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38880" y="1981080"/>
            <a:ext cx="0" cy="3505320"/>
          </a:xfrm>
          <a:prstGeom prst="line">
            <a:avLst/>
          </a:prstGeom>
          <a:ln w="507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3657600"/>
            <a:ext cx="1295280" cy="0"/>
          </a:xfrm>
          <a:prstGeom prst="line">
            <a:avLst/>
          </a:prstGeom>
          <a:ln w="1260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257800" y="3432240"/>
            <a:ext cx="911160" cy="458640"/>
            <a:chOff x="5257800" y="3432240"/>
            <a:chExt cx="911160" cy="458640"/>
          </a:xfrm>
        </p:grpSpPr>
        <p:sp>
          <p:nvSpPr>
            <p:cNvPr id="521" name=""/>
            <p:cNvSpPr/>
            <p:nvPr/>
          </p:nvSpPr>
          <p:spPr>
            <a:xfrm>
              <a:off x="5264280" y="3625920"/>
              <a:ext cx="904680" cy="2649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57800" y="3567240"/>
              <a:ext cx="91116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3567240"/>
              <a:ext cx="91116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4280" y="3432240"/>
              <a:ext cx="904680" cy="2649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5396040" y="3460680"/>
              <a:ext cx="635040" cy="209520"/>
              <a:chOff x="5396040" y="3460680"/>
              <a:chExt cx="635040" cy="20952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5396040" y="3460680"/>
                <a:ext cx="630000" cy="204840"/>
                <a:chOff x="5396040" y="3460680"/>
                <a:chExt cx="630000" cy="2048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5724360" y="346536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43"/>
                      </a:moveTo>
                      <a:lnTo>
                        <a:pt x="42" y="55"/>
                      </a:lnTo>
                      <a:lnTo>
                        <a:pt x="143" y="18"/>
                      </a:lnTo>
                      <a:lnTo>
                        <a:pt x="189" y="31"/>
                      </a:lnTo>
                      <a:lnTo>
                        <a:pt x="165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24360" y="346536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43"/>
                      </a:moveTo>
                      <a:lnTo>
                        <a:pt x="42" y="55"/>
                      </a:lnTo>
                      <a:lnTo>
                        <a:pt x="143" y="18"/>
                      </a:lnTo>
                      <a:lnTo>
                        <a:pt x="189" y="31"/>
                      </a:lnTo>
                      <a:lnTo>
                        <a:pt x="165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396040" y="3567240"/>
                  <a:ext cx="30132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8" y="0"/>
                      </a:lnTo>
                      <a:lnTo>
                        <a:pt x="50" y="37"/>
                      </a:lnTo>
                      <a:lnTo>
                        <a:pt x="0" y="24"/>
                      </a:lnTo>
                      <a:lnTo>
                        <a:pt x="25" y="58"/>
                      </a:lnTo>
                      <a:lnTo>
                        <a:pt x="148" y="58"/>
                      </a:lnTo>
                      <a:lnTo>
                        <a:pt x="95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96040" y="3567240"/>
                  <a:ext cx="30132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8" y="0"/>
                      </a:lnTo>
                      <a:lnTo>
                        <a:pt x="50" y="37"/>
                      </a:lnTo>
                      <a:lnTo>
                        <a:pt x="0" y="24"/>
                      </a:lnTo>
                      <a:lnTo>
                        <a:pt x="25" y="58"/>
                      </a:lnTo>
                      <a:lnTo>
                        <a:pt x="148" y="58"/>
                      </a:lnTo>
                      <a:lnTo>
                        <a:pt x="95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413320" y="34606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4" y="34"/>
                      </a:lnTo>
                      <a:lnTo>
                        <a:pt x="189" y="25"/>
                      </a:lnTo>
                      <a:lnTo>
                        <a:pt x="165" y="55"/>
                      </a:lnTo>
                      <a:lnTo>
                        <a:pt x="45" y="55"/>
                      </a:lnTo>
                      <a:lnTo>
                        <a:pt x="95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413320" y="34606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4" y="34"/>
                      </a:lnTo>
                      <a:lnTo>
                        <a:pt x="189" y="25"/>
                      </a:lnTo>
                      <a:lnTo>
                        <a:pt x="165" y="55"/>
                      </a:lnTo>
                      <a:lnTo>
                        <a:pt x="45" y="55"/>
                      </a:lnTo>
                      <a:lnTo>
                        <a:pt x="95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13560" y="357660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188" y="43"/>
                      </a:moveTo>
                      <a:lnTo>
                        <a:pt x="146" y="55"/>
                      </a:lnTo>
                      <a:lnTo>
                        <a:pt x="49" y="18"/>
                      </a:lnTo>
                      <a:lnTo>
                        <a:pt x="0" y="30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9"/>
                      </a:lnTo>
                      <a:lnTo>
                        <a:pt x="188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13560" y="357660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188" y="43"/>
                      </a:moveTo>
                      <a:lnTo>
                        <a:pt x="146" y="55"/>
                      </a:lnTo>
                      <a:lnTo>
                        <a:pt x="49" y="18"/>
                      </a:lnTo>
                      <a:lnTo>
                        <a:pt x="0" y="30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9"/>
                      </a:lnTo>
                      <a:lnTo>
                        <a:pt x="188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402160" y="3465360"/>
                <a:ext cx="628920" cy="204840"/>
                <a:chOff x="5402160" y="3465360"/>
                <a:chExt cx="628920" cy="2048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729400" y="3470400"/>
                  <a:ext cx="301680" cy="87120"/>
                </a:xfrm>
                <a:custGeom>
                  <a:avLst/>
                  <a:gdLst/>
                  <a:ahLst/>
                  <a:rect l="l" t="t" r="r" b="b"/>
                  <a:pathLst>
                    <a:path w="190" h="55">
                      <a:moveTo>
                        <a:pt x="0" y="43"/>
                      </a:moveTo>
                      <a:lnTo>
                        <a:pt x="42" y="54"/>
                      </a:lnTo>
                      <a:lnTo>
                        <a:pt x="143" y="18"/>
                      </a:lnTo>
                      <a:lnTo>
                        <a:pt x="189" y="30"/>
                      </a:lnTo>
                      <a:lnTo>
                        <a:pt x="164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729400" y="3470400"/>
                  <a:ext cx="301680" cy="87120"/>
                </a:xfrm>
                <a:custGeom>
                  <a:avLst/>
                  <a:gdLst/>
                  <a:ahLst/>
                  <a:rect l="l" t="t" r="r" b="b"/>
                  <a:pathLst>
                    <a:path w="190" h="55">
                      <a:moveTo>
                        <a:pt x="0" y="43"/>
                      </a:moveTo>
                      <a:lnTo>
                        <a:pt x="42" y="54"/>
                      </a:lnTo>
                      <a:lnTo>
                        <a:pt x="143" y="18"/>
                      </a:lnTo>
                      <a:lnTo>
                        <a:pt x="189" y="30"/>
                      </a:lnTo>
                      <a:lnTo>
                        <a:pt x="164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402160" y="3571920"/>
                  <a:ext cx="30168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7" y="0"/>
                      </a:lnTo>
                      <a:lnTo>
                        <a:pt x="49" y="37"/>
                      </a:lnTo>
                      <a:lnTo>
                        <a:pt x="0" y="24"/>
                      </a:lnTo>
                      <a:lnTo>
                        <a:pt x="24" y="58"/>
                      </a:lnTo>
                      <a:lnTo>
                        <a:pt x="147" y="58"/>
                      </a:lnTo>
                      <a:lnTo>
                        <a:pt x="94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402160" y="3571920"/>
                  <a:ext cx="30168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7" y="0"/>
                      </a:lnTo>
                      <a:lnTo>
                        <a:pt x="49" y="37"/>
                      </a:lnTo>
                      <a:lnTo>
                        <a:pt x="0" y="24"/>
                      </a:lnTo>
                      <a:lnTo>
                        <a:pt x="24" y="58"/>
                      </a:lnTo>
                      <a:lnTo>
                        <a:pt x="147" y="58"/>
                      </a:lnTo>
                      <a:lnTo>
                        <a:pt x="94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419800" y="346536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2" y="34"/>
                      </a:lnTo>
                      <a:lnTo>
                        <a:pt x="188" y="25"/>
                      </a:lnTo>
                      <a:lnTo>
                        <a:pt x="164" y="55"/>
                      </a:lnTo>
                      <a:lnTo>
                        <a:pt x="45" y="55"/>
                      </a:lnTo>
                      <a:lnTo>
                        <a:pt x="94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419800" y="346536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2" y="34"/>
                      </a:lnTo>
                      <a:lnTo>
                        <a:pt x="188" y="25"/>
                      </a:lnTo>
                      <a:lnTo>
                        <a:pt x="164" y="55"/>
                      </a:lnTo>
                      <a:lnTo>
                        <a:pt x="45" y="55"/>
                      </a:lnTo>
                      <a:lnTo>
                        <a:pt x="94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718240" y="35812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189" y="43"/>
                      </a:moveTo>
                      <a:lnTo>
                        <a:pt x="147" y="55"/>
                      </a:lnTo>
                      <a:lnTo>
                        <a:pt x="49" y="18"/>
                      </a:lnTo>
                      <a:lnTo>
                        <a:pt x="0" y="31"/>
                      </a:lnTo>
                      <a:lnTo>
                        <a:pt x="24" y="0"/>
                      </a:lnTo>
                      <a:lnTo>
                        <a:pt x="147" y="0"/>
                      </a:lnTo>
                      <a:lnTo>
                        <a:pt x="95" y="9"/>
                      </a:lnTo>
                      <a:lnTo>
                        <a:pt x="189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18240" y="35812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189" y="43"/>
                      </a:moveTo>
                      <a:lnTo>
                        <a:pt x="147" y="55"/>
                      </a:lnTo>
                      <a:lnTo>
                        <a:pt x="49" y="18"/>
                      </a:lnTo>
                      <a:lnTo>
                        <a:pt x="0" y="31"/>
                      </a:lnTo>
                      <a:lnTo>
                        <a:pt x="24" y="0"/>
                      </a:lnTo>
                      <a:lnTo>
                        <a:pt x="147" y="0"/>
                      </a:lnTo>
                      <a:lnTo>
                        <a:pt x="95" y="9"/>
                      </a:lnTo>
                      <a:lnTo>
                        <a:pt x="189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>
              <a:off x="5257800" y="3562200"/>
              <a:ext cx="1440" cy="1936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68960" y="3562200"/>
              <a:ext cx="0" cy="1936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181480" y="3780000"/>
            <a:ext cx="3659400" cy="2546280"/>
            <a:chOff x="5181480" y="3780000"/>
            <a:chExt cx="3659400" cy="2546280"/>
          </a:xfrm>
        </p:grpSpPr>
        <p:sp>
          <p:nvSpPr>
            <p:cNvPr id="547" name=""/>
            <p:cNvSpPr/>
            <p:nvPr/>
          </p:nvSpPr>
          <p:spPr>
            <a:xfrm>
              <a:off x="5181480" y="3780000"/>
              <a:ext cx="3659400" cy="2546280"/>
            </a:xfrm>
            <a:custGeom>
              <a:avLst/>
              <a:gdLst/>
              <a:ahLst/>
              <a:rect l="l" t="t" r="r" b="b"/>
              <a:pathLst>
                <a:path w="2305" h="1604">
                  <a:moveTo>
                    <a:pt x="0" y="163"/>
                  </a:moveTo>
                  <a:lnTo>
                    <a:pt x="0" y="403"/>
                  </a:lnTo>
                  <a:lnTo>
                    <a:pt x="0" y="763"/>
                  </a:lnTo>
                  <a:lnTo>
                    <a:pt x="0" y="1603"/>
                  </a:lnTo>
                  <a:lnTo>
                    <a:pt x="384" y="1603"/>
                  </a:lnTo>
                  <a:lnTo>
                    <a:pt x="960" y="1603"/>
                  </a:lnTo>
                  <a:lnTo>
                    <a:pt x="2304" y="1603"/>
                  </a:lnTo>
                  <a:lnTo>
                    <a:pt x="2304" y="763"/>
                  </a:lnTo>
                  <a:lnTo>
                    <a:pt x="2304" y="403"/>
                  </a:lnTo>
                  <a:lnTo>
                    <a:pt x="2304" y="163"/>
                  </a:lnTo>
                  <a:lnTo>
                    <a:pt x="960" y="163"/>
                  </a:lnTo>
                  <a:lnTo>
                    <a:pt x="249" y="0"/>
                  </a:lnTo>
                  <a:lnTo>
                    <a:pt x="384" y="163"/>
                  </a:lnTo>
                  <a:lnTo>
                    <a:pt x="0" y="163"/>
                  </a:lnTo>
                </a:path>
              </a:pathLst>
            </a:custGeom>
            <a:solidFill>
              <a:srgbClr val="ffdc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59240" y="4079880"/>
              <a:ext cx="3502080" cy="22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t’s advertise non used IP networks (in routing protocol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0.0.0/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0.0.0/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6.0.0.0/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05280" y="2133720"/>
            <a:ext cx="1751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066680" y="3276720"/>
            <a:ext cx="762120" cy="304560"/>
          </a:xfrm>
          <a:prstGeom prst="line">
            <a:avLst/>
          </a:prstGeom>
          <a:ln w="1260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k Hole In Action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m Dete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371600" y="2286000"/>
            <a:ext cx="4343040" cy="3123720"/>
            <a:chOff x="1371600" y="2286000"/>
            <a:chExt cx="4343040" cy="3123720"/>
          </a:xfrm>
        </p:grpSpPr>
        <p:grpSp>
          <p:nvGrpSpPr>
            <p:cNvPr id="553" name=""/>
            <p:cNvGrpSpPr/>
            <p:nvPr/>
          </p:nvGrpSpPr>
          <p:grpSpPr>
            <a:xfrm>
              <a:off x="1371600" y="2298600"/>
              <a:ext cx="4330800" cy="3098880"/>
              <a:chOff x="1371600" y="2298600"/>
              <a:chExt cx="4330800" cy="3098880"/>
            </a:xfrm>
          </p:grpSpPr>
          <p:sp>
            <p:nvSpPr>
              <p:cNvPr id="554" name=""/>
              <p:cNvSpPr/>
              <p:nvPr/>
            </p:nvSpPr>
            <p:spPr>
              <a:xfrm>
                <a:off x="2849400" y="2298600"/>
                <a:ext cx="1889280" cy="1281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811160" y="2633760"/>
                <a:ext cx="1446480" cy="1284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405240"/>
                <a:ext cx="974880" cy="10461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665360" y="3867120"/>
                <a:ext cx="1466640" cy="1133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03600" y="4056120"/>
                <a:ext cx="2192400" cy="13413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95720" y="2670120"/>
                <a:ext cx="1406520" cy="10098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07040" y="3321000"/>
                <a:ext cx="1395360" cy="10065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81400" y="3530520"/>
                <a:ext cx="1384200" cy="16560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57480" y="3033720"/>
                <a:ext cx="2809800" cy="1655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371600" y="2286000"/>
              <a:ext cx="4343040" cy="3123720"/>
              <a:chOff x="1371600" y="2286000"/>
              <a:chExt cx="4343040" cy="3123720"/>
            </a:xfrm>
          </p:grpSpPr>
          <p:sp>
            <p:nvSpPr>
              <p:cNvPr id="564" name=""/>
              <p:cNvSpPr/>
              <p:nvPr/>
            </p:nvSpPr>
            <p:spPr>
              <a:xfrm>
                <a:off x="2853360" y="2286000"/>
                <a:ext cx="1905480" cy="12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7" y="7438"/>
                    </a:moveTo>
                    <a:arcTo wR="10800" hR="10800" stAng="-9711714" swAng="8467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7" y="7438"/>
                    </a:moveTo>
                    <a:arcTo wR="10800" hR="10800" stAng="-9711714" swAng="846715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62720" y="2301840"/>
                <a:ext cx="1884960" cy="126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2" y="7421"/>
                    </a:moveTo>
                    <a:arcTo wR="10800" hR="10800" stAng="-9706201" swAng="84550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2" y="7421"/>
                    </a:moveTo>
                    <a:arcTo wR="10800" hR="10800" stAng="-9706201" swAng="8455096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12960" y="2620800"/>
                <a:ext cx="14569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" y="12938"/>
                    </a:moveTo>
                    <a:arcTo wR="10800" hR="10800" stAng="10114779" swAng="7985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" y="12938"/>
                    </a:moveTo>
                    <a:arcTo wR="10800" hR="10800" stAng="10114779" swAng="798592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22320" y="2633760"/>
                <a:ext cx="1434600" cy="12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8" y="12959"/>
                    </a:moveTo>
                    <a:arcTo wR="10800" hR="10800" stAng="10107984" swAng="799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8" y="12959"/>
                    </a:moveTo>
                    <a:arcTo wR="10800" hR="10800" stAng="10107984" swAng="7998632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52760" y="3848400"/>
                <a:ext cx="1509480" cy="116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1" y="20238"/>
                    </a:moveTo>
                    <a:arcTo wR="10800" hR="10800" stAng="3654639" swAng="72854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1" y="20238"/>
                    </a:moveTo>
                    <a:arcTo wR="10800" hR="10800" stAng="3654639" swAng="728541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63560" y="3862800"/>
                <a:ext cx="1490760" cy="113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07" y="20262"/>
                    </a:moveTo>
                    <a:arcTo wR="10800" hR="10800" stAng="3670433" swAng="72729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07" y="20262"/>
                    </a:moveTo>
                    <a:arcTo wR="10800" hR="10800" stAng="3670433" swAng="7272969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7960" y="2660760"/>
                <a:ext cx="140976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2" y="228"/>
                    </a:moveTo>
                    <a:arcTo wR="10800" hR="10800" stAng="-6107953" swAng="78343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2" y="228"/>
                    </a:moveTo>
                    <a:arcTo wR="10800" hR="10800" stAng="-6107953" swAng="783437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18760" y="2670120"/>
                <a:ext cx="1387800" cy="9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10" y="224"/>
                    </a:moveTo>
                    <a:arcTo wR="10800" hR="10800" stAng="-6102023" swAng="78431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10" y="224"/>
                    </a:moveTo>
                    <a:arcTo wR="10800" hR="10800" stAng="-6102023" swAng="7843133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95720" y="3283560"/>
                <a:ext cx="1618920" cy="1096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90" y="2401"/>
                    </a:moveTo>
                    <a:arcTo wR="10800" hR="10800" stAng="-3062859" swAng="51524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90" y="2401"/>
                    </a:moveTo>
                    <a:arcTo wR="10800" hR="10800" stAng="-3062859" swAng="5152402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05080" y="3297240"/>
                <a:ext cx="1600200" cy="10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48" y="2367"/>
                    </a:moveTo>
                    <a:arcTo wR="10800" hR="10800" stAng="-3080014" swAng="51844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48" y="2367"/>
                    </a:moveTo>
                    <a:arcTo wR="10800" hR="10800" stAng="-3080014" swAng="5184448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61960" y="3546000"/>
                <a:ext cx="1427400" cy="167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87" y="7841"/>
                    </a:moveTo>
                    <a:arcTo wR="10800" hR="10800" stAng="-954136" swAng="75088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87" y="7841"/>
                    </a:moveTo>
                    <a:arcTo wR="10800" hR="10800" stAng="-954136" swAng="7508821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72400" y="3556080"/>
                <a:ext cx="1405800" cy="164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88" y="7844"/>
                    </a:moveTo>
                    <a:arcTo wR="10800" hR="10800" stAng="-952931" swAng="75170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88" y="7844"/>
                    </a:moveTo>
                    <a:arcTo wR="10800" hR="10800" stAng="-952931" swAng="7517024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397320"/>
                <a:ext cx="1028160" cy="106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29" y="20631"/>
                    </a:moveTo>
                    <a:arcTo wR="10800" hR="10800" stAng="6867372" swAng="90788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29" y="20631"/>
                    </a:moveTo>
                    <a:arcTo wR="10800" hR="10800" stAng="6867372" swAng="9078820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80960" y="3409920"/>
                <a:ext cx="1009800" cy="10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77" y="20653"/>
                    </a:moveTo>
                    <a:arcTo wR="10800" hR="10800" stAng="6850434" swAng="9090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77" y="20653"/>
                    </a:moveTo>
                    <a:arcTo wR="10800" hR="10800" stAng="6850434" swAng="9090993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19800" y="4165920"/>
                <a:ext cx="2150640" cy="12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30" y="16874"/>
                    </a:moveTo>
                    <a:arcTo wR="10800" hR="10800" stAng="2053403" swAng="81029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30" y="16874"/>
                    </a:moveTo>
                    <a:arcTo wR="10800" hR="10800" stAng="2053403" swAng="81029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725920" y="4178520"/>
                <a:ext cx="2129760" cy="121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02" y="16915"/>
                    </a:moveTo>
                    <a:arcTo wR="10800" hR="10800" stAng="2069179" swAng="8082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02" y="16915"/>
                    </a:moveTo>
                    <a:arcTo wR="10800" hR="10800" stAng="2069179" swAng="8082310"/>
                  </a:path>
                </a:pathLst>
              </a:custGeom>
              <a:solidFill>
                <a:srgbClr val="e7eded"/>
              </a:solidFill>
              <a:ln cap="rnd" w="12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2819520" y="3051000"/>
            <a:ext cx="531720" cy="230400"/>
            <a:chOff x="2819520" y="3051000"/>
            <a:chExt cx="531720" cy="230400"/>
          </a:xfrm>
        </p:grpSpPr>
        <p:sp>
          <p:nvSpPr>
            <p:cNvPr id="581" name=""/>
            <p:cNvSpPr/>
            <p:nvPr/>
          </p:nvSpPr>
          <p:spPr>
            <a:xfrm>
              <a:off x="2824200" y="3149640"/>
              <a:ext cx="52560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19520" y="31179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19520" y="31179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24200" y="3051000"/>
              <a:ext cx="52560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900520" y="3063960"/>
              <a:ext cx="371160" cy="108000"/>
              <a:chOff x="2900520" y="3063960"/>
              <a:chExt cx="371160" cy="10800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900520" y="3063960"/>
                <a:ext cx="368280" cy="104760"/>
                <a:chOff x="2900520" y="3063960"/>
                <a:chExt cx="368280" cy="1047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3092400" y="30672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92400" y="30672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00520" y="31179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900520" y="31179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909880" y="30639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909880" y="30639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084480" y="31226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084480" y="31226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03400" y="3067200"/>
                <a:ext cx="368280" cy="104760"/>
                <a:chOff x="2903400" y="3067200"/>
                <a:chExt cx="368280" cy="1047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5640" y="30686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95640" y="30686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903400" y="31212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903400" y="31212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913120" y="30672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913120" y="30672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089160" y="31258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89160" y="31258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" name=""/>
            <p:cNvSpPr/>
            <p:nvPr/>
          </p:nvSpPr>
          <p:spPr>
            <a:xfrm>
              <a:off x="2819520" y="31161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51240" y="31161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733920" y="3508200"/>
            <a:ext cx="531720" cy="230400"/>
            <a:chOff x="3733920" y="3508200"/>
            <a:chExt cx="531720" cy="230400"/>
          </a:xfrm>
        </p:grpSpPr>
        <p:sp>
          <p:nvSpPr>
            <p:cNvPr id="607" name=""/>
            <p:cNvSpPr/>
            <p:nvPr/>
          </p:nvSpPr>
          <p:spPr>
            <a:xfrm>
              <a:off x="3738600" y="3606840"/>
              <a:ext cx="52560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33920" y="35751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3575160"/>
              <a:ext cx="531720" cy="982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38600" y="3508200"/>
              <a:ext cx="52560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3814920" y="3521160"/>
              <a:ext cx="371160" cy="108000"/>
              <a:chOff x="3814920" y="3521160"/>
              <a:chExt cx="371160" cy="1080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3814920" y="3521160"/>
                <a:ext cx="368280" cy="104760"/>
                <a:chOff x="3814920" y="3521160"/>
                <a:chExt cx="368280" cy="1047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4006800" y="35244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006800" y="3524400"/>
                  <a:ext cx="176400" cy="4428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814920" y="35751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14920" y="3575160"/>
                  <a:ext cx="176040" cy="4896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24280" y="35211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824280" y="352116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8880" y="35798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8880" y="3579840"/>
                  <a:ext cx="17784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3817800" y="3524400"/>
                <a:ext cx="368280" cy="104760"/>
                <a:chOff x="3817800" y="3524400"/>
                <a:chExt cx="368280" cy="104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010040" y="35258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010040" y="35258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17800" y="35784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17800" y="357840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27520" y="35244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27520" y="352440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003560" y="35830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003560" y="358308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"/>
            <p:cNvSpPr/>
            <p:nvPr/>
          </p:nvSpPr>
          <p:spPr>
            <a:xfrm>
              <a:off x="3733920" y="35733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5640" y="3573360"/>
              <a:ext cx="0" cy="986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267080" y="2898720"/>
            <a:ext cx="532080" cy="230400"/>
            <a:chOff x="4267080" y="2898720"/>
            <a:chExt cx="532080" cy="230400"/>
          </a:xfrm>
        </p:grpSpPr>
        <p:sp>
          <p:nvSpPr>
            <p:cNvPr id="633" name=""/>
            <p:cNvSpPr/>
            <p:nvPr/>
          </p:nvSpPr>
          <p:spPr>
            <a:xfrm>
              <a:off x="4272120" y="2997360"/>
              <a:ext cx="52524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29653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67080" y="29653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72120" y="2898720"/>
              <a:ext cx="52524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48080" y="2911320"/>
              <a:ext cx="371520" cy="108000"/>
              <a:chOff x="4348080" y="2911320"/>
              <a:chExt cx="371520" cy="1080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4348080" y="2911320"/>
                <a:ext cx="368280" cy="104760"/>
                <a:chOff x="4348080" y="2911320"/>
                <a:chExt cx="368280" cy="104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540320" y="29145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540320" y="29145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48080" y="29653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348080" y="29653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57800" y="29113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357800" y="29113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532400" y="29703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532400" y="29703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351320" y="2914560"/>
                <a:ext cx="368280" cy="104760"/>
                <a:chOff x="4351320" y="2914560"/>
                <a:chExt cx="368280" cy="104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543560" y="29163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543560" y="29163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351320" y="29685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351320" y="29685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361040" y="29145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361040" y="29145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537080" y="29732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537080" y="29732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4267080" y="29638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99160" y="29638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581280" y="4498920"/>
            <a:ext cx="532080" cy="230400"/>
            <a:chOff x="3581280" y="4498920"/>
            <a:chExt cx="532080" cy="230400"/>
          </a:xfrm>
        </p:grpSpPr>
        <p:sp>
          <p:nvSpPr>
            <p:cNvPr id="659" name=""/>
            <p:cNvSpPr/>
            <p:nvPr/>
          </p:nvSpPr>
          <p:spPr>
            <a:xfrm>
              <a:off x="3586320" y="4597560"/>
              <a:ext cx="525240" cy="1317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45655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81280" y="4565520"/>
              <a:ext cx="532080" cy="986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6320" y="4498920"/>
              <a:ext cx="525240" cy="1317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662280" y="4511520"/>
              <a:ext cx="371520" cy="108000"/>
              <a:chOff x="3662280" y="4511520"/>
              <a:chExt cx="371520" cy="10800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3662280" y="4511520"/>
                <a:ext cx="368280" cy="104760"/>
                <a:chOff x="3662280" y="4511520"/>
                <a:chExt cx="368280" cy="1047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854520" y="45147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854520" y="451476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662280" y="45655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662280" y="4565520"/>
                  <a:ext cx="176400" cy="49320"/>
                </a:xfrm>
                <a:custGeom>
                  <a:avLst/>
                  <a:gdLst/>
                  <a:ahLst/>
                  <a:rect l="l" t="t" r="r" b="b"/>
                  <a:pathLst>
                    <a:path w="111" h="31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9"/>
                      </a:lnTo>
                      <a:lnTo>
                        <a:pt x="0" y="13"/>
                      </a:lnTo>
                      <a:lnTo>
                        <a:pt x="14" y="30"/>
                      </a:lnTo>
                      <a:lnTo>
                        <a:pt x="86" y="30"/>
                      </a:lnTo>
                      <a:lnTo>
                        <a:pt x="55" y="24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72000" y="45115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672000" y="451152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3"/>
                      </a:lnTo>
                      <a:lnTo>
                        <a:pt x="96" y="28"/>
                      </a:lnTo>
                      <a:lnTo>
                        <a:pt x="26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846600" y="45705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846600" y="4570560"/>
                  <a:ext cx="177840" cy="4572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111" y="22"/>
                      </a:moveTo>
                      <a:lnTo>
                        <a:pt x="86" y="28"/>
                      </a:lnTo>
                      <a:lnTo>
                        <a:pt x="29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665520" y="4514760"/>
                <a:ext cx="368280" cy="104760"/>
                <a:chOff x="3665520" y="4514760"/>
                <a:chExt cx="368280" cy="1047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3857760" y="45165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857760" y="451656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0" y="22"/>
                      </a:moveTo>
                      <a:lnTo>
                        <a:pt x="24" y="28"/>
                      </a:lnTo>
                      <a:lnTo>
                        <a:pt x="83" y="9"/>
                      </a:lnTo>
                      <a:lnTo>
                        <a:pt x="110" y="16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665520" y="45687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65520" y="4568760"/>
                  <a:ext cx="176400" cy="47520"/>
                </a:xfrm>
                <a:custGeom>
                  <a:avLst/>
                  <a:gdLst/>
                  <a:ahLst/>
                  <a:rect l="l" t="t" r="r" b="b"/>
                  <a:pathLst>
                    <a:path w="111" h="30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9"/>
                      </a:lnTo>
                      <a:lnTo>
                        <a:pt x="86" y="29"/>
                      </a:lnTo>
                      <a:lnTo>
                        <a:pt x="55" y="23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675240" y="45147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675240" y="4514760"/>
                  <a:ext cx="177480" cy="46080"/>
                </a:xfrm>
                <a:custGeom>
                  <a:avLst/>
                  <a:gdLst/>
                  <a:ahLst/>
                  <a:rect l="l" t="t" r="r" b="b"/>
                  <a:pathLst>
                    <a:path w="112" h="29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1" y="13"/>
                      </a:lnTo>
                      <a:lnTo>
                        <a:pt x="97" y="28"/>
                      </a:lnTo>
                      <a:lnTo>
                        <a:pt x="27" y="28"/>
                      </a:lnTo>
                      <a:lnTo>
                        <a:pt x="55" y="2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851280" y="45734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851280" y="4573440"/>
                  <a:ext cx="17604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22"/>
                      </a:moveTo>
                      <a:lnTo>
                        <a:pt x="85" y="28"/>
                      </a:lnTo>
                      <a:lnTo>
                        <a:pt x="28" y="9"/>
                      </a:lnTo>
                      <a:lnTo>
                        <a:pt x="0" y="16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2" name=""/>
            <p:cNvSpPr/>
            <p:nvPr/>
          </p:nvSpPr>
          <p:spPr>
            <a:xfrm>
              <a:off x="3581280" y="45640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13360" y="4564080"/>
              <a:ext cx="0" cy="982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2209680" y="3889440"/>
            <a:ext cx="532080" cy="222120"/>
            <a:chOff x="2209680" y="3889440"/>
            <a:chExt cx="532080" cy="222120"/>
          </a:xfrm>
        </p:grpSpPr>
        <p:sp>
          <p:nvSpPr>
            <p:cNvPr id="685" name=""/>
            <p:cNvSpPr/>
            <p:nvPr/>
          </p:nvSpPr>
          <p:spPr>
            <a:xfrm>
              <a:off x="2214720" y="3984480"/>
              <a:ext cx="525240" cy="12708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09680" y="3954600"/>
              <a:ext cx="532080" cy="95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09680" y="3954600"/>
              <a:ext cx="532080" cy="95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14720" y="3889440"/>
              <a:ext cx="525240" cy="12708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290680" y="3902040"/>
              <a:ext cx="371520" cy="103320"/>
              <a:chOff x="2290680" y="3902040"/>
              <a:chExt cx="371520" cy="1033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2290680" y="3902040"/>
                <a:ext cx="368280" cy="100080"/>
                <a:chOff x="2290680" y="3902040"/>
                <a:chExt cx="368280" cy="1000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2482920" y="3905280"/>
                  <a:ext cx="176040" cy="42840"/>
                </a:xfrm>
                <a:custGeom>
                  <a:avLst/>
                  <a:gdLst/>
                  <a:ahLst/>
                  <a:rect l="l" t="t" r="r" b="b"/>
                  <a:pathLst>
                    <a:path w="111" h="27">
                      <a:moveTo>
                        <a:pt x="0" y="21"/>
                      </a:moveTo>
                      <a:lnTo>
                        <a:pt x="24" y="26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482920" y="3905280"/>
                  <a:ext cx="176040" cy="42840"/>
                </a:xfrm>
                <a:custGeom>
                  <a:avLst/>
                  <a:gdLst/>
                  <a:ahLst/>
                  <a:rect l="l" t="t" r="r" b="b"/>
                  <a:pathLst>
                    <a:path w="111" h="27">
                      <a:moveTo>
                        <a:pt x="0" y="21"/>
                      </a:moveTo>
                      <a:lnTo>
                        <a:pt x="24" y="26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290680" y="395460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290680" y="395460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00400" y="390204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2"/>
                      </a:lnTo>
                      <a:lnTo>
                        <a:pt x="96" y="27"/>
                      </a:lnTo>
                      <a:lnTo>
                        <a:pt x="26" y="27"/>
                      </a:lnTo>
                      <a:lnTo>
                        <a:pt x="55" y="2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300400" y="390204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7"/>
                      </a:lnTo>
                      <a:lnTo>
                        <a:pt x="110" y="12"/>
                      </a:lnTo>
                      <a:lnTo>
                        <a:pt x="96" y="27"/>
                      </a:lnTo>
                      <a:lnTo>
                        <a:pt x="26" y="27"/>
                      </a:lnTo>
                      <a:lnTo>
                        <a:pt x="55" y="2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475000" y="3959280"/>
                  <a:ext cx="17784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111" y="20"/>
                      </a:moveTo>
                      <a:lnTo>
                        <a:pt x="86" y="26"/>
                      </a:lnTo>
                      <a:lnTo>
                        <a:pt x="29" y="9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475000" y="3959280"/>
                  <a:ext cx="17784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111" y="20"/>
                      </a:moveTo>
                      <a:lnTo>
                        <a:pt x="86" y="26"/>
                      </a:lnTo>
                      <a:lnTo>
                        <a:pt x="29" y="9"/>
                      </a:ln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86" y="0"/>
                      </a:lnTo>
                      <a:lnTo>
                        <a:pt x="56" y="4"/>
                      </a:lnTo>
                      <a:lnTo>
                        <a:pt x="111" y="2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293920" y="3905280"/>
                <a:ext cx="368280" cy="100080"/>
                <a:chOff x="2293920" y="3905280"/>
                <a:chExt cx="368280" cy="1000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486160" y="3906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486160" y="3906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21"/>
                      </a:moveTo>
                      <a:lnTo>
                        <a:pt x="24" y="27"/>
                      </a:lnTo>
                      <a:lnTo>
                        <a:pt x="83" y="9"/>
                      </a:lnTo>
                      <a:lnTo>
                        <a:pt x="110" y="15"/>
                      </a:lnTo>
                      <a:lnTo>
                        <a:pt x="96" y="0"/>
                      </a:lnTo>
                      <a:lnTo>
                        <a:pt x="26" y="0"/>
                      </a:lnTo>
                      <a:lnTo>
                        <a:pt x="55" y="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293920" y="395604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293920" y="3956040"/>
                  <a:ext cx="176400" cy="46080"/>
                </a:xfrm>
                <a:custGeom>
                  <a:avLst/>
                  <a:gdLst/>
                  <a:ahLst/>
                  <a:rect l="l" t="t" r="r" b="b"/>
                  <a:pathLst>
                    <a:path w="111" h="29">
                      <a:moveTo>
                        <a:pt x="110" y="6"/>
                      </a:moveTo>
                      <a:lnTo>
                        <a:pt x="86" y="0"/>
                      </a:lnTo>
                      <a:lnTo>
                        <a:pt x="29" y="18"/>
                      </a:lnTo>
                      <a:lnTo>
                        <a:pt x="0" y="12"/>
                      </a:lnTo>
                      <a:lnTo>
                        <a:pt x="14" y="28"/>
                      </a:lnTo>
                      <a:lnTo>
                        <a:pt x="86" y="28"/>
                      </a:lnTo>
                      <a:lnTo>
                        <a:pt x="55" y="22"/>
                      </a:lnTo>
                      <a:lnTo>
                        <a:pt x="11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303640" y="3905280"/>
                  <a:ext cx="17748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6"/>
                      </a:lnTo>
                      <a:lnTo>
                        <a:pt x="111" y="12"/>
                      </a:lnTo>
                      <a:lnTo>
                        <a:pt x="97" y="26"/>
                      </a:lnTo>
                      <a:lnTo>
                        <a:pt x="27" y="26"/>
                      </a:lnTo>
                      <a:lnTo>
                        <a:pt x="55" y="2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303640" y="3905280"/>
                  <a:ext cx="177480" cy="42840"/>
                </a:xfrm>
                <a:custGeom>
                  <a:avLst/>
                  <a:gdLst/>
                  <a:ahLst/>
                  <a:rect l="l" t="t" r="r" b="b"/>
                  <a:pathLst>
                    <a:path w="112" h="27">
                      <a:moveTo>
                        <a:pt x="0" y="6"/>
                      </a:moveTo>
                      <a:lnTo>
                        <a:pt x="25" y="0"/>
                      </a:lnTo>
                      <a:lnTo>
                        <a:pt x="84" y="16"/>
                      </a:lnTo>
                      <a:lnTo>
                        <a:pt x="111" y="12"/>
                      </a:lnTo>
                      <a:lnTo>
                        <a:pt x="97" y="26"/>
                      </a:lnTo>
                      <a:lnTo>
                        <a:pt x="27" y="26"/>
                      </a:lnTo>
                      <a:lnTo>
                        <a:pt x="55" y="2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479680" y="3960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110" y="21"/>
                      </a:moveTo>
                      <a:lnTo>
                        <a:pt x="85" y="27"/>
                      </a:lnTo>
                      <a:lnTo>
                        <a:pt x="28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479680" y="3960720"/>
                  <a:ext cx="176040" cy="4464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110" y="21"/>
                      </a:moveTo>
                      <a:lnTo>
                        <a:pt x="85" y="27"/>
                      </a:lnTo>
                      <a:lnTo>
                        <a:pt x="28" y="9"/>
                      </a:lnTo>
                      <a:lnTo>
                        <a:pt x="0" y="15"/>
                      </a:lnTo>
                      <a:lnTo>
                        <a:pt x="14" y="0"/>
                      </a:lnTo>
                      <a:lnTo>
                        <a:pt x="85" y="0"/>
                      </a:lnTo>
                      <a:lnTo>
                        <a:pt x="55" y="5"/>
                      </a:lnTo>
                      <a:lnTo>
                        <a:pt x="110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8" name=""/>
            <p:cNvSpPr/>
            <p:nvPr/>
          </p:nvSpPr>
          <p:spPr>
            <a:xfrm>
              <a:off x="2209680" y="3951360"/>
              <a:ext cx="0" cy="950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41760" y="3951360"/>
              <a:ext cx="0" cy="9504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05280" y="2133720"/>
            <a:ext cx="1751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541080" cy="8478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5028480" y="304812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Hole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1981080"/>
            <a:ext cx="0" cy="3505320"/>
          </a:xfrm>
          <a:prstGeom prst="line">
            <a:avLst/>
          </a:prstGeom>
          <a:ln w="507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3600" y="3657600"/>
            <a:ext cx="1752480" cy="0"/>
          </a:xfrm>
          <a:prstGeom prst="line">
            <a:avLst/>
          </a:prstGeom>
          <a:ln w="1260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257800" y="3432240"/>
            <a:ext cx="911160" cy="458640"/>
            <a:chOff x="5257800" y="3432240"/>
            <a:chExt cx="911160" cy="458640"/>
          </a:xfrm>
        </p:grpSpPr>
        <p:sp>
          <p:nvSpPr>
            <p:cNvPr id="716" name=""/>
            <p:cNvSpPr/>
            <p:nvPr/>
          </p:nvSpPr>
          <p:spPr>
            <a:xfrm>
              <a:off x="5264280" y="3625920"/>
              <a:ext cx="904680" cy="264960"/>
            </a:xfrm>
            <a:prstGeom prst="ellipse">
              <a:avLst/>
            </a:prstGeom>
            <a:solidFill>
              <a:srgbClr val="0078aa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57800" y="3567240"/>
              <a:ext cx="91116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57800" y="3567240"/>
              <a:ext cx="911160" cy="1936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64280" y="3432240"/>
              <a:ext cx="904680" cy="264960"/>
            </a:xfrm>
            <a:prstGeom prst="ellipse">
              <a:avLst/>
            </a:prstGeom>
            <a:solidFill>
              <a:srgbClr val="00b4ff"/>
            </a:solidFill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396040" y="3460680"/>
              <a:ext cx="635040" cy="209520"/>
              <a:chOff x="5396040" y="3460680"/>
              <a:chExt cx="635040" cy="2095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396040" y="3460680"/>
                <a:ext cx="630000" cy="204840"/>
                <a:chOff x="5396040" y="3460680"/>
                <a:chExt cx="630000" cy="2048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724360" y="346536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43"/>
                      </a:moveTo>
                      <a:lnTo>
                        <a:pt x="42" y="55"/>
                      </a:lnTo>
                      <a:lnTo>
                        <a:pt x="143" y="18"/>
                      </a:lnTo>
                      <a:lnTo>
                        <a:pt x="189" y="31"/>
                      </a:lnTo>
                      <a:lnTo>
                        <a:pt x="165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724360" y="346536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43"/>
                      </a:moveTo>
                      <a:lnTo>
                        <a:pt x="42" y="55"/>
                      </a:lnTo>
                      <a:lnTo>
                        <a:pt x="143" y="18"/>
                      </a:lnTo>
                      <a:lnTo>
                        <a:pt x="189" y="31"/>
                      </a:lnTo>
                      <a:lnTo>
                        <a:pt x="165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396040" y="3567240"/>
                  <a:ext cx="30132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8" y="0"/>
                      </a:lnTo>
                      <a:lnTo>
                        <a:pt x="50" y="37"/>
                      </a:lnTo>
                      <a:lnTo>
                        <a:pt x="0" y="24"/>
                      </a:lnTo>
                      <a:lnTo>
                        <a:pt x="25" y="58"/>
                      </a:lnTo>
                      <a:lnTo>
                        <a:pt x="148" y="58"/>
                      </a:lnTo>
                      <a:lnTo>
                        <a:pt x="95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396040" y="3567240"/>
                  <a:ext cx="30132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8" y="0"/>
                      </a:lnTo>
                      <a:lnTo>
                        <a:pt x="50" y="37"/>
                      </a:lnTo>
                      <a:lnTo>
                        <a:pt x="0" y="24"/>
                      </a:lnTo>
                      <a:lnTo>
                        <a:pt x="25" y="58"/>
                      </a:lnTo>
                      <a:lnTo>
                        <a:pt x="148" y="58"/>
                      </a:lnTo>
                      <a:lnTo>
                        <a:pt x="95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413320" y="34606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4" y="34"/>
                      </a:lnTo>
                      <a:lnTo>
                        <a:pt x="189" y="25"/>
                      </a:lnTo>
                      <a:lnTo>
                        <a:pt x="165" y="55"/>
                      </a:lnTo>
                      <a:lnTo>
                        <a:pt x="45" y="55"/>
                      </a:lnTo>
                      <a:lnTo>
                        <a:pt x="95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413320" y="34606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4" y="34"/>
                      </a:lnTo>
                      <a:lnTo>
                        <a:pt x="189" y="25"/>
                      </a:lnTo>
                      <a:lnTo>
                        <a:pt x="165" y="55"/>
                      </a:lnTo>
                      <a:lnTo>
                        <a:pt x="45" y="55"/>
                      </a:lnTo>
                      <a:lnTo>
                        <a:pt x="95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713560" y="357660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188" y="43"/>
                      </a:moveTo>
                      <a:lnTo>
                        <a:pt x="146" y="55"/>
                      </a:lnTo>
                      <a:lnTo>
                        <a:pt x="49" y="18"/>
                      </a:lnTo>
                      <a:lnTo>
                        <a:pt x="0" y="30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9"/>
                      </a:lnTo>
                      <a:lnTo>
                        <a:pt x="188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3560" y="357660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188" y="43"/>
                      </a:moveTo>
                      <a:lnTo>
                        <a:pt x="146" y="55"/>
                      </a:lnTo>
                      <a:lnTo>
                        <a:pt x="49" y="18"/>
                      </a:lnTo>
                      <a:lnTo>
                        <a:pt x="0" y="30"/>
                      </a:lnTo>
                      <a:lnTo>
                        <a:pt x="24" y="0"/>
                      </a:lnTo>
                      <a:lnTo>
                        <a:pt x="146" y="0"/>
                      </a:lnTo>
                      <a:lnTo>
                        <a:pt x="94" y="9"/>
                      </a:lnTo>
                      <a:lnTo>
                        <a:pt x="188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402160" y="3465360"/>
                <a:ext cx="628920" cy="204840"/>
                <a:chOff x="5402160" y="3465360"/>
                <a:chExt cx="628920" cy="2048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29400" y="3470400"/>
                  <a:ext cx="301680" cy="87120"/>
                </a:xfrm>
                <a:custGeom>
                  <a:avLst/>
                  <a:gdLst/>
                  <a:ahLst/>
                  <a:rect l="l" t="t" r="r" b="b"/>
                  <a:pathLst>
                    <a:path w="190" h="55">
                      <a:moveTo>
                        <a:pt x="0" y="43"/>
                      </a:moveTo>
                      <a:lnTo>
                        <a:pt x="42" y="54"/>
                      </a:lnTo>
                      <a:lnTo>
                        <a:pt x="143" y="18"/>
                      </a:lnTo>
                      <a:lnTo>
                        <a:pt x="189" y="30"/>
                      </a:lnTo>
                      <a:lnTo>
                        <a:pt x="164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29400" y="3470400"/>
                  <a:ext cx="301680" cy="87120"/>
                </a:xfrm>
                <a:custGeom>
                  <a:avLst/>
                  <a:gdLst/>
                  <a:ahLst/>
                  <a:rect l="l" t="t" r="r" b="b"/>
                  <a:pathLst>
                    <a:path w="190" h="55">
                      <a:moveTo>
                        <a:pt x="0" y="43"/>
                      </a:moveTo>
                      <a:lnTo>
                        <a:pt x="42" y="54"/>
                      </a:lnTo>
                      <a:lnTo>
                        <a:pt x="143" y="18"/>
                      </a:lnTo>
                      <a:lnTo>
                        <a:pt x="189" y="30"/>
                      </a:lnTo>
                      <a:lnTo>
                        <a:pt x="164" y="0"/>
                      </a:lnTo>
                      <a:lnTo>
                        <a:pt x="45" y="0"/>
                      </a:lnTo>
                      <a:lnTo>
                        <a:pt x="95" y="9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402160" y="3571920"/>
                  <a:ext cx="30168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7" y="0"/>
                      </a:lnTo>
                      <a:lnTo>
                        <a:pt x="49" y="37"/>
                      </a:lnTo>
                      <a:lnTo>
                        <a:pt x="0" y="24"/>
                      </a:lnTo>
                      <a:lnTo>
                        <a:pt x="24" y="58"/>
                      </a:lnTo>
                      <a:lnTo>
                        <a:pt x="147" y="58"/>
                      </a:lnTo>
                      <a:lnTo>
                        <a:pt x="94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402160" y="3571920"/>
                  <a:ext cx="30168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89" y="12"/>
                      </a:moveTo>
                      <a:lnTo>
                        <a:pt x="147" y="0"/>
                      </a:lnTo>
                      <a:lnTo>
                        <a:pt x="49" y="37"/>
                      </a:lnTo>
                      <a:lnTo>
                        <a:pt x="0" y="24"/>
                      </a:lnTo>
                      <a:lnTo>
                        <a:pt x="24" y="58"/>
                      </a:lnTo>
                      <a:lnTo>
                        <a:pt x="147" y="58"/>
                      </a:lnTo>
                      <a:lnTo>
                        <a:pt x="94" y="46"/>
                      </a:lnTo>
                      <a:lnTo>
                        <a:pt x="18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419800" y="346536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2" y="34"/>
                      </a:lnTo>
                      <a:lnTo>
                        <a:pt x="188" y="25"/>
                      </a:lnTo>
                      <a:lnTo>
                        <a:pt x="164" y="55"/>
                      </a:lnTo>
                      <a:lnTo>
                        <a:pt x="45" y="55"/>
                      </a:lnTo>
                      <a:lnTo>
                        <a:pt x="94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419800" y="3465360"/>
                  <a:ext cx="299880" cy="88920"/>
                </a:xfrm>
                <a:custGeom>
                  <a:avLst/>
                  <a:gdLst/>
                  <a:ahLst/>
                  <a:rect l="l" t="t" r="r" b="b"/>
                  <a:pathLst>
                    <a:path w="189" h="56">
                      <a:moveTo>
                        <a:pt x="0" y="12"/>
                      </a:moveTo>
                      <a:lnTo>
                        <a:pt x="42" y="0"/>
                      </a:lnTo>
                      <a:lnTo>
                        <a:pt x="142" y="34"/>
                      </a:lnTo>
                      <a:lnTo>
                        <a:pt x="188" y="25"/>
                      </a:lnTo>
                      <a:lnTo>
                        <a:pt x="164" y="55"/>
                      </a:lnTo>
                      <a:lnTo>
                        <a:pt x="45" y="55"/>
                      </a:lnTo>
                      <a:lnTo>
                        <a:pt x="94" y="46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718240" y="35812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189" y="43"/>
                      </a:moveTo>
                      <a:lnTo>
                        <a:pt x="147" y="55"/>
                      </a:lnTo>
                      <a:lnTo>
                        <a:pt x="49" y="18"/>
                      </a:lnTo>
                      <a:lnTo>
                        <a:pt x="0" y="31"/>
                      </a:lnTo>
                      <a:lnTo>
                        <a:pt x="24" y="0"/>
                      </a:lnTo>
                      <a:lnTo>
                        <a:pt x="147" y="0"/>
                      </a:lnTo>
                      <a:lnTo>
                        <a:pt x="95" y="9"/>
                      </a:lnTo>
                      <a:lnTo>
                        <a:pt x="189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718240" y="3581280"/>
                  <a:ext cx="3016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56">
                      <a:moveTo>
                        <a:pt x="189" y="43"/>
                      </a:moveTo>
                      <a:lnTo>
                        <a:pt x="147" y="55"/>
                      </a:lnTo>
                      <a:lnTo>
                        <a:pt x="49" y="18"/>
                      </a:lnTo>
                      <a:lnTo>
                        <a:pt x="0" y="31"/>
                      </a:lnTo>
                      <a:lnTo>
                        <a:pt x="24" y="0"/>
                      </a:lnTo>
                      <a:lnTo>
                        <a:pt x="147" y="0"/>
                      </a:lnTo>
                      <a:lnTo>
                        <a:pt x="95" y="9"/>
                      </a:lnTo>
                      <a:lnTo>
                        <a:pt x="189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5257800" y="3562200"/>
              <a:ext cx="1440" cy="1936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68960" y="3562200"/>
              <a:ext cx="0" cy="193680"/>
            </a:xfrm>
            <a:prstGeom prst="line">
              <a:avLst/>
            </a:prstGeom>
            <a:ln w="1260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0880" y="3562200"/>
            <a:ext cx="3659400" cy="1697040"/>
            <a:chOff x="380880" y="3562200"/>
            <a:chExt cx="3659400" cy="1697040"/>
          </a:xfrm>
        </p:grpSpPr>
        <p:sp>
          <p:nvSpPr>
            <p:cNvPr id="742" name=""/>
            <p:cNvSpPr/>
            <p:nvPr/>
          </p:nvSpPr>
          <p:spPr>
            <a:xfrm>
              <a:off x="380880" y="3562200"/>
              <a:ext cx="3659400" cy="1697040"/>
            </a:xfrm>
            <a:custGeom>
              <a:avLst/>
              <a:gdLst/>
              <a:ahLst/>
              <a:rect l="l" t="t" r="r" b="b"/>
              <a:pathLst>
                <a:path w="2305" h="1069">
                  <a:moveTo>
                    <a:pt x="0" y="444"/>
                  </a:moveTo>
                  <a:lnTo>
                    <a:pt x="0" y="548"/>
                  </a:lnTo>
                  <a:lnTo>
                    <a:pt x="0" y="704"/>
                  </a:lnTo>
                  <a:lnTo>
                    <a:pt x="0" y="1068"/>
                  </a:lnTo>
                  <a:lnTo>
                    <a:pt x="384" y="1068"/>
                  </a:lnTo>
                  <a:lnTo>
                    <a:pt x="960" y="1068"/>
                  </a:lnTo>
                  <a:lnTo>
                    <a:pt x="2304" y="1068"/>
                  </a:lnTo>
                  <a:lnTo>
                    <a:pt x="2304" y="704"/>
                  </a:lnTo>
                  <a:lnTo>
                    <a:pt x="2304" y="548"/>
                  </a:lnTo>
                  <a:lnTo>
                    <a:pt x="2304" y="444"/>
                  </a:lnTo>
                  <a:lnTo>
                    <a:pt x="960" y="444"/>
                  </a:lnTo>
                  <a:lnTo>
                    <a:pt x="292" y="0"/>
                  </a:lnTo>
                  <a:lnTo>
                    <a:pt x="384" y="444"/>
                  </a:lnTo>
                  <a:lnTo>
                    <a:pt x="0" y="444"/>
                  </a:lnTo>
                </a:path>
              </a:pathLst>
            </a:custGeom>
            <a:solidFill>
              <a:srgbClr val="ffdc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8640" y="4308480"/>
              <a:ext cx="35020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t’s infect all other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y:  96.97.98.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20760" y="3268800"/>
            <a:ext cx="5869080" cy="726840"/>
          </a:xfrm>
          <a:custGeom>
            <a:avLst/>
            <a:gdLst/>
            <a:ahLst/>
            <a:rect l="l" t="t" r="r" b="b"/>
            <a:pathLst>
              <a:path w="3697" h="458">
                <a:moveTo>
                  <a:pt x="0" y="6"/>
                </a:moveTo>
                <a:lnTo>
                  <a:pt x="111" y="145"/>
                </a:lnTo>
                <a:lnTo>
                  <a:pt x="226" y="271"/>
                </a:lnTo>
                <a:lnTo>
                  <a:pt x="287" y="326"/>
                </a:lnTo>
                <a:lnTo>
                  <a:pt x="349" y="373"/>
                </a:lnTo>
                <a:lnTo>
                  <a:pt x="412" y="411"/>
                </a:lnTo>
                <a:lnTo>
                  <a:pt x="480" y="438"/>
                </a:lnTo>
                <a:lnTo>
                  <a:pt x="554" y="453"/>
                </a:lnTo>
                <a:lnTo>
                  <a:pt x="635" y="457"/>
                </a:lnTo>
                <a:lnTo>
                  <a:pt x="723" y="451"/>
                </a:lnTo>
                <a:lnTo>
                  <a:pt x="810" y="438"/>
                </a:lnTo>
                <a:lnTo>
                  <a:pt x="896" y="419"/>
                </a:lnTo>
                <a:lnTo>
                  <a:pt x="976" y="395"/>
                </a:lnTo>
                <a:lnTo>
                  <a:pt x="1046" y="369"/>
                </a:lnTo>
                <a:lnTo>
                  <a:pt x="1104" y="342"/>
                </a:lnTo>
                <a:lnTo>
                  <a:pt x="1147" y="308"/>
                </a:lnTo>
                <a:lnTo>
                  <a:pt x="1177" y="264"/>
                </a:lnTo>
                <a:lnTo>
                  <a:pt x="1197" y="212"/>
                </a:lnTo>
                <a:lnTo>
                  <a:pt x="1212" y="159"/>
                </a:lnTo>
                <a:lnTo>
                  <a:pt x="1225" y="107"/>
                </a:lnTo>
                <a:lnTo>
                  <a:pt x="1242" y="61"/>
                </a:lnTo>
                <a:lnTo>
                  <a:pt x="1264" y="27"/>
                </a:lnTo>
                <a:lnTo>
                  <a:pt x="1296" y="6"/>
                </a:lnTo>
                <a:lnTo>
                  <a:pt x="1336" y="0"/>
                </a:lnTo>
                <a:lnTo>
                  <a:pt x="1378" y="8"/>
                </a:lnTo>
                <a:lnTo>
                  <a:pt x="1422" y="23"/>
                </a:lnTo>
                <a:lnTo>
                  <a:pt x="1471" y="45"/>
                </a:lnTo>
                <a:lnTo>
                  <a:pt x="1585" y="99"/>
                </a:lnTo>
                <a:lnTo>
                  <a:pt x="1651" y="126"/>
                </a:lnTo>
                <a:lnTo>
                  <a:pt x="1728" y="150"/>
                </a:lnTo>
                <a:lnTo>
                  <a:pt x="1814" y="175"/>
                </a:lnTo>
                <a:lnTo>
                  <a:pt x="1908" y="204"/>
                </a:lnTo>
                <a:lnTo>
                  <a:pt x="2118" y="269"/>
                </a:lnTo>
                <a:lnTo>
                  <a:pt x="2349" y="323"/>
                </a:lnTo>
                <a:lnTo>
                  <a:pt x="2469" y="337"/>
                </a:lnTo>
                <a:lnTo>
                  <a:pt x="2591" y="342"/>
                </a:lnTo>
                <a:lnTo>
                  <a:pt x="2717" y="335"/>
                </a:lnTo>
                <a:lnTo>
                  <a:pt x="2849" y="317"/>
                </a:lnTo>
                <a:lnTo>
                  <a:pt x="3122" y="262"/>
                </a:lnTo>
                <a:lnTo>
                  <a:pt x="3406" y="187"/>
                </a:lnTo>
                <a:lnTo>
                  <a:pt x="3696" y="102"/>
                </a:lnTo>
              </a:path>
            </a:pathLst>
          </a:custGeom>
          <a:noFill/>
          <a:ln cap="rnd" w="50760">
            <a:solidFill>
              <a:srgbClr val="b92b3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7696080" y="3352680"/>
            <a:ext cx="889200" cy="51912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7543440" y="3962520"/>
            <a:ext cx="122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57400" y="1295280"/>
            <a:ext cx="5791320" cy="1371600"/>
          </a:xfrm>
          <a:prstGeom prst="rect">
            <a:avLst/>
          </a:prstGeom>
          <a:solidFill>
            <a:srgbClr val="eeb3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very same set-up will be use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other g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uld be used for enterprise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56:37Z</dcterms:created>
  <dc:creator/>
  <dc:description/>
  <cp:keywords/>
  <dc:language>en-US</dc:language>
  <cp:lastModifiedBy>Cisco Systems, Inc.</cp:lastModifiedBy>
  <cp:lastPrinted>1999-01-27T00:54:54Z</cp:lastPrinted>
  <dcterms:modified xsi:type="dcterms:W3CDTF">2005-09-09T09:38:30Z</dcterms:modified>
  <cp:revision>330</cp:revision>
  <dc:subject/>
  <dc:title>DoS Mitig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526052</vt:r8>
  </property>
  <property fmtid="{D5CDD505-2E9C-101B-9397-08002B2CF9AE}" pid="3" name="_AuthorEmail">
    <vt:lpwstr>aeisenac@cisco.com</vt:lpwstr>
  </property>
  <property fmtid="{D5CDD505-2E9C-101B-9397-08002B2CF9AE}" pid="4" name="_AuthorEmailDisplayName">
    <vt:lpwstr>Andreas Eisenacher (aeisenac)</vt:lpwstr>
  </property>
  <property fmtid="{D5CDD505-2E9C-101B-9397-08002B2CF9AE}" pid="5" name="_EmailSubject">
    <vt:lpwstr>RE: When is your Cleaned up Presentation Ready?</vt:lpwstr>
  </property>
  <property fmtid="{D5CDD505-2E9C-101B-9397-08002B2CF9AE}" pid="6" name="_NewReviewCycle">
    <vt:lpwstr/>
  </property>
  <property fmtid="{D5CDD505-2E9C-101B-9397-08002B2CF9AE}" pid="7" name="_PreviousAdHocReviewCycleID">
    <vt:r8>781299532</vt:r8>
  </property>
  <property fmtid="{D5CDD505-2E9C-101B-9397-08002B2CF9AE}" pid="8" name="_ReviewingToolsShownOnce">
    <vt:lpwstr/>
  </property>
</Properties>
</file>