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4E7D-7449-4336-B25A-151591D3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s 1 h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9D0-DED6-4D93-B326-BBBCF40E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1B2-296F-4A76-AEDA-0409DC84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858-75E6-40E2-8DA7-FB03DFFE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6D3-F3B8-4AE6-A75C-928272DF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7EE2-47C5-4036-8C7C-F202D3CE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BD93-F35B-445F-A614-139A847F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954E-0BC3-4E7F-BF20-D02E0FBC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CF8C-32A0-4DA5-83F7-A8AA34DD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B0B3-D843-41E7-9EF0-B5E26C2E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1FE3-E8D7-4400-AF59-7F8AAA4E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28A6-8813-434F-B2D0-D9A8A932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806-6E03-490E-80CE-2454A0EE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02BB-6A64-4C19-BD71-AC7F2DA4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3915-E6BF-4A49-96DE-2D9EC40C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023D-53B3-41DA-AA5C-016CDEEA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FCE7-0847-4983-B799-3E68545C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D001-54A6-43A9-96FD-0E02EA9C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513-AC2B-4A2A-B5F1-C746E8DB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FC8-8E6F-4C14-B1DC-1F0BD407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107-1492-41FE-8926-E7821D2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A62-BB3E-4571-8054-FB1EA3A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C12-E117-441D-A0BE-0D6AF9A1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812-673A-4BEC-95AE-362B82B1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452-40C2-4A50-B627-1ABB9EC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1A99-CA1E-4445-A5FB-EAE3089BB9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C87D-1FFC-47F2-9507-B9F144741D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ac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72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netration and Auditing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529440" y="518148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nan G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psh@rubic.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l Con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module has RW access to the contex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l implementation uses X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r can use the entities or directly access via generic XPath que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l Con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2209680"/>
            <a:ext cx="1625760" cy="2887920"/>
          </a:xfrm>
          <a:custGeom>
            <a:avLst/>
            <a:gdLst>
              <a:gd name="textAreaLeft" fmla="*/ 79200 w 1625760"/>
              <a:gd name="textAreaRight" fmla="*/ 1546560 w 1625760"/>
              <a:gd name="textAreaTop" fmla="*/ 79200 h 2887920"/>
              <a:gd name="textAreaBottom" fmla="*/ 2808720 h 2887920"/>
            </a:gdLst>
            <a:ahLst/>
            <a:rect l="textAreaLeft" t="textAreaTop" r="textAreaRight" b="textAreaBottom"/>
            <a:pathLst>
              <a:path w="21600" h="38365">
                <a:moveTo>
                  <a:pt x="3600" y="0"/>
                </a:moveTo>
                <a:arcTo wR="3600" hR="3600" stAng="16200000" swAng="-5400000"/>
                <a:lnTo>
                  <a:pt x="0" y="34765"/>
                </a:lnTo>
                <a:arcTo wR="3600" hR="3600" stAng="10800000" swAng="-5400000"/>
                <a:lnTo>
                  <a:pt x="18000" y="3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733920"/>
            <a:ext cx="1299960" cy="6080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il Addr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419720"/>
            <a:ext cx="1299960" cy="45540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1299960" cy="45540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ssion dat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44956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oogle Mails Fi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752480" y="4038120"/>
            <a:ext cx="1067040" cy="6858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320040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P3 Brute force  Att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572000" y="3657600"/>
            <a:ext cx="990720" cy="3808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200400"/>
            <a:ext cx="990720" cy="3808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81952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MTP VRFY Dictionary Att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828800" y="3200400"/>
            <a:ext cx="990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505320"/>
            <a:ext cx="990720" cy="3808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1676520"/>
            <a:ext cx="121932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600000">
            <a:off x="6629400" y="274284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module is a DLL compiled in 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mework loads modules using refle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ules are multith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module runs on an different Application 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: Refle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eveloper may creates its own plugin in any language that generates .NET assemb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 known langu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#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B.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++.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o well kn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ronPyth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modules inherits fro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acon.Plug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bstract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lass provides two method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(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p(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ule has facilities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ss the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 debug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 module source code in C#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362320"/>
            <a:ext cx="861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Plugin("Test", "plugin for testing purposes")]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 class TestPlugin : Bacon.Plu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Command("listdump", "command to test something"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Command(“listusers", "command to test something"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ules has commands defined on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mmand has different parame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59000" y="3276720"/>
            <a:ext cx="749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Command("hack", "hacks something"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HackCommand : Bacon.Com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 override void Execu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495680" y="3886200"/>
            <a:ext cx="3429000" cy="28195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2755400">
            <a:off x="3276360" y="2362320"/>
            <a:ext cx="2133360" cy="914400"/>
          </a:xfrm>
          <a:custGeom>
            <a:avLst/>
            <a:gdLst>
              <a:gd name="textAreaLeft" fmla="*/ 390960 w 2133360"/>
              <a:gd name="textAreaRight" fmla="*/ 1457280 w 213336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23" hR="21600" stAng="10800000" swAng="-5400000"/>
                <a:lnTo>
                  <a:pt x="10793" y="21600"/>
                </a:lnTo>
                <a:arcTo wR="7923" hR="21600" stAng="5400000" swAng="-2636524"/>
                <a:lnTo>
                  <a:pt x="21082" y="7683"/>
                </a:lnTo>
                <a:lnTo>
                  <a:pt x="17280" y="0"/>
                </a:lnTo>
                <a:lnTo>
                  <a:pt x="12442" y="7683"/>
                </a:lnTo>
                <a:lnTo>
                  <a:pt x="15327" y="7683"/>
                </a:lnTo>
                <a:arcTo wR="7923" hR="21600" stAng="2763476" swAng="2404647"/>
                <a:lnTo>
                  <a:pt x="9358" y="21243"/>
                </a:lnTo>
                <a:arcTo wR="7923" hR="21600" stAng="5631876" swAng="5168124"/>
                <a:close/>
              </a:path>
              <a:path fill="darkenLess" w="21600" h="21600">
                <a:moveTo>
                  <a:pt x="0" y="0"/>
                </a:moveTo>
                <a:arcTo wR="7923" hR="21600" stAng="10800000" swAng="-5400000"/>
                <a:lnTo>
                  <a:pt x="10793" y="21600"/>
                </a:lnTo>
                <a:arcTo wR="7923" hR="21600" stAng="5400000" swAng="231876"/>
                <a:lnTo>
                  <a:pt x="9358" y="21243"/>
                </a:lnTo>
                <a:arcTo wR="7923" hR="21600" stAng="5631876" swAng="5168124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loader 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43000" y="2743200"/>
            <a:ext cx="2057400" cy="1371600"/>
            <a:chOff x="1143000" y="2743200"/>
            <a:chExt cx="2057400" cy="1371600"/>
          </a:xfrm>
        </p:grpSpPr>
        <p:sp>
          <p:nvSpPr>
            <p:cNvPr id="166" name=""/>
            <p:cNvSpPr/>
            <p:nvPr/>
          </p:nvSpPr>
          <p:spPr>
            <a:xfrm>
              <a:off x="1143000" y="2743200"/>
              <a:ext cx="2057400" cy="137160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stPlugin :  Bacon.Plug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1600" y="3352680"/>
              <a:ext cx="1600200" cy="5731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MSI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Assembl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572000" y="4114800"/>
            <a:ext cx="1523880" cy="1066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lugi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a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114800"/>
            <a:ext cx="1524240" cy="1066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lugins Man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615400">
            <a:off x="2133720" y="4800240"/>
            <a:ext cx="2133360" cy="914400"/>
          </a:xfrm>
          <a:custGeom>
            <a:avLst/>
            <a:gdLst>
              <a:gd name="textAreaLeft" fmla="*/ 390960 w 2133360"/>
              <a:gd name="textAreaRight" fmla="*/ 1457280 w 213336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23" hR="21600" stAng="10800000" swAng="-5400000"/>
                <a:lnTo>
                  <a:pt x="10793" y="21600"/>
                </a:lnTo>
                <a:arcTo wR="7923" hR="21600" stAng="5400000" swAng="-2636524"/>
                <a:lnTo>
                  <a:pt x="21082" y="7683"/>
                </a:lnTo>
                <a:lnTo>
                  <a:pt x="17280" y="0"/>
                </a:lnTo>
                <a:lnTo>
                  <a:pt x="12442" y="7683"/>
                </a:lnTo>
                <a:lnTo>
                  <a:pt x="15327" y="7683"/>
                </a:lnTo>
                <a:arcTo wR="7923" hR="21600" stAng="2763476" swAng="2404647"/>
                <a:lnTo>
                  <a:pt x="9358" y="21243"/>
                </a:lnTo>
                <a:arcTo wR="7923" hR="21600" stAng="5631876" swAng="5168124"/>
                <a:close/>
              </a:path>
              <a:path fill="darkenLess" w="21600" h="21600">
                <a:moveTo>
                  <a:pt x="0" y="0"/>
                </a:moveTo>
                <a:arcTo wR="7923" hR="21600" stAng="10800000" swAng="-5400000"/>
                <a:lnTo>
                  <a:pt x="10793" y="21600"/>
                </a:lnTo>
                <a:arcTo wR="7923" hR="21600" stAng="5400000" swAng="231876"/>
                <a:lnTo>
                  <a:pt x="9358" y="21243"/>
                </a:lnTo>
                <a:arcTo wR="7923" hR="21600" stAng="5631876" swAng="5168124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0.39166 0.36667 E">
                                      <p:cBhvr>
                                        <p:cTn id="4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14400" y="1828800"/>
            <a:ext cx="6553080" cy="3695760"/>
            <a:chOff x="914400" y="1828800"/>
            <a:chExt cx="6553080" cy="3695760"/>
          </a:xfrm>
        </p:grpSpPr>
        <p:sp>
          <p:nvSpPr>
            <p:cNvPr id="173" name=""/>
            <p:cNvSpPr/>
            <p:nvPr/>
          </p:nvSpPr>
          <p:spPr>
            <a:xfrm>
              <a:off x="914400" y="1828800"/>
              <a:ext cx="6553080" cy="3695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8640" y="2332800"/>
              <a:ext cx="1343520" cy="50400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C#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70640" y="2332800"/>
              <a:ext cx="1343160" cy="50508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V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82280" y="2332800"/>
              <a:ext cx="1344600" cy="50400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IronPyth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58640" y="3004920"/>
              <a:ext cx="4368240" cy="672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MSIL Compilers (msc, monoc, et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8640" y="4516200"/>
              <a:ext cx="4365720" cy="5040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Common Language Runti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58640" y="3845160"/>
              <a:ext cx="4366800" cy="5040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Bac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mon problem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ot of independent tools uses same 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tools are developed in c/c++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ls run in certain plat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ls need to be modif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657600" y="3276720"/>
            <a:ext cx="1066680" cy="25905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590560"/>
              <a:gd name="textAreaBottom" fmla="*/ 2538720 h 2590560"/>
            </a:gdLst>
            <a:ahLst/>
            <a:rect l="textAreaLeft" t="textAreaTop" r="textAreaRight" b="textAreaBottom"/>
            <a:pathLst>
              <a:path w="21600" h="52448">
                <a:moveTo>
                  <a:pt x="3600" y="0"/>
                </a:moveTo>
                <a:arcTo wR="3600" hR="3600" stAng="16200000" swAng="-5400000"/>
                <a:lnTo>
                  <a:pt x="0" y="48848"/>
                </a:lnTo>
                <a:arcTo wR="3600" hR="3600" stAng="10800000" swAng="-5400000"/>
                <a:lnTo>
                  <a:pt x="18000" y="524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ules: Module chai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2133720"/>
            <a:ext cx="1028520" cy="801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twork Scan ICM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3429000"/>
            <a:ext cx="914400" cy="3445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r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133720"/>
            <a:ext cx="573120" cy="457200"/>
          </a:xfrm>
          <a:custGeom>
            <a:avLst/>
            <a:gdLst>
              <a:gd name="textAreaLeft" fmla="*/ 0 w 573120"/>
              <a:gd name="textAreaRight" fmla="*/ 573480 w 573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995" y="12900"/>
                </a:moveTo>
                <a:arcTo wR="-5244" hR="-5244" stAng="9383813" swAng="-7682658"/>
                <a:lnTo>
                  <a:pt x="1296" y="5671"/>
                </a:lnTo>
                <a:arcTo wR="10800" hR="10800" stAng="-9098845" swAng="7682658"/>
                <a:lnTo>
                  <a:pt x="23171" y="5395"/>
                </a:lnTo>
                <a:lnTo>
                  <a:pt x="20344" y="12608"/>
                </a:lnTo>
                <a:lnTo>
                  <a:pt x="13131" y="97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133720"/>
            <a:ext cx="1028520" cy="801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CP port scanner [connect()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3886200"/>
            <a:ext cx="914400" cy="3445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133720"/>
            <a:ext cx="573120" cy="457200"/>
          </a:xfrm>
          <a:custGeom>
            <a:avLst/>
            <a:gdLst>
              <a:gd name="textAreaLeft" fmla="*/ 0 w 573120"/>
              <a:gd name="textAreaRight" fmla="*/ 573480 w 573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995" y="12900"/>
                </a:moveTo>
                <a:arcTo wR="-5244" hR="-5244" stAng="9383813" swAng="-7682658"/>
                <a:lnTo>
                  <a:pt x="1296" y="5671"/>
                </a:lnTo>
                <a:arcTo wR="10800" hR="10800" stAng="-9098845" swAng="7682658"/>
                <a:lnTo>
                  <a:pt x="23171" y="5395"/>
                </a:lnTo>
                <a:lnTo>
                  <a:pt x="20344" y="12608"/>
                </a:lnTo>
                <a:lnTo>
                  <a:pt x="13131" y="97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2133720"/>
            <a:ext cx="1028520" cy="801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b directory fi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133720"/>
            <a:ext cx="573120" cy="457200"/>
          </a:xfrm>
          <a:custGeom>
            <a:avLst/>
            <a:gdLst>
              <a:gd name="textAreaLeft" fmla="*/ 0 w 573120"/>
              <a:gd name="textAreaRight" fmla="*/ 573480 w 573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995" y="12900"/>
                </a:moveTo>
                <a:arcTo wR="-5244" hR="-5244" stAng="9383813" swAng="-7682658"/>
                <a:lnTo>
                  <a:pt x="1296" y="5671"/>
                </a:lnTo>
                <a:arcTo wR="10800" hR="10800" stAng="-9098845" swAng="7682658"/>
                <a:lnTo>
                  <a:pt x="23171" y="5395"/>
                </a:lnTo>
                <a:lnTo>
                  <a:pt x="20344" y="12608"/>
                </a:lnTo>
                <a:lnTo>
                  <a:pt x="13131" y="97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19840" y="2133720"/>
            <a:ext cx="1028880" cy="801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b file fi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4040" y="2133720"/>
            <a:ext cx="573120" cy="457200"/>
          </a:xfrm>
          <a:custGeom>
            <a:avLst/>
            <a:gdLst>
              <a:gd name="textAreaLeft" fmla="*/ 0 w 573120"/>
              <a:gd name="textAreaRight" fmla="*/ 573480 w 573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995" y="12900"/>
                </a:moveTo>
                <a:arcTo wR="-5244" hR="-5244" stAng="9383813" swAng="-7682658"/>
                <a:lnTo>
                  <a:pt x="1296" y="5671"/>
                </a:lnTo>
                <a:arcTo wR="10800" hR="10800" stAng="-9098845" swAng="7682658"/>
                <a:lnTo>
                  <a:pt x="23171" y="5395"/>
                </a:lnTo>
                <a:lnTo>
                  <a:pt x="20344" y="12608"/>
                </a:lnTo>
                <a:lnTo>
                  <a:pt x="13131" y="97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343400"/>
            <a:ext cx="914400" cy="3445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4800600"/>
            <a:ext cx="914400" cy="3445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5334120"/>
            <a:ext cx="914400" cy="3445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36232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pu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92.168.0.0/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9718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2971800"/>
            <a:ext cx="152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800600" y="2971800"/>
            <a:ext cx="9907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809880" y="29718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76920" y="3048120"/>
            <a:ext cx="53316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876920" y="2971440"/>
            <a:ext cx="213336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723920" y="3124080"/>
            <a:ext cx="259092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4038480"/>
            <a:ext cx="1028880" cy="801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port 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009920" y="495288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5486400"/>
            <a:ext cx="609480" cy="533520"/>
          </a:xfrm>
          <a:prstGeom prst="flowChartMagneticDisk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952880" y="3352680"/>
            <a:ext cx="381240" cy="1676520"/>
            <a:chOff x="4952880" y="3352680"/>
            <a:chExt cx="381240" cy="1676520"/>
          </a:xfrm>
        </p:grpSpPr>
        <p:sp>
          <p:nvSpPr>
            <p:cNvPr id="207" name=""/>
            <p:cNvSpPr/>
            <p:nvPr/>
          </p:nvSpPr>
          <p:spPr>
            <a:xfrm>
              <a:off x="4952880" y="3352680"/>
              <a:ext cx="38124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52880" y="5029200"/>
              <a:ext cx="38124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3352680"/>
              <a:ext cx="0" cy="16765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mo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mework exposes its own interface like a remote serv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useful to create distributed attac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amework Interf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d Command Line Cons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9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amework Interf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Win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module may provide its own G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371600" y="2678040"/>
            <a:ext cx="57150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amework Interf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ay create your own interface. (i.e. a web interf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ay also create a common GUI generator for each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amework Serv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xyLib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iffLib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zzLib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amework: ProxyLi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s simple prox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, Sockets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k to ev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te of De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on got sponsor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mework architecture is mostly clo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working on creating new modules and a nice G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ule creation process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source official release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 Mon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ty site releas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 Mon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create a standard framework for pentesting and auditing networks and applic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he security community uses it and develops module for the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: Bac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lexible and extendible Framework oriented to the security commun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ny Questions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End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nan G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psh@rubic.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.NET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ular Archit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 language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at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y OO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Bacon is no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utomatic penetration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k-in-a-minute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atic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a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lity to load mod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s session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entities to store specific information like: targets, ports, services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libraries for proxing, sniffing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a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on is multiplat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s wit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NET Frame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ECMA VM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9160" y="2352600"/>
            <a:ext cx="3690360" cy="2951640"/>
            <a:chOff x="2729160" y="2352600"/>
            <a:chExt cx="3690360" cy="2951640"/>
          </a:xfrm>
        </p:grpSpPr>
        <p:sp>
          <p:nvSpPr>
            <p:cNvPr id="112" name=""/>
            <p:cNvSpPr/>
            <p:nvPr/>
          </p:nvSpPr>
          <p:spPr>
            <a:xfrm>
              <a:off x="2729160" y="2943360"/>
              <a:ext cx="3100320" cy="236088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Bacon Frame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76760" y="2352600"/>
              <a:ext cx="1180440" cy="44280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Conso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52760" y="2352600"/>
              <a:ext cx="1182240" cy="43992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GU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76360" y="2943360"/>
              <a:ext cx="443160" cy="2213280"/>
            </a:xfrm>
            <a:custGeom>
              <a:avLst/>
              <a:gdLst>
                <a:gd name="textAreaLeft" fmla="*/ 21600 w 443160"/>
                <a:gd name="textAreaRight" fmla="*/ 421560 w 443160"/>
                <a:gd name="textAreaTop" fmla="*/ 21600 h 2213280"/>
                <a:gd name="textAreaBottom" fmla="*/ 2191680 h 2213280"/>
              </a:gdLst>
              <a:ahLst/>
              <a:rect l="textAreaLeft" t="textAreaTop" r="textAreaRight" b="textAreaBottom"/>
              <a:pathLst>
                <a:path w="21600" h="107807">
                  <a:moveTo>
                    <a:pt x="3600" y="0"/>
                  </a:moveTo>
                  <a:arcTo wR="3600" hR="3600" stAng="16200000" swAng="-5400000"/>
                  <a:lnTo>
                    <a:pt x="0" y="104207"/>
                  </a:lnTo>
                  <a:arcTo wR="3600" hR="3600" stAng="10800000" swAng="-5400000"/>
                  <a:lnTo>
                    <a:pt x="18000" y="107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5920" y="4419000"/>
              <a:ext cx="736200" cy="590400"/>
            </a:xfrm>
            <a:prstGeom prst="can">
              <a:avLst>
                <a:gd name="adj" fmla="val 263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410080" y="4495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962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l Con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mework provides information entities oriented to security and networ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657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191120"/>
            <a:ext cx="1523880" cy="342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rviceCol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3657600"/>
            <a:ext cx="1447920" cy="3430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rgetCol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4800600"/>
            <a:ext cx="1028520" cy="3430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581280"/>
            <a:ext cx="1028880" cy="3430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icL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191120"/>
            <a:ext cx="1028520" cy="342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00:05:46Z</dcterms:created>
  <dc:creator> </dc:creator>
  <dc:description/>
  <dc:language>en-US</dc:language>
  <cp:lastModifiedBy> </cp:lastModifiedBy>
  <dcterms:modified xsi:type="dcterms:W3CDTF">2005-10-15T12:42:42Z</dcterms:modified>
  <cp:revision>26</cp:revision>
  <dc:subject/>
  <dc:title>Bacon</dc:title>
</cp:coreProperties>
</file>