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0FD3-1816-4706-B959-EB0953E94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3E2-1164-4635-AA5A-DB664F25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B49-7B6A-46BA-B7DB-32FE8028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63960" y="16002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63960" y="37497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488-4435-4C6D-BE6F-0442E85E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42680" y="160020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9200" y="160020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42680" y="374976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9200" y="374976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242-36EC-461F-BCAA-63EB5FDC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8D9-D668-49BC-A752-E47F0D59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0C0-65EC-406A-8325-B494AF89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960" y="16002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722-0A0B-493B-B8B6-383EDAEC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B79-E096-40E2-928D-77AAFE4A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494-A941-40DB-AA3D-2D7585BB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960" y="16002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628-2370-464F-8A26-C9168F8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960" y="16002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63960" y="37497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9FC-E8B0-4ABF-B68C-82C9C893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3960" y="16002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7C8-89E4-44B6-9DF3-34B86C32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7DFF-C115-454F-837C-EC56A5E367E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894A-0B99-48F5-988E-5E6D3A1B9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5715000"/>
          <a:ext cx="914400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715000"/>
                    <a:ext cx="9144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981080" y="5791320"/>
            <a:ext cx="5181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 Helvetica Bold"/>
              </a:rPr>
              <a:t>Adam L. Jacobs, CIS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cipal Program Manager, 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 Helvetica Oblique"/>
              </a:rPr>
              <a:t>14 October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152280" y="6172200"/>
          <a:ext cx="2590920" cy="31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6172200"/>
                    <a:ext cx="25909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8001000" y="5800680"/>
          <a:ext cx="1143000" cy="105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01000" y="5800680"/>
                    <a:ext cx="1143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Commercial Software So Vulner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nd How Can We Fix It)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4808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Impro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every developer can be a security exp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develop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derstand security fundamen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racle, we have had success with a web-based, on-demand secure coding training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Impro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accoun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 makes people accounta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developers accountable for writing quality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of the consu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of Things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vulnerabilities in commercial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vendors release dozens of fixes an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dication this is impr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s of Vulner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F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F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F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 when software is planned and specified without proper consideration of security requirements and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text pass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or proprietary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F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Design Flaws happ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hed engin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ance of security requirements or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nately, software designs are improv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F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Design Flaws are found, they are fixed in future re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can be deeply ingrained, architectur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is moving in the right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Flaws are a minority of the security bugs we 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F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 when software developers make a mistake when coding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Just like other bugs, but some have serious security implication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Flaws are independent of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F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 over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over/under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F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Implementation Flaws happ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eliminate human error, but we can do more to minimiz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serious security bugs are due to these careless mista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1:30:04Z</dcterms:created>
  <dc:creator>Adam Jacobs</dc:creator>
  <dc:description/>
  <dc:language>en-US</dc:language>
  <cp:lastModifiedBy>user</cp:lastModifiedBy>
  <dcterms:modified xsi:type="dcterms:W3CDTF">2005-10-08T22:32:39Z</dcterms:modified>
  <cp:revision>28</cp:revision>
  <dc:subject/>
  <dc:title>Why is Commercial Software So Vulnerable (and How Can We Fix It)?</dc:title>
</cp:coreProperties>
</file>